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jpeg" ContentType="image/jpeg"/>
  <Override PartName="/ppt/media/image3.png" ContentType="image/pn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4AF-3D91-4151-A892-82DD1ABD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04784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90E-DD4A-4D06-95DC-A0BCCC58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C81-2431-48A7-BA69-659F7365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04784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04784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04784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2F40-DD75-421C-96E2-9CB6AD78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61F7-D6CD-4185-B087-24CC8520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8631-2045-425F-962C-3E90667A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D873-E9DB-4E93-95F8-01DFB3D0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C3B5-967D-43D2-9851-BFF7245B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7EE1-3F09-4594-8279-D9C30A97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1C08-B80D-4241-9E5F-CB7FF7B1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EDBE-E857-4D30-8AF0-3C8B690D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09F-DDE7-4EEC-A284-B9D5D47F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936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D61E-27C8-4E2A-99DA-96C3E806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680" y="404784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5E44-693E-4666-B0A5-002B1DFF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6680" y="404784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88DB-3C1A-40AE-A68A-2C8D4E4E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936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AE96-4CE4-49D4-8DB5-37468FF8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6680" y="404784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4680" y="404784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2320" y="404784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0B34-039C-4522-A523-5A652216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986-2FBB-49B2-8727-BFC54085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DB0F-E6CA-47FB-9F35-6E70E21E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68E-7297-4D78-B4FB-B358C1D1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249C-E66B-4984-9952-41015EB8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1474-F97B-4E4B-BFFC-40F296FC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1B2-6294-47B4-8638-86A95394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04784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490-86AA-4953-A10E-34E1E698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e8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e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A09B-DA70-454F-8CAF-6292404976AF}" type="datetime">
              <a:rPr b="0" lang="fr-FR" sz="1400" spc="-1" strike="noStrike">
                <a:solidFill>
                  <a:srgbClr val="009e8c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9000" y="641340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9e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&lt;footer&gt;</a:t>
            </a: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www.khepri.biz   Le Changement harmo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9e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406F-336E-45A3-997B-85EDD0B0FF39}" type="slidenum">
              <a:rPr b="0" lang="fr-FR" sz="2400" spc="-1" strike="noStrike">
                <a:solidFill>
                  <a:srgbClr val="009e8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3" marL="1712880" indent="-228600">
              <a:spcBef>
                <a:spcPts val="799"/>
              </a:spcBef>
              <a:buClr>
                <a:srgbClr val="1f408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e8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e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0548-9521-4B40-8EF8-037CCF61D3F7}" type="datetime">
              <a:rPr b="0" lang="fr-FR" sz="1400" spc="-1" strike="noStrike">
                <a:solidFill>
                  <a:srgbClr val="009e8c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429000" y="640080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9e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&lt;footer&gt;</a:t>
            </a: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www.khepri.biz  Le Changement harmo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2296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9e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973D-86CA-4CD5-B0F3-73637807F664}" type="slidenum">
              <a:rPr b="0" lang="fr-FR" sz="2400" spc="-1" strike="noStrike">
                <a:solidFill>
                  <a:srgbClr val="009e8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081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081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1f4081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08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08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08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08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e8c"/>
                </a:solidFill>
                <a:latin typeface="Arial"/>
              </a:rPr>
              <a:t>SOCIÉTÉ KHEPRI</a:t>
            </a:r>
            <a:r>
              <a:rPr b="1" lang="fr-FR" sz="4000" spc="-1" strike="noStrike" baseline="30000">
                <a:solidFill>
                  <a:srgbClr val="009e8c"/>
                </a:solidFill>
                <a:latin typeface="Times New Roman"/>
              </a:rPr>
              <a:t>®</a:t>
            </a:r>
            <a:endParaRPr b="0" lang="en-US" sz="40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00200" y="2362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Le Changement Harmonique</a:t>
            </a:r>
            <a:r>
              <a:rPr b="1" lang="fr-FR" sz="3200" spc="-1" strike="noStrike" baseline="30000">
                <a:solidFill>
                  <a:srgbClr val="1f4081"/>
                </a:solidFill>
                <a:latin typeface="Times New Roman"/>
              </a:rPr>
              <a:t>®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657600"/>
            <a:ext cx="7543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Diagnostic et solutions en Relations Humain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e8c"/>
                </a:solidFill>
                <a:latin typeface="Arial"/>
              </a:rPr>
              <a:t>Société spécialisée en accompagnement du changement des individus et des équipes dans une démarche systémiqu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54AD-DBB6-4469-8C5F-1C9EC9AFD16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7932675-7881-49E3-BE25-0E30A0BB64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Domaines d’interventions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Cohésion d’équip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Performance personnell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Conduite du changement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Communication dans l’entrepris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Organisation et système de management</a:t>
            </a:r>
            <a:br>
              <a:rPr sz="2400"/>
            </a:b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de la qualité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Nouvelle orientation stratégiqu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Coaching de dirigeant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Accompagnement de projet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Accompagnement de force de vent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Mise en œuvre plan de formatio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Gestion prévisionnelle des emplois et des compétence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1C9-FE0F-4532-A9F8-85B4E206987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2084B-8B5E-4FAD-8F8F-82D963BF0E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e8c"/>
                </a:solidFill>
                <a:latin typeface="Arial"/>
              </a:rPr>
              <a:t>Processus de transformation et d’évolution pour créer de la valeur, anticiper les changements et y faire face sur le plan économique et social</a:t>
            </a:r>
            <a:endParaRPr b="0" lang="en-US" sz="18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4111560"/>
            <a:ext cx="5638680" cy="257400"/>
          </a:xfrm>
          <a:prstGeom prst="rightArrow">
            <a:avLst>
              <a:gd name="adj1" fmla="val 44167"/>
              <a:gd name="adj2" fmla="val 351008"/>
            </a:avLst>
          </a:prstGeom>
          <a:solidFill>
            <a:srgbClr val="fac164"/>
          </a:solidFill>
          <a:ln w="9360">
            <a:solidFill>
              <a:srgbClr val="fac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057400" y="3863880"/>
            <a:ext cx="5562720" cy="276480"/>
          </a:xfrm>
          <a:prstGeom prst="rightArrow">
            <a:avLst>
              <a:gd name="adj1" fmla="val 32648"/>
              <a:gd name="adj2" fmla="val 305150"/>
            </a:avLst>
          </a:prstGeom>
          <a:solidFill>
            <a:srgbClr val="009e8c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1930320"/>
            <a:ext cx="1600200" cy="1905120"/>
          </a:xfrm>
          <a:prstGeom prst="ellipse">
            <a:avLst/>
          </a:prstGeom>
          <a:solidFill>
            <a:srgbClr val="d0fcd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Parcour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4673520"/>
            <a:ext cx="1447920" cy="1767240"/>
          </a:xfrm>
          <a:prstGeom prst="rect">
            <a:avLst/>
          </a:prstGeom>
          <a:solidFill>
            <a:srgbClr val="d0fcd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e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9e8c"/>
                </a:solidFill>
                <a:latin typeface="Arial"/>
              </a:rPr>
              <a:t>Impac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9e8c"/>
                </a:solidFill>
                <a:latin typeface="Arial"/>
              </a:rPr>
              <a:t>immédia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9e8c"/>
                </a:solidFill>
                <a:latin typeface="Arial"/>
              </a:rPr>
              <a:t>émergence de la vision et des valeurs avec effets moyen et long terme sur la cultur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9e8c"/>
                </a:solidFill>
                <a:latin typeface="Arial"/>
              </a:rPr>
              <a:t>d’entrepris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4676760"/>
            <a:ext cx="1523880" cy="1585800"/>
          </a:xfrm>
          <a:prstGeom prst="rect">
            <a:avLst/>
          </a:prstGeom>
          <a:solidFill>
            <a:srgbClr val="fbffa8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e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Retour sur investissement de la formation par l’intégration grâce aux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télé-formation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4673520"/>
            <a:ext cx="1523880" cy="1159560"/>
          </a:xfrm>
          <a:prstGeom prst="rect">
            <a:avLst/>
          </a:prstGeom>
          <a:solidFill>
            <a:srgbClr val="d3d6f9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e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Pérennité, viabilité et flexibilité face aux changement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673520"/>
            <a:ext cx="1600200" cy="1585800"/>
          </a:xfrm>
          <a:prstGeom prst="rect">
            <a:avLst/>
          </a:prstGeom>
          <a:solidFill>
            <a:srgbClr val="b4f2f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e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Amélioration continue des processus et valorisation des compétences individuelles et collective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1930320"/>
            <a:ext cx="1600200" cy="1905120"/>
          </a:xfrm>
          <a:prstGeom prst="ellipse">
            <a:avLst/>
          </a:prstGeom>
          <a:solidFill>
            <a:srgbClr val="fbffa8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Plu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1930320"/>
            <a:ext cx="1600200" cy="1905120"/>
          </a:xfrm>
          <a:prstGeom prst="ellipse">
            <a:avLst/>
          </a:prstGeom>
          <a:solidFill>
            <a:srgbClr val="d3d6f9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en mod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proje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1930320"/>
            <a:ext cx="1600200" cy="1905120"/>
          </a:xfrm>
          <a:prstGeom prst="ellipse">
            <a:avLst/>
          </a:prstGeom>
          <a:solidFill>
            <a:srgbClr val="b4f2f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par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la qualité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006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Résultats interne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391176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SALARIE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72400" y="391176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CLIENT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72400" y="2724120"/>
            <a:ext cx="1219320" cy="778680"/>
          </a:xfrm>
          <a:prstGeom prst="rect">
            <a:avLst/>
          </a:prstGeom>
          <a:solidFill>
            <a:srgbClr val="fac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9e8c"/>
                </a:solidFill>
                <a:latin typeface="Arial"/>
              </a:rPr>
              <a:t>Croissance de l’entreprise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2727360"/>
            <a:ext cx="1218960" cy="778680"/>
          </a:xfrm>
          <a:prstGeom prst="rect">
            <a:avLst/>
          </a:prstGeom>
          <a:solidFill>
            <a:srgbClr val="009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bffa8"/>
                </a:solidFill>
                <a:latin typeface="Arial"/>
              </a:rPr>
              <a:t>Implication des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bffa8"/>
                </a:solidFill>
                <a:latin typeface="Arial"/>
              </a:rPr>
              <a:t>équipes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29264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Reconnaissanc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Motivatio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Intelligence collectiv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4292640"/>
            <a:ext cx="1600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Satisfactio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Fidélisatio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Image sur le marché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914400"/>
            <a:ext cx="1447920" cy="946440"/>
          </a:xfrm>
          <a:prstGeom prst="rect">
            <a:avLst/>
          </a:prstGeom>
          <a:solidFill>
            <a:srgbClr val="f3d7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Champs d’intervention technique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de Khépri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38280" y="501480"/>
            <a:ext cx="6324840" cy="2165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705720" y="2209680"/>
            <a:ext cx="152280" cy="152640"/>
          </a:xfrm>
          <a:prstGeom prst="smileyFace">
            <a:avLst>
              <a:gd name="adj" fmla="val 9282"/>
            </a:avLst>
          </a:prstGeom>
          <a:solidFill>
            <a:srgbClr val="ffea18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2286000"/>
            <a:ext cx="152640" cy="152280"/>
          </a:xfrm>
          <a:prstGeom prst="smileyFace">
            <a:avLst>
              <a:gd name="adj" fmla="val 9282"/>
            </a:avLst>
          </a:prstGeom>
          <a:solidFill>
            <a:srgbClr val="ffea18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2209680"/>
            <a:ext cx="152640" cy="152640"/>
          </a:xfrm>
          <a:prstGeom prst="smileyFace">
            <a:avLst>
              <a:gd name="adj" fmla="val 9282"/>
            </a:avLst>
          </a:prstGeom>
          <a:solidFill>
            <a:srgbClr val="ffea18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1905120"/>
            <a:ext cx="152640" cy="152280"/>
          </a:xfrm>
          <a:prstGeom prst="smileyFace">
            <a:avLst>
              <a:gd name="adj" fmla="val 9282"/>
            </a:avLst>
          </a:prstGeom>
          <a:solidFill>
            <a:srgbClr val="ffea18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914400"/>
            <a:ext cx="1600200" cy="946440"/>
          </a:xfrm>
          <a:prstGeom prst="rect">
            <a:avLst/>
          </a:prstGeom>
          <a:solidFill>
            <a:srgbClr val="d0fcd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Cohésion d’équipes et communication intern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914400"/>
            <a:ext cx="1447920" cy="946440"/>
          </a:xfrm>
          <a:prstGeom prst="rect">
            <a:avLst/>
          </a:prstGeom>
          <a:solidFill>
            <a:srgbClr val="fbffa8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Formation et maintient des valeurs de l’entrepris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914400"/>
            <a:ext cx="1447920" cy="946440"/>
          </a:xfrm>
          <a:prstGeom prst="rect">
            <a:avLst/>
          </a:prstGeom>
          <a:solidFill>
            <a:srgbClr val="d3d6f9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Démarrage, poursuite et aboutissement d’un proj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914400"/>
            <a:ext cx="1447560" cy="946440"/>
          </a:xfrm>
          <a:prstGeom prst="rect">
            <a:avLst/>
          </a:prstGeom>
          <a:solidFill>
            <a:srgbClr val="b4f2f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La performance face à la concurrenc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77320" y="12952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836e"/>
                </a:solidFill>
                <a:latin typeface="Arial"/>
              </a:rPr>
              <a:t>Valeur ajouté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2400" y="198108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Résultats externe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5715000"/>
            <a:ext cx="1447920" cy="733320"/>
          </a:xfrm>
          <a:prstGeom prst="rect">
            <a:avLst/>
          </a:prstGeom>
          <a:solidFill>
            <a:srgbClr val="fac16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Avantages pour nos client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A57A-1A4F-451F-B777-7B68C634ADD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639483A-FBCA-461C-ADEA-1863337303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Nos produits phares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Manager Plus </a:t>
            </a:r>
            <a:r>
              <a:rPr b="1" lang="fr-FR" sz="1200" spc="-1" strike="noStrike">
                <a:solidFill>
                  <a:srgbClr val="1f4081"/>
                </a:solidFill>
                <a:latin typeface="Arial"/>
              </a:rPr>
              <a:t>TM</a:t>
            </a: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Parcours </a:t>
            </a:r>
            <a:r>
              <a:rPr b="1" lang="fr-FR" sz="1200" spc="-1" strike="noStrike">
                <a:solidFill>
                  <a:srgbClr val="1f4081"/>
                </a:solidFill>
                <a:latin typeface="Arial"/>
              </a:rPr>
              <a:t>TM</a:t>
            </a: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Management des équipes en mode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projet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Management par la qualité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7D3-348C-42E0-9B2E-F0782CF0628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22F73-6F16-40CA-8FC7-62B0DF2D82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Manager Plus”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479600"/>
            <a:ext cx="77724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Un perfectionnement au management avec l’appui de méthodes de coaching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Cibl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Un programme de formation pour responsables encadrants, managers, directeurs de réseaux, dirigeants souhaitant :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Trouver leur style de leadership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Intégrer des outils et un questionnement utilisés par des coachs professionnel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Inspirer l’auto-motivation de leurs collaborateur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Renforcer l’organisation en valorisant la performance de chacu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Transformer le capital social en avantage concurrentie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176C-C29F-4D0E-81C4-EDA7007619F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46509-26F6-4C50-BDBC-B8D5DE51DD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r Plus”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Objectifs de la formation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6 mois d’accompagnement personnalisé pour :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Augmenter la crédibilité des hiérarchiques et pérenniser leur dynamique managériale,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Affirmer leur leadership en développant les synergies et la cohésion de leur équipe,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Motiver leurs collaborateurs autour de projets concrets ambitieux et réalistes,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Élever les performances de leur équipe en suscitant plaisir à travailler et désir de réussir, 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Prévenir et résoudre durablement les conflits,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Maîtriser les techniques de pilotage afin d’optimiser l’efficacité et la fiabilité individuelle et collective, 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Renforcer confiance, estime et affirmation de soi.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A6A4-1153-40CB-AD99-DE0D1CE5228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C96B6-209C-4A29-B79A-3BF971D8B2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r Plus”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Valeur ajoutée pour l’entrepris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Assurer la rentabilité de vos investissements en formatio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Plus de productivité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Baisse du turn over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Augmentation du CA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Les sociétés qui ont déjà fait confiance à ce programme de formation :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Groupe CIC, Banques populaires, Crédit Mutuel, Groupe Mulliez, la Mondiale, France 5, GDF, DHL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8BC-6899-4758-9477-16523D8AF53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8D61C-8012-4316-9B7C-5D1A50A0F5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r Plus”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Organisation de la formation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Programme de formation d’une durée de 6 mois comprenant :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42440" indent="-22392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3 séminaires résidentiels de 3 jour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42440" indent="-22392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8 séances de téléformation entre chaque séminaire, d’une heure par semaine 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42440" indent="-22392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8 séances, d’1 heure de supervision par quinzain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42440" indent="-22392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24 séances de coaching assurées par les masters du réseau (optionnelles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42440" indent="-22392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Taille des groupes : de 15 à 40 personnes, et ateliers expérentiels en petites équip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0F0A-6650-421A-B349-6973BDEB551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BB892-BD65-4304-95C0-2492919695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r Plus”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Stratégi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Concept intégration” :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Pas de formation sans téléformation !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Formation en salle</a:t>
            </a: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 (résidentiel)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Alternance d’apports théoriques, de démonstrations et d’exercices pratiques sous forme d’ateliers favorisant l’intégration par l’action, chaque atelier faisant l’objet de supervision et de débriefing.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Téléformatio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La téléformation complète l’apport théorique pour intégrer tous les aspects du métier de manager.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4C6-59D5-4993-A74D-8A4690A010E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CC3B2-3F32-4C1A-B5CB-B5CD45E2DB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r Plus”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Supervision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Focalisation sur la mise en application sur le terrain du contenu de la formation. Mise en commun d’expériences, partage et recadrage.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Coaching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Permet de travailler sur son évolution personnelle : sa qualité relationnelle, son style de leadership, ses responsabilités, la cohérence de ses actions et prises de décisions, son efficacité, sa disponibilité.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7F1-F82B-4951-821C-6E84AEC3D82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5960A-8979-4831-9662-007ACA42AA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Parcours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Un regard nouveau</a:t>
            </a: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sur l’ingénierie</a:t>
            </a:r>
            <a:br>
              <a:rPr sz="2800"/>
            </a:b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d’évènements pédagogiques pour accompagner le changement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i="1" lang="fr-FR" sz="2800" spc="-1" strike="noStrike">
                <a:solidFill>
                  <a:srgbClr val="009e8c"/>
                </a:solidFill>
                <a:latin typeface="Arial"/>
              </a:rPr>
              <a:t>On me dit, j’oublie. </a:t>
            </a:r>
            <a:br>
              <a:rPr sz="2800"/>
            </a:br>
            <a:r>
              <a:rPr b="1" i="1" lang="fr-FR" sz="2800" spc="-1" strike="noStrike">
                <a:solidFill>
                  <a:srgbClr val="009e8c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009e8c"/>
                </a:solidFill>
                <a:latin typeface="Arial"/>
              </a:rPr>
              <a:t>On me montre, je me souviens. </a:t>
            </a:r>
            <a:br>
              <a:rPr sz="2800"/>
            </a:br>
            <a:r>
              <a:rPr b="1" i="1" lang="fr-FR" sz="2800" spc="-1" strike="noStrike">
                <a:solidFill>
                  <a:srgbClr val="009e8c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009e8c"/>
                </a:solidFill>
                <a:latin typeface="Arial"/>
              </a:rPr>
              <a:t>On m’implique, j’apprends…”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Une</a:t>
            </a:r>
            <a:r>
              <a:rPr b="1" i="1" lang="fr-FR" sz="28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démarche systémique au cœur de l’entreprise en prise directe avec ses réalités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E0C-36BB-441F-89B4-60DA1DE1610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18226-6DEA-42C7-ABFF-D4B54262AB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Le Changement Harmonique</a:t>
            </a:r>
            <a:r>
              <a:rPr b="1" lang="fr-FR" sz="3600" spc="-1" strike="noStrike" baseline="30000">
                <a:solidFill>
                  <a:srgbClr val="009e8c"/>
                </a:solidFill>
                <a:latin typeface="Times New Roman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259092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Surfer sur la vague du changement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Le changement comme vecteur de performanc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Vous avez la partition, nous vous aidons à la mettre en musique et à trouver les instrument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de votre performance</a:t>
            </a:r>
            <a:r>
              <a:rPr b="0" lang="fr-FR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C451-C9A7-46AB-9811-E9EB47524F5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2BA1BA2-C1D7-4EA3-B113-1393F0763F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Parcours, pour quelles raisons ?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Champs d’applicatio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Conventions, forums, séminaires, kick-off,</a:t>
            </a:r>
            <a:br>
              <a:rPr sz="2000"/>
            </a:b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lancement de projets stratégiques…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Objectif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Faire gagner du temps, de l’énergie et du mieux-être à l’entreprise dans les périodes charnières :</a:t>
            </a:r>
            <a:br>
              <a:rPr sz="2000"/>
            </a:b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Parcours est un accélérateur de changemen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Stratégi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Tous les collaborateurs sont acteurs et mobilisé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Communication interactiv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ise en scène de façon attrayante et concrèt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0EA-35D1-4B97-BF99-88AEE8BCBB2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37B5A-F4EA-4FA7-924B-FFF2B6F43A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Parcours, pour quelles raisons ?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Valeur ajoutée pour l’entrepris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voir un impact durable et immédiat sous 48 H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Etre en phase avec les préoccupations</a:t>
            </a: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ctuelles :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Rapidité - mobilité - changement 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ontée en puissance des individu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Les sociétés qui ont déjà fait confiance à ce programme de formation :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ventis, Schneider…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012F-A030-4D0C-8601-C2A62864A29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1E6D1-E870-4E4D-8889-41DAF07145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Caractéristiques de Parcours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Organisation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Durée : 1 à 2 jour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Lieu : Différents sites thématique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Nombre de personnes : 50 à 250 personne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Circulation : “nomadisme organisé”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Scénographie attrayante et créativ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Animation : consultant “chef d’orchestre” et équipe d’animation interne de préférenc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F80-8F41-4C3D-92F0-DE67A72EA42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E03BB-CE01-4723-B69A-71D4047A9B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Ses caractéristiques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Approche basée sur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Organisation apprenant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Intelligence collectiv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Quotient émotionne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pproche participativ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Intrane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Logiciels sur mesur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Séquences enregistrées de vidéo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1B2-45B2-45E6-B337-7CEEF3F06F2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1CCE5-97DF-4308-8190-A793B8697C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ise-en-œuvre en co-production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Fort investissement en amont par la constitution</a:t>
            </a:r>
            <a:br>
              <a:rPr sz="2000"/>
            </a:b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d’un groupe de travai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Direction générale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Direction de la communication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Direction des Ressources Humaines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Direction de la formation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Chefs de projets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Définition des thèmes clé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Elaboration et validation des contenu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Validation des modalités d’animat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Tests, groupe miroi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2C4C-D0CB-4D48-BC7E-BB4E3C4FFAA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3C461-45B0-4946-A376-884EF92F98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Les facteurs clés de réussite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Créer un partenariat étroit avec la Direction de l’Entreprise pour préparer l’évènement.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ssurer une cohérence entr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La production de l’événemen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La culture de l’entrepris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La progression pédagogiqu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Les moyens technologiqu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arquer les esprits par une réalisation innovante et ambitieuse.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aîtriser les temps et les espac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ssocier Parcours et sa dimens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“</a:t>
            </a: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direct-live” à la communication globale.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6E6-6164-4907-AA25-FA298583F82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2C86D-3573-46C0-B1BF-CAC211FD2E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ment en mode proje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Champs d’application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84b81"/>
                </a:solidFill>
                <a:latin typeface="Arial"/>
              </a:rPr>
              <a:t>L’accompagnement du changement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84b81"/>
                </a:solidFill>
                <a:latin typeface="Arial"/>
              </a:rPr>
              <a:t>L’assurance qualité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84b81"/>
                </a:solidFill>
                <a:latin typeface="Arial"/>
              </a:rPr>
              <a:t>Le marketing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84b81"/>
                </a:solidFill>
                <a:latin typeface="Arial"/>
              </a:rPr>
              <a:t>La vent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84b81"/>
                </a:solidFill>
                <a:latin typeface="Arial"/>
              </a:rPr>
              <a:t>L’organisation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84b81"/>
                </a:solidFill>
                <a:latin typeface="Arial"/>
              </a:rPr>
              <a:t>Le management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648B-9E73-43C2-B1F3-41BCACD0351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6119C-2893-43E4-8117-30D2173502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ment en mode proje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Objectif </a:t>
            </a:r>
            <a:r>
              <a:rPr b="0" lang="fr-FR" sz="2800" spc="-1" strike="noStrike">
                <a:solidFill>
                  <a:srgbClr val="009e8c"/>
                </a:solidFill>
                <a:latin typeface="Arial"/>
              </a:rPr>
              <a:t>(au niveau individuel ou d’une équipe)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Découvrir deux modes d’apprentissage, que sont la modélisation et la métaphore symbolique pour :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Mettre en œuvre des stratégies de changemen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Savoir identifier ses ressources internes à soi-même permettant l’atteinte de ses objectifs 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Se donner des critères de réussite et les hiérarchis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Prendre facilement des décision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Se donner les moyens de ses enjeux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Se mettre en act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Corriger le tir en avançan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218D-A426-4916-B3F6-22BC314BC54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76456-E2F9-4897-88C3-C7A9D24EDF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ment en mode proje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Organisation</a:t>
            </a: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de la formation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Durée du stage : 2 jour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Lieu : en résidentiel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Nombre de personnes : 10 à 12 personne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181-0136-4273-95E6-DDC0455E517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329B8-E118-4218-947B-04F6DCB6F7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ment en mode proje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Valeur ajoutée pour les individus et l’entrepris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84b81"/>
                </a:solidFill>
                <a:latin typeface="Arial"/>
              </a:rPr>
              <a:t>Vous aider à développer une vision commune dans vos équipes et atteindre une meilleure cohérence dans l’action.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84b81"/>
                </a:solidFill>
                <a:latin typeface="Arial"/>
              </a:rPr>
              <a:t>Obtenir des résultats concrets pour 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Développer son activité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Améliorer sa façon de communiquer avec ses collaborateur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Résoudre des problèm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Préparer des réunions important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Conduire efficacement un proje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5F7-D5B4-476E-A7F2-6BE3D50D3AD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53E5C-0C70-4C96-A3C9-3350E209CE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Style d’entreprise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Une société du 21ème siècl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pprenant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Organisée en réseau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Engagée auprès de ses clients (cf. charte déontologique p.40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Qui allie éthique, intégrité, passion, exigence, humanisme et performanc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1f4081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0E2-02E3-49B0-8F4D-3CA38B91EF5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D5BC6-7499-4AA1-A0E7-52B785489C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Management par la qualité</a:t>
            </a:r>
            <a:br>
              <a:rPr sz="3200"/>
            </a:b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3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e8c"/>
                </a:solidFill>
                <a:latin typeface="Arial"/>
              </a:rPr>
              <a:t>Objectif</a:t>
            </a:r>
            <a:r>
              <a:rPr b="1" lang="fr-FR" sz="1200" spc="-1" strike="noStrike">
                <a:solidFill>
                  <a:srgbClr val="009e8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Développer la performance de l'entreprise et la conduire sur un mode d'amélioration continue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ccompagnement de l'entreprise jusqu'au niveau de la Certification ISO 9001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e8c"/>
                </a:solidFill>
                <a:latin typeface="Arial"/>
              </a:rPr>
              <a:t>Stratégi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lanification, Analyse stratégique et Systémique, Mission et Vision (BSC) aide à l'identification et gestion des processus (cartographie, interface et interaction), paramétrage, Assistance et Accompagnement et mise en place des tableaux de bord et plans d'action pour l'amélioration continue de l'Organisme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e8c"/>
                </a:solidFill>
                <a:latin typeface="Arial"/>
              </a:rPr>
              <a:t>Système d'informat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Spécifications fonctionnelles, Opérationnelles, Normatives références AFNOR</a:t>
            </a:r>
            <a:endParaRPr b="0" lang="en-US" sz="16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0127-32E4-4CFC-B5E7-B27A1824998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96535-E7EE-46FE-9B06-139E6C8D08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124080" y="1371600"/>
            <a:ext cx="2895840" cy="1143000"/>
            <a:chOff x="3124080" y="1371600"/>
            <a:chExt cx="2895840" cy="1143000"/>
          </a:xfrm>
        </p:grpSpPr>
        <p:sp>
          <p:nvSpPr>
            <p:cNvPr id="198" name=""/>
            <p:cNvSpPr/>
            <p:nvPr/>
          </p:nvSpPr>
          <p:spPr>
            <a:xfrm>
              <a:off x="3124080" y="1371600"/>
              <a:ext cx="2895840" cy="1143000"/>
            </a:xfrm>
            <a:prstGeom prst="rect">
              <a:avLst/>
            </a:prstGeom>
            <a:solidFill>
              <a:srgbClr val="3366ff"/>
            </a:solidFill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66080" y="1563840"/>
              <a:ext cx="219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2a3d7a"/>
                  </a:solidFill>
                  <a:latin typeface="Arial"/>
                </a:rPr>
                <a:t>Entreprise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200" y="32767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009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96080" y="335268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009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87080" y="3022560"/>
            <a:ext cx="6366600" cy="3506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Objectifs court, moyen, long ter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Stratég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Organisa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Ressources inter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Ressources exter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Management par la qualité</a:t>
            </a:r>
            <a:br>
              <a:rPr sz="3200"/>
            </a:b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6320" y="1371600"/>
            <a:ext cx="2895480" cy="1143000"/>
            <a:chOff x="76320" y="1371600"/>
            <a:chExt cx="2895480" cy="1143000"/>
          </a:xfrm>
        </p:grpSpPr>
        <p:sp>
          <p:nvSpPr>
            <p:cNvPr id="205" name=""/>
            <p:cNvSpPr/>
            <p:nvPr/>
          </p:nvSpPr>
          <p:spPr>
            <a:xfrm>
              <a:off x="76320" y="1371600"/>
              <a:ext cx="2895480" cy="114300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2280" y="1563840"/>
              <a:ext cx="2754720" cy="581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2a3d7a"/>
                  </a:solidFill>
                  <a:latin typeface="Arial"/>
                </a:rPr>
                <a:t>Fournisseurs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172200" y="1371600"/>
            <a:ext cx="2895480" cy="1143000"/>
            <a:chOff x="6172200" y="1371600"/>
            <a:chExt cx="2895480" cy="1143000"/>
          </a:xfrm>
        </p:grpSpPr>
        <p:sp>
          <p:nvSpPr>
            <p:cNvPr id="208" name=""/>
            <p:cNvSpPr/>
            <p:nvPr/>
          </p:nvSpPr>
          <p:spPr>
            <a:xfrm>
              <a:off x="6172200" y="1371600"/>
              <a:ext cx="2895480" cy="11430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36400" y="1616040"/>
              <a:ext cx="1535400" cy="581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2a3d7a"/>
                  </a:solidFill>
                  <a:latin typeface="Arial"/>
                </a:rPr>
                <a:t>Clients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 flipH="1">
            <a:off x="1523880" y="2514600"/>
            <a:ext cx="1524240" cy="457200"/>
          </a:xfrm>
          <a:prstGeom prst="line">
            <a:avLst/>
          </a:prstGeom>
          <a:ln w="255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5880" y="2514600"/>
            <a:ext cx="1524240" cy="457200"/>
          </a:xfrm>
          <a:prstGeom prst="line">
            <a:avLst/>
          </a:prstGeom>
          <a:ln w="255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259092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F832-E9A2-4475-867B-07BC8CE3A66C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46701-EEE1-4013-AEC4-945FA4702F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Revue et optimisation des paramètres d’organisation au niveau individuel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Description de poste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Objectifs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Indicateurs de suivi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xes d’amélioration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Revue et optimisation des paramètres d’organisation global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Zones de recouvrement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Zones non-couvertes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Développement de process de backup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rocess d’escalade et gestion des non-conformités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uivi des indicateurs, tableaux de bord et plans d’action en cas de non-atteinte de l’objectif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Management par la qualité</a:t>
            </a:r>
            <a:br>
              <a:rPr sz="3200"/>
            </a:b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ou la performance humaine</a:t>
            </a: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090-83EB-46E3-BAF2-EF6E0762C89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162B3-94F0-40DA-8F9F-E093706019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Valeur ajoutée pour l'entrepris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Amélioration continue de la performance, développement et amélioration de la compétence, maîtrise, conformité et niveau de certification du Système de Management de l'Entreprise, accès à de nouveaux marchés, développement du chiffre d’affaire, développement du profit opérationnel.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15800" indent="-41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Les sociétés qui ont déjà fait confiance à cette démarche :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Logistique : VPC Bruneau, Raja - Sté de Génie Génétique Genodyssée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Publicité et Mktg Direct : Infoflash - Mécanique Générale: Acmel, Sorel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Aménagement d'Entreprise: Mécanobloc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Stés de Négoce : Ellexcience, Géca technique, SM Galtié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Collecte 1% patronal: Solendi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Bâtimen : Franco-Suisse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Intérim : VédiorBis, Expectra France 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Imprimerie: Seic…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Management par la qualité</a:t>
            </a:r>
            <a:br>
              <a:rPr sz="3200"/>
            </a:b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65B-8A45-423E-A613-938F574F9F0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725FF-6441-47E3-A469-3843EA363F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Formations thématiques - </a:t>
            </a: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PME-PMI</a:t>
            </a: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8102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anagement du changemen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Développer ses capacités managérial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Induire le changemen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Générer du temp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Organiser une réun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Parler en public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Savoir communiqu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Gérer les conflit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Bien se connaîtr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Transmission des compétenc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anagement Force de Vent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76920" y="1828800"/>
            <a:ext cx="396216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Diriger une équip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Savoir délégu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Savoir motiv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Savoir négoci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Prendre facilement des décision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Le stress positif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Conduire un proje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anagement &amp; NTIC (ou management à distantce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Plus de leadership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Les entretiens professionnels du Manag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295280"/>
            <a:ext cx="78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Toutes ces formations commencent par un module : Bien se connaîtr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208-301D-4ED1-B9D9-024A61F1081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C7212-40EF-474A-9BC2-7601C1FE51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Formations thématiques - </a:t>
            </a: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TPE</a:t>
            </a: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81024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Le type de mon entrepris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Créer les conditions de l'auto-motivat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Valoriser son intuit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Savoir s’entour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Prendre facilement des décision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Faire émerger ses capacités commercial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Une image pour mon proje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Conduire un proje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Générer du temp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Le stress positif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Gérer les conflit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Parler en public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0A87-93E3-4ED7-A2B2-54F22B224C2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D3428-09EE-4240-ABF1-06BD0314BB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Organisation de travail Khépri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Cellules de travail internes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Recherche et développement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Pour toujours plus de créativité et d’adaptation pour nos clients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281-97D7-45DB-B722-624DAE050A9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E02C9-7849-4367-9352-52E91B1A25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men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Ingénierie de formation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Mise en place de sessions de formation 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daptation de contenus pédagogiques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nimation des formations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Constitution de ressources techniques et humaines sur nos produits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Téléformation, supervision, coaching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7F6-01FF-4A86-93BB-BC50D331F25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C6153-3D1F-4DE8-A8AB-DF772D2930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Recherche et développemen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Créativité et innovation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ccroître notre capacité d’auto-formation en tant qu’entreprise apprenant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telier de recherche sur des compétences croisées 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telier d’improvisation théâtral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Techniques d’intervention ludiques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B83-8727-4E4E-B970-40062301BA8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DB112-5A73-4F7F-BCD1-F46E6BE3C3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Charte qualité rigoureuse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Coaching City </a:t>
            </a: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(réseau actifs de coachs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Un cadre de référence de notre profession par lequel nous nous engageaons à respecter les règles déontologiques établies par notre réseau :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Formation constante, supervisio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Engagement pénal à ne pas adhérer à un mouvement sectaire (MIVILUDES)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Assurance professionnelle spécifiqu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Parfaite et totale confidentialité 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D0C0-C091-480A-BB03-DC301EAE5A77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15734-FE82-4E13-B191-FC55846129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Vocation de Khépri</a:t>
            </a:r>
            <a:r>
              <a:rPr b="1" lang="fr-FR" sz="3600" spc="-1" strike="noStrike">
                <a:solidFill>
                  <a:srgbClr val="009e8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Créer de la valeur ajouté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Faciliter les mutations technologiques, organisationnelles et culturelle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sécuriser les étapes d'évolutio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Utiliser l’instabilité économique comme catalyseur de motivation dans l’entrepris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Accepter la nouveauté en développant la créativité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Responsabiliser les équipe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Pratiquer une communication ouvert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Renforcer le leadership de chacu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5EFF-44A1-4664-AB5E-FE5780D7BEE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71DCD-B1F8-418D-A2E5-9701484EE7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Organisation de la société</a:t>
            </a: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581280"/>
            <a:ext cx="1905120" cy="1905120"/>
          </a:xfrm>
          <a:prstGeom prst="triangle">
            <a:avLst>
              <a:gd name="adj" fmla="val 50000"/>
            </a:avLst>
          </a:prstGeom>
          <a:solidFill>
            <a:srgbClr val="fce8c3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209680"/>
            <a:ext cx="1600200" cy="1067040"/>
          </a:xfrm>
          <a:prstGeom prst="rect">
            <a:avLst/>
          </a:prstGeom>
          <a:solidFill>
            <a:srgbClr val="fce7c3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de ven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1676520"/>
            <a:ext cx="2286000" cy="1295280"/>
          </a:xfrm>
          <a:prstGeom prst="rect">
            <a:avLst/>
          </a:prstGeom>
          <a:solidFill>
            <a:srgbClr val="fce8c3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2362320"/>
            <a:ext cx="1600200" cy="1066680"/>
          </a:xfrm>
          <a:prstGeom prst="rect">
            <a:avLst/>
          </a:prstGeom>
          <a:solidFill>
            <a:srgbClr val="fdecc9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d7a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d7a"/>
                </a:solidFill>
                <a:latin typeface="Arial"/>
              </a:rPr>
              <a:t>&amp; Forma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182880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Recherch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&amp; Développemen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4755800">
            <a:off x="5421960" y="295956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e8c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7604400">
            <a:off x="3287880" y="29595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e8c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1523880"/>
            <a:ext cx="1214640" cy="73368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e8c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737600">
            <a:off x="2361600" y="144720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e8c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6560" y="476712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Co-équipier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Khépri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589400">
            <a:off x="6095880" y="548604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3d7a"/>
                </a:solidFill>
                <a:latin typeface="Arial"/>
              </a:rPr>
              <a:t>Réseau professionn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508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3760" y="3274920"/>
            <a:ext cx="253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081"/>
                </a:solidFill>
                <a:latin typeface="Arial"/>
              </a:rPr>
              <a:t>Accompagnemen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081"/>
                </a:solidFill>
                <a:latin typeface="Arial"/>
              </a:rPr>
              <a:t>d’équipes commerciale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081"/>
                </a:solidFill>
                <a:latin typeface="Arial"/>
              </a:rPr>
              <a:t>sur le terrai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350532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f4081"/>
                </a:solidFill>
                <a:latin typeface="Arial"/>
              </a:rPr>
              <a:t>Manager Coach Training </a:t>
            </a:r>
            <a:r>
              <a:rPr b="1" lang="fr-FR" sz="500" spc="-1" strike="noStrike">
                <a:solidFill>
                  <a:srgbClr val="1f4081"/>
                </a:solidFill>
                <a:latin typeface="Arial"/>
              </a:rPr>
              <a:t>TM</a:t>
            </a:r>
            <a:endParaRPr b="0" lang="en-US" sz="5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f4081"/>
                </a:solidFill>
                <a:latin typeface="Arial"/>
              </a:rPr>
              <a:t>Modélisation et Apprentissag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387680" y="5791320"/>
            <a:ext cx="717840" cy="717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38080" y="4495680"/>
            <a:ext cx="1600200" cy="1067040"/>
          </a:xfrm>
          <a:prstGeom prst="rect">
            <a:avLst/>
          </a:prstGeom>
          <a:solidFill>
            <a:srgbClr val="c2d4ec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d7a"/>
                </a:solidFill>
                <a:latin typeface="Arial"/>
              </a:rPr>
              <a:t>Intervention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d7a"/>
                </a:solidFill>
                <a:latin typeface="Arial"/>
              </a:rPr>
              <a:t>en entrepris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680" y="1293840"/>
            <a:ext cx="29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Formations et intégra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5029200"/>
            <a:ext cx="1218960" cy="485640"/>
          </a:xfrm>
          <a:prstGeom prst="leftArrow">
            <a:avLst>
              <a:gd name="adj1" fmla="val 50000"/>
              <a:gd name="adj2" fmla="val 62750"/>
            </a:avLst>
          </a:prstGeom>
          <a:solidFill>
            <a:srgbClr val="009e8c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7" idx="2"/>
          </p:cNvCxnSpPr>
          <p:nvPr/>
        </p:nvCxnSpPr>
        <p:spPr>
          <a:xfrm rot="5400000">
            <a:off x="6433560" y="4255920"/>
            <a:ext cx="1458000" cy="991440"/>
          </a:xfrm>
          <a:prstGeom prst="bentConnector3">
            <a:avLst>
              <a:gd name="adj1" fmla="val 49987"/>
            </a:avLst>
          </a:prstGeom>
          <a:ln w="38160">
            <a:solidFill>
              <a:srgbClr val="009e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rot="5400000">
            <a:off x="2628000" y="3314520"/>
            <a:ext cx="2210400" cy="1524600"/>
          </a:xfrm>
          <a:prstGeom prst="bentConnector3">
            <a:avLst>
              <a:gd name="adj1" fmla="val 49991"/>
            </a:avLst>
          </a:prstGeom>
          <a:ln w="38160">
            <a:solidFill>
              <a:srgbClr val="009e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>
            <a:off x="2590920" y="2970360"/>
            <a:ext cx="4420080" cy="2160"/>
          </a:xfrm>
          <a:prstGeom prst="straightConnector1">
            <a:avLst/>
          </a:prstGeom>
          <a:ln w="38160">
            <a:solidFill>
              <a:srgbClr val="009e8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609480" y="563868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081"/>
                </a:solidFill>
                <a:latin typeface="Arial"/>
              </a:rPr>
              <a:t>Parcours </a:t>
            </a:r>
            <a:r>
              <a:rPr b="1" lang="fr-FR" sz="600" spc="-1" strike="noStrike">
                <a:solidFill>
                  <a:srgbClr val="1f4081"/>
                </a:solidFill>
                <a:latin typeface="Arial"/>
              </a:rPr>
              <a:t>TM</a:t>
            </a:r>
            <a:endParaRPr b="0" lang="en-US" sz="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081"/>
                </a:solidFill>
                <a:latin typeface="Arial"/>
              </a:rPr>
              <a:t>Process management de la qualité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4343400"/>
            <a:ext cx="2057400" cy="1066680"/>
          </a:xfrm>
          <a:prstGeom prst="rect">
            <a:avLst/>
          </a:prstGeom>
          <a:solidFill>
            <a:srgbClr val="c2d4ec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a3d7a"/>
                </a:solidFill>
                <a:latin typeface="Arial"/>
              </a:rPr>
              <a:t>Coach Up Institut,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a3d7a"/>
                </a:solidFill>
                <a:latin typeface="Arial"/>
              </a:rPr>
              <a:t>1er institut europée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a3d7a"/>
                </a:solidFill>
                <a:latin typeface="Arial"/>
              </a:rPr>
              <a:t>de formation de coach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a3d7a"/>
                </a:solidFill>
                <a:latin typeface="Arial"/>
              </a:rPr>
              <a:t>professionnels</a:t>
            </a:r>
            <a:r>
              <a:rPr b="1" lang="fr-FR" sz="1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924680" y="5867280"/>
            <a:ext cx="1067040" cy="6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9F6B-58F5-42AE-B7E4-237810BA54F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0E579-8C17-4023-89BE-79BA535527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2a3d7a"/>
                </a:solidFill>
                <a:latin typeface="Arial"/>
              </a:rPr>
              <a:t>KHEPRI</a:t>
            </a:r>
            <a:br>
              <a:rPr sz="4000"/>
            </a:br>
            <a:r>
              <a:rPr b="1" lang="fr-FR" sz="4000" spc="-1" strike="noStrike">
                <a:solidFill>
                  <a:srgbClr val="2a3d7a"/>
                </a:solidFill>
                <a:latin typeface="Arial"/>
              </a:rPr>
              <a:t>&amp;</a:t>
            </a:r>
            <a:br>
              <a:rPr sz="4000"/>
            </a:br>
            <a:r>
              <a:rPr b="1" lang="fr-FR" sz="4000" spc="-1" strike="noStrike">
                <a:solidFill>
                  <a:srgbClr val="2a3d7a"/>
                </a:solidFill>
                <a:latin typeface="Arial"/>
              </a:rPr>
              <a:t>ses co-équipiers</a:t>
            </a:r>
            <a:endParaRPr b="0" lang="en-US" sz="40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90360" y="243828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Luc Epaulard, Evelyne Revellat,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Philippe Lemaire, Béatrice Quasnik, Roger Vidal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Béatrice Cuvellier, Sylvie Dubuc, Agnès Mensot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Laurent Duboi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Représentent par leur expertise des domaines d’intervention</a:t>
            </a:r>
            <a:br>
              <a:rPr sz="2000"/>
            </a:b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   différents qui sont en synergie au sein de Khépri : 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457200" indent="114480">
              <a:lnSpc>
                <a:spcPct val="10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Ingénieurs, spécialistes marketing ou Ressources Humaines,</a:t>
            </a:r>
            <a:br>
              <a:rPr sz="1800"/>
            </a:b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   Spécialistes des systèmes d’informations, de la qualité, du</a:t>
            </a:r>
            <a:br>
              <a:rPr sz="1800"/>
            </a:b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   management, de la pédagogie, de la communication relationnelle,</a:t>
            </a:r>
            <a:br>
              <a:rPr sz="1800"/>
            </a:b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   chefs d’entreprise.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09E3535-9CC8-43D8-94DB-FF2BCC9A13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Notre réseau, son fonctionnemen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Fonctionnement du réseau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996120" indent="-44172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Ce que nous proposons :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Un réseau structuré de co-équipiers formant une entité solid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Une vision commune de l’entrepris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Partager un challenge, des ambitions et de nouvelles expérienc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Se réaliser en tant qu’indépendant en ayant un sentiment d’appartenance à une enseign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Avoir une autonomie de fonctionnement en renforçant la synergie du group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Prendre des initiatives personnell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Développer son propre busines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Dans le respect de l’éthique commercial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DE1-953E-4708-B85F-3FC4946BAC4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C182F-66B8-4F47-A0E5-9BA4C1BC7C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Interventions de Khépri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Interventions en binôme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Nous partons de la réalité de votre entrepris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Nos intervenants, experts dans leur domaine, analysent les besoins de votre organisation et de vos collaborateurs.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L’accompagnement des équipes s’inscrit dans le projet de votre entreprise en cherchant des résultats concrets.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27D9-92D4-4580-9EB0-96FB1FDA365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77505-34D5-4619-B9A5-65FEE94929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Un écrin de compétences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nalyse transactionnell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nimation Jeu du TAO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PCM </a:t>
            </a: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(Typologie comportementale de Ned Herrmann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MBTI </a:t>
            </a: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(Théorie des types psychologiques de Jung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PNL </a:t>
            </a: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(Programmation Neuro-linguistique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Ennéagramm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Coaching vocal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Conseil en imag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Improvisation théâtral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4030-2764-4BB8-AE1C-7BD761B3043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C3478-913B-4F7E-A2CA-552F436B71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00:38:52Z</dcterms:created>
  <dc:creator>GS</dc:creator>
  <dc:description/>
  <dc:language>en-US</dc:language>
  <cp:lastModifiedBy>GS</cp:lastModifiedBy>
  <cp:lastPrinted>2005-03-16T08:17:59Z</cp:lastPrinted>
  <dcterms:modified xsi:type="dcterms:W3CDTF">2005-04-04T21:14:02Z</dcterms:modified>
  <cp:revision>8</cp:revision>
  <dc:subject/>
  <dc:title>SOCIÉTÉ KHEPRI®</dc:title>
</cp:coreProperties>
</file>