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BE7-3FF2-48AA-9D80-1A0C28AD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FED-67ED-4258-ACFD-75FD38F2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7E1-7BE6-4FDF-B87A-4AC8530E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F4F-C158-4C2D-A97A-ECA3D98B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8D8-7E37-4132-9792-1A3BF5F2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9AF7-0431-4C1C-94E3-2296C9C7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1A45-1CAF-4D28-85C1-2792D15B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D838-D5F3-496F-B117-982C680F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9D7-2108-4804-AFAD-75C63956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683-3A29-4720-BDAB-CDB05037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F862-9828-4F97-9715-2556107E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357-8437-4BD2-9F36-9B642E7F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ACEF-488B-4330-BFA3-B0A1EB564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99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ESENTATION SIMPLIFI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2565000"/>
            <a:ext cx="7705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ette présentation s’adresse plutôt 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 profils à dominances Rouges et Ja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 néoph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 investissements fa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 premiers investis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99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ESENTATION COMPLE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560" y="2565000"/>
            <a:ext cx="7705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Cette présentation s’adresse plutôt 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Des profils à dominances Vertes et surtout Ble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Des investisseurs au fait des march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Des investissements conséqu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Des investissements régu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15:54:00Z</dcterms:created>
  <dc:creator>valere</dc:creator>
  <dc:description/>
  <dc:language>en-US</dc:language>
  <cp:lastModifiedBy>valere</cp:lastModifiedBy>
  <dcterms:modified xsi:type="dcterms:W3CDTF">2010-01-03T15:54:11Z</dcterms:modified>
  <cp:revision>1</cp:revision>
  <dc:subject/>
  <dc:title>PRESENTATION SIMPLIFIEE </dc:title>
</cp:coreProperties>
</file>