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B89-50BA-44D9-85F7-B5922359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C59-5AFE-4293-BFA8-7A2AFD0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235-860C-4DB0-B05F-CD359F84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D4C-3D70-47F6-B27A-A3DE38A7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CAA-FF2D-4DA4-860F-F37702B5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29C-ABF3-43BC-A2BA-2FC42D7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219-7160-4517-B10E-034416AF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5F7-B6AB-4EC1-A524-36E4E5B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489-79B7-4439-9DF3-A0F74FA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0D9-D78D-4C0C-B387-7EE5FE2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2B0-8B32-4DBA-9D52-6CA9F20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499-D8E8-4BF5-8722-7159991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2502" r="0" b="0"/>
          <a:stretch/>
        </p:blipFill>
        <p:spPr>
          <a:xfrm>
            <a:off x="0" y="360036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32a0"/>
                </a:solidFill>
                <a:latin typeface="HelveticaNeue LightExt"/>
              </a:rPr>
              <a:t>Click to edit the title text format</a:t>
            </a: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Click to edit the outline text format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1" marL="743040" indent="-28584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con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2" marL="11430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Thir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3" marL="16002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our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4" marL="20574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if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ix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ven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B96-5B05-4C6D-A53B-57D384BF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053" r="0" b="34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260280"/>
            <a:ext cx="7056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FONDS €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37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ats Euro</a:t>
            </a:r>
            <a:endParaRPr b="0" lang="en-US" sz="2800" spc="-1" strike="noStrike">
              <a:solidFill>
                <a:srgbClr val="0a32a0"/>
              </a:solidFill>
              <a:latin typeface="HelveticaNeue LightEx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3357720"/>
          <a:ext cx="4038480" cy="34653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620640"/>
          <a:ext cx="4038480" cy="27180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5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d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f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105520" y="620640"/>
          <a:ext cx="4038480" cy="2687760"/>
        </p:xfrm>
        <a:graphic>
          <a:graphicData uri="http://schemas.openxmlformats.org/drawingml/2006/table">
            <a:tbl>
              <a:tblPr/>
              <a:tblGrid>
                <a:gridCol w="2018880"/>
                <a:gridCol w="2019600"/>
              </a:tblGrid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nn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ndement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6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0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105520" y="3284640"/>
          <a:ext cx="4038480" cy="3564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9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9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1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 42,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076720" y="44280"/>
            <a:ext cx="3816360" cy="505080"/>
          </a:xfrm>
          <a:prstGeom prst="rect">
            <a:avLst/>
          </a:prstGeom>
          <a:solidFill>
            <a:srgbClr val="0000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ts U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84464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64500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933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268280"/>
            <a:ext cx="86544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155736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5877000"/>
            <a:ext cx="9349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4292640"/>
            <a:ext cx="86544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6165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404640"/>
            <a:ext cx="669600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9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013360"/>
            <a:ext cx="158400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IS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5634000"/>
            <a:ext cx="165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portu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6144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versif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634000"/>
            <a:ext cx="144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RDIF 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557360"/>
            <a:ext cx="273708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421000"/>
            <a:ext cx="302436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Immobi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516800">
            <a:off x="622944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58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00800">
            <a:off x="4284360" y="2565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441800">
            <a:off x="7164000" y="263700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6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ANDIA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0800">
            <a:off x="514800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MN Sélection Rend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ds Géné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SS LIFE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04640"/>
            <a:ext cx="820728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M P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érén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634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XA 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égula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à capital gara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gibles P.E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SECURI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DEFEN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573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0800">
            <a:off x="5148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349400">
            <a:off x="7093080" y="357300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7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615" t="0" r="4381" b="0"/>
          <a:stretch/>
        </p:blipFill>
        <p:spPr>
          <a:xfrm>
            <a:off x="-1440" y="-25560"/>
            <a:ext cx="914544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9:25:48Z</dcterms:created>
  <dc:creator>Nathalie</dc:creator>
  <dc:description/>
  <dc:language>en-US</dc:language>
  <cp:lastModifiedBy>valere</cp:lastModifiedBy>
  <dcterms:modified xsi:type="dcterms:W3CDTF">2009-11-09T17:28:55Z</dcterms:modified>
  <cp:revision>842</cp:revision>
  <dc:subject/>
  <dc:title>Diapositive 1</dc:title>
</cp:coreProperties>
</file>