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9D8-E189-40C8-87CC-45CCA31D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7A7-9496-4DB9-9D3E-B570A26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0A2-B1C0-4F85-A06A-15A2E172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FF3-1CA9-41F8-B98A-9B5027C2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F15-AF77-4550-ADE7-703B69D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44E-FEDB-45C6-BB4D-A541629E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71A-3032-4CA9-A20B-AAF8E9C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31E-70DE-4D3F-B399-4A4166CA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E8F-7A50-4453-93F1-FE26B79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9D5-5476-4346-944A-1D68B038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4E8-8F01-4667-AA77-7F1E7B6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3C5-7E9C-4D38-9751-CAC6246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B295-D7D7-408C-9B42-A5246D667A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8000" y="154080"/>
          <a:ext cx="8928000" cy="6534000"/>
        </p:xfrm>
        <a:graphic>
          <a:graphicData uri="http://schemas.openxmlformats.org/drawingml/2006/table">
            <a:tbl>
              <a:tblPr/>
              <a:tblGrid>
                <a:gridCol w="1152360"/>
                <a:gridCol w="795600"/>
                <a:gridCol w="736560"/>
                <a:gridCol w="711000"/>
                <a:gridCol w="781200"/>
                <a:gridCol w="704880"/>
                <a:gridCol w="736560"/>
                <a:gridCol w="790560"/>
                <a:gridCol w="719280"/>
                <a:gridCol w="79200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g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nqu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152600">
            <a:off x="586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360" y="5589720"/>
            <a:ext cx="1157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084640"/>
            <a:ext cx="2521080" cy="158436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293800">
            <a:off x="514800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152600">
            <a:off x="356364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800" y="4365720"/>
            <a:ext cx="32774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4365720"/>
            <a:ext cx="30747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 COMPE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1200">
            <a:off x="2987640" y="242064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5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636800">
            <a:off x="5219640" y="242100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306864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58040" y="3645000"/>
            <a:ext cx="231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cupez le terrai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Doublez votre nombre de RD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prospects &amp; client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93800">
            <a:off x="5867280" y="126792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60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8000" y="274680"/>
          <a:ext cx="8928000" cy="729468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811080"/>
                <a:gridCol w="774720"/>
                <a:gridCol w="692280"/>
                <a:gridCol w="762120"/>
                <a:gridCol w="774360"/>
                <a:gridCol w="793800"/>
                <a:gridCol w="792360"/>
                <a:gridCol w="792000"/>
                <a:gridCol w="8636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54080"/>
          <a:ext cx="8785080" cy="6703560"/>
        </p:xfrm>
        <a:graphic>
          <a:graphicData uri="http://schemas.openxmlformats.org/drawingml/2006/table">
            <a:tbl>
              <a:tblPr/>
              <a:tblGrid>
                <a:gridCol w="860040"/>
                <a:gridCol w="847440"/>
                <a:gridCol w="786600"/>
                <a:gridCol w="758520"/>
                <a:gridCol w="832680"/>
                <a:gridCol w="752400"/>
                <a:gridCol w="784800"/>
                <a:gridCol w="771840"/>
                <a:gridCol w="771840"/>
                <a:gridCol w="825840"/>
                <a:gridCol w="79308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18:58Z</dcterms:created>
  <dc:creator>valere</dc:creator>
  <dc:description/>
  <dc:language>en-US</dc:language>
  <cp:lastModifiedBy>valere</cp:lastModifiedBy>
  <dcterms:modified xsi:type="dcterms:W3CDTF">2008-10-23T07:37:56Z</dcterms:modified>
  <cp:revision>9</cp:revision>
  <dc:subject/>
  <dc:title>L’ANTI CRISE</dc:title>
</cp:coreProperties>
</file>