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EA4-8E2B-4C84-817B-8BA17398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961-020D-460B-AA11-FA737250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AF1-8E63-417B-9D02-744B5808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BF0-15D5-4C5A-97BD-BB18FCA0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0BD6-FA9D-4B5E-BD1D-1FD150E9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03C4-444A-4581-BD59-99C6471F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C723-5A87-4A9B-8806-7CE210C1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AF7D-48B6-44E8-95EA-E8E9C7EE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BA03-477E-4F6B-8494-ACEFA59D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F437-D51E-4F08-AA91-7AD63AB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2EE9-B306-4BF4-96E1-D40C74A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D93-0E33-495B-841A-768B04AF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69D0-87D3-48D9-A7A2-82883DD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04E4-55CF-49D3-9835-379FBF2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BD9B-CF8B-4A4D-94F5-D8D0574B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161A-CEB3-45EE-87E6-B108A3C2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8D78-ABF9-4168-881F-453A8046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B61-B8E7-4518-B385-169DEC3E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029-8DB8-4468-B7DA-9B27DD56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2E7-C869-4248-885A-AD11FC23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F5F-C59D-4D48-B255-27165FC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985-8987-4C86-B674-0A9A503C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D2A-8B00-4DEA-9639-928DF0F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F98-A8DA-4DC9-85CB-FE5D7F0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68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68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90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90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17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60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50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39640" y="1341360"/>
            <a:ext cx="8275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2209680" indent="-38088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2209680" indent="-38088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2209680" indent="-38088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10920" y="6165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Novemb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JSC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804000" y="6140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B1B4-29ED-4464-A803-B63363B1A7DF}" type="slidenum">
              <a:rPr b="0" lang="en-US" sz="14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Novemb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JSC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839F-A8DB-4D75-B6F3-4CEA5D01320D}" type="slidenum">
              <a:rPr b="0" lang="en-US" sz="14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Dominique Maugrain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BPD (Bilan Patrimonial Dynamique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Une méthodologie JSC Consultants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11 novembre 2010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4EF4-4351-4682-B9BA-BFA6CE0E03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olution du passif patrimonial de Dominiqu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2165400"/>
            <a:ext cx="8785440" cy="29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37E-A882-4F35-8198-2E197EA2EB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euille de route pour Dominique 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756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Préambule : document de travail. La pertinence de certain pts est à vérifier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Modification situation de famille en décembre 2010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Mesurer l’impact fiscal sur les finances du coupl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Faire valoir droits à retraite le + tôt possible, après diagnostic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ransformer PEL en CE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ransférer les 2 Carmignac sur un contrat AV Swiss Life arbitrabl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Analyser la SCPI Perial pour décisio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Obtenir coût des emprunts Gaipare pour décision rbser ou garder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ahoma"/>
              </a:rPr>
              <a:t>Tréso dispo à mettre immédiatement en SCPI de rdm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Faire l’analyse éco du plan La Mondiale pour décision garder ou trsformer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endre Montpezat pour placer le prd en papier de rdm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érifier la position CIPAV de Claud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C0F-2714-485D-8366-92D98EC71B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rci de votre attention…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ahoma"/>
              </a:rPr>
              <a:t>« tout ce qui est simple est inexact, mais ce qui ne l’est pas est inutilisable »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ahoma"/>
              </a:rPr>
              <a:t>Paul valéry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BFDF-A97C-4574-88E9-B2A48F22E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Sommaire dossier Dominique Maugrain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560" y="1917720"/>
            <a:ext cx="6048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ésent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ilan patrimonial mois de novembre 2010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alyse et projection revenus/dépens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tes prévisionn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nancements prévisionn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ilan patrimonial dynamiqu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euille de rou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E27-ED82-4252-A296-EAA719BD4A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ésent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75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Le présent dossier a pour objet de 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isualiser synthétiquement la position patrimoniale aujourd’hui de Dominique Maugrain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Projeter le parcours « financier » de Dominique Maugrain sur les prochaines années en prenant en compte son patrimoine, ses engagements, ses revenus, ses besoins, sa fiscalité et sa situation de famille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En fonction de cette projection, recommander l’allocation optimale du patrimoine de Dominique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Et selon cette recommadation lui proposer les solutions adequat. 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C60-26DF-4AEA-9C5C-D7237B7E93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lan patrimonial de Dominique, novembre 2010 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516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812000" y="170172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45C-DD33-48E2-9372-8B72A1EA1B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ommandation d’allocation patrimonial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1465200"/>
            <a:ext cx="7126200" cy="304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4797360"/>
            <a:ext cx="7058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ncipe 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ugmenter les revenus récurrents de Dominique en diminuant la part consacrée à l’immobilier non productif pour augmenter considérablement la part de « papier de rapport » (assurance vie € et pierre papier de rend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F45-FD15-4092-8186-74B1F7BD6C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Revenus prévisibles de Dominique Maugrain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8360" y="979560"/>
            <a:ext cx="6767280" cy="5328360"/>
            <a:chOff x="2268360" y="979560"/>
            <a:chExt cx="6767280" cy="5328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68360" y="979560"/>
              <a:ext cx="6767280" cy="17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268360" y="2736000"/>
              <a:ext cx="6767280" cy="22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2268360" y="5070960"/>
              <a:ext cx="6767280" cy="123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324000" y="227664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Document de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 modifier avec Domi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60" y="1989000"/>
            <a:ext cx="2087640" cy="22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E88-5860-417C-B11D-7F2C110BB6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venus nets de Dominiqu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1640" y="1268280"/>
            <a:ext cx="8317080" cy="337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4869000"/>
            <a:ext cx="828036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tisse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 modification de la situation a des conséquences fiscales qui ne peuvent être prises en compte qu’au vu des revenus et patrimoine du conj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296-56FB-4BD7-A5DD-25C8CE969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Comptes de financement Dominique Maugrain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93080" cy="49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C54-CFDC-4999-9C4C-A72629C3F5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olution de l’actif patrimonial de Dominiqu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61440" cy="513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CA0-85C8-463A-93DE-7927E311DA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5:49:13Z</dcterms:created>
  <dc:creator>Jean SAINT-CRICQ</dc:creator>
  <dc:description/>
  <dc:language>en-US</dc:language>
  <cp:lastModifiedBy>Jean SAINT-CRICQ</cp:lastModifiedBy>
  <dcterms:modified xsi:type="dcterms:W3CDTF">2003-11-15T15:05:02Z</dcterms:modified>
  <cp:revision>43</cp:revision>
  <dc:subject/>
  <dc:title>Cabinet et Foyer JANIN</dc:title>
</cp:coreProperties>
</file>