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DA9-E98D-4AEC-AF44-873C7FC520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359B-C910-4F35-88A4-5F4C65684D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B818-6C08-4946-A686-3EF5FEE456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9924-3CB8-4F96-801E-3F814E7A1D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D843-6E2B-40B6-989D-05E5185E69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8624-79B7-44AD-95E0-76658A4E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5BFB5-A452-44CE-87FD-D50E527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1E30-005E-4057-8B8F-1F4C4ACF04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C217-98A2-4B68-A23C-CA4D4C75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86CD-3B2B-4C8A-8D13-E6C1041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D293-D4B1-4A94-BEBF-AADBE205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7C1EB-C936-48AC-991F-0D5B0C42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DAD7-0F20-4977-A8BB-86F3B89E5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2264-868D-4549-967A-7A501507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3F15-A97C-4DA6-8792-FE8E0E2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07368-64C7-4C66-B432-7B7FA0C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651640" y="6165720"/>
            <a:ext cx="1944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A1D6-F181-4087-AD90-6C5E99E24F1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179280" y="6165720"/>
            <a:ext cx="8785440" cy="503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26920" y="2060640"/>
            <a:ext cx="7705800" cy="1068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Méthode de con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Arial"/>
              </a:rPr>
              <a:t>d’une fiche de po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cuments">
            <a:hlinkClick r:id="rId1" action="ppaction://hlinksldjump"/>
          </p:cNvPr>
          <p:cNvSpPr/>
          <p:nvPr/>
        </p:nvSpPr>
        <p:spPr>
          <a:xfrm>
            <a:off x="3782880" y="3429000"/>
            <a:ext cx="1366920" cy="1719360"/>
          </a:xfrm>
          <a:custGeom>
            <a:avLst/>
            <a:gdLst>
              <a:gd name="textAreaLeft" fmla="*/ 104040 w 1366920"/>
              <a:gd name="textAreaRight" fmla="*/ 1045800 w 1366920"/>
              <a:gd name="textAreaTop" fmla="*/ 331920 h 1719360"/>
              <a:gd name="textAreaBottom" fmla="*/ 1378440 h 1719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92360" y="3933720"/>
            <a:ext cx="1729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Démarr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Arial"/>
              </a:rPr>
              <a:t>le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endshow"/>
          </p:cNvPr>
          <p:cNvSpPr/>
          <p:nvPr/>
        </p:nvSpPr>
        <p:spPr>
          <a:xfrm>
            <a:off x="3203640" y="6237360"/>
            <a:ext cx="2305080" cy="360360"/>
          </a:xfrm>
          <a:custGeom>
            <a:avLst/>
            <a:gdLst>
              <a:gd name="textAreaLeft" fmla="*/ 23040 w 2305080"/>
              <a:gd name="textAreaRight" fmla="*/ 2282040 w 23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8050" h="21600">
                <a:moveTo>
                  <a:pt x="0" y="0"/>
                </a:moveTo>
                <a:lnTo>
                  <a:pt x="138050" y="0"/>
                </a:lnTo>
                <a:lnTo>
                  <a:pt x="138050" y="21600"/>
                </a:lnTo>
                <a:lnTo>
                  <a:pt x="0" y="21600"/>
                </a:lnTo>
                <a:close/>
              </a:path>
              <a:path fill="lightenLess" w="138050" h="21600">
                <a:moveTo>
                  <a:pt x="0" y="0"/>
                </a:moveTo>
                <a:lnTo>
                  <a:pt x="138050" y="0"/>
                </a:lnTo>
                <a:lnTo>
                  <a:pt x="136650" y="1400"/>
                </a:lnTo>
                <a:lnTo>
                  <a:pt x="1400" y="1400"/>
                </a:lnTo>
                <a:close/>
              </a:path>
              <a:path fill="darken" w="138050" h="21600">
                <a:moveTo>
                  <a:pt x="138050" y="0"/>
                </a:moveTo>
                <a:lnTo>
                  <a:pt x="138050" y="21600"/>
                </a:lnTo>
                <a:lnTo>
                  <a:pt x="136650" y="20200"/>
                </a:lnTo>
                <a:lnTo>
                  <a:pt x="136650" y="1400"/>
                </a:lnTo>
                <a:close/>
              </a:path>
              <a:path fill="darkenLess" w="138050" h="21600">
                <a:moveTo>
                  <a:pt x="138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650" y="20200"/>
                </a:lnTo>
                <a:close/>
              </a:path>
              <a:path fill="lighten" w="138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>
            <a:hlinkClick r:id="" action="ppaction://hlinkshowjump?jump=nextslide"/>
          </p:cNvPr>
          <p:cNvSpPr/>
          <p:nvPr/>
        </p:nvSpPr>
        <p:spPr>
          <a:xfrm>
            <a:off x="3780000" y="436572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2000" y="259920"/>
            <a:ext cx="424836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éthode de création d’un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>
            <a:hlinkClick r:id="" action="ppaction://hlinkshowjump?jump=firstslide"/>
          </p:cNvPr>
          <p:cNvSpPr/>
          <p:nvPr/>
        </p:nvSpPr>
        <p:spPr>
          <a:xfrm>
            <a:off x="46836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84360" y="623736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268280"/>
            <a:ext cx="77770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concevoir une fiche de poste, nous vous proposons la méthode suivante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1 -  Rédigez une première version de la fiche de poste suivant le modèle joint :</a:t>
            </a:r>
            <a:r>
              <a:rPr b="0" lang="fr-FR" sz="1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2 - Donnez au salarié un « questionnaire / activité ». Il peut le remplir seul ou bien vous pouvez le compléter avec lui si nécessaire : il vous renseignera sur la façon dont le salarié appréhende son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3 - Récupérez le « questionnaire / activité » complét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4 -  Rapprochez votre première version de la fiche de poste avec le « questionnaire / activité » : vous constaterez des écarts entre ce qu’estime faire le salarié et votre point de vu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5 -  Finalisez la fiche de poste en arbitrant ce que vous retenez de votre première version et de la description faite par le salari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6 – Donnez la fiche au salarié et finalisez le contenu avec son avis : le consensus est un atout important pour toutes les négociations qui peuvent avoir lie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Attention 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: une discussion peut se créer autour du contenu final, il est nécessaire d’avoir conclu cette fiche avant de faire l’entretien professionnel (question de te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>
            <a:hlinkClick r:id="" action="ppaction://hlinkshowjump?jump=nextslide"/>
          </p:cNvPr>
          <p:cNvSpPr/>
          <p:nvPr/>
        </p:nvSpPr>
        <p:spPr>
          <a:xfrm>
            <a:off x="3205080" y="1989000"/>
            <a:ext cx="216000" cy="2178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800"/>
              <a:gd name="textAreaBottom" fmla="*/ 204120 h 217800"/>
            </a:gdLst>
            <a:ahLst/>
            <a:rect l="textAreaLeft" t="textAreaTop" r="textAreaRight" b="textAreaBottom"/>
            <a:pathLst>
              <a:path w="21600" h="21780">
                <a:moveTo>
                  <a:pt x="0" y="0"/>
                </a:moveTo>
                <a:lnTo>
                  <a:pt x="21600" y="0"/>
                </a:lnTo>
                <a:lnTo>
                  <a:pt x="21600" y="21780"/>
                </a:lnTo>
                <a:lnTo>
                  <a:pt x="0" y="21780"/>
                </a:lnTo>
                <a:close/>
              </a:path>
              <a:path fill="lightenLess" w="21600" h="21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80">
                <a:moveTo>
                  <a:pt x="21600" y="0"/>
                </a:moveTo>
                <a:lnTo>
                  <a:pt x="21600" y="21780"/>
                </a:lnTo>
                <a:lnTo>
                  <a:pt x="20200" y="20380"/>
                </a:lnTo>
                <a:lnTo>
                  <a:pt x="20200" y="1400"/>
                </a:lnTo>
                <a:close/>
              </a:path>
              <a:path fill="darkenLess" w="21600" h="21780">
                <a:moveTo>
                  <a:pt x="21600" y="21780"/>
                </a:moveTo>
                <a:lnTo>
                  <a:pt x="0" y="21780"/>
                </a:lnTo>
                <a:lnTo>
                  <a:pt x="1400" y="20380"/>
                </a:lnTo>
                <a:lnTo>
                  <a:pt x="20200" y="20380"/>
                </a:lnTo>
                <a:close/>
              </a:path>
              <a:path fill="lighten" w="21600" h="21780">
                <a:moveTo>
                  <a:pt x="0" y="21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80"/>
                </a:lnTo>
                <a:close/>
              </a:path>
              <a:path fill="darken" w="21600" h="21780">
                <a:moveTo>
                  <a:pt x="3794" y="3883"/>
                </a:moveTo>
                <a:lnTo>
                  <a:pt x="17806" y="10890"/>
                </a:lnTo>
                <a:lnTo>
                  <a:pt x="3794" y="1789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421080" y="1989000"/>
            <a:ext cx="17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203640" y="292428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3865"/>
                </a:moveTo>
                <a:lnTo>
                  <a:pt x="17806" y="10872"/>
                </a:lnTo>
                <a:lnTo>
                  <a:pt x="3794" y="178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419640" y="2924280"/>
            <a:ext cx="24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Modèle de questionnaire / activi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643280" y="260280"/>
            <a:ext cx="425160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Principe de cré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2195280" y="8366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ncipe de création d’une fich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8101080" y="623736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Su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4">
            <a:hlinkClick r:id="" action="ppaction://hlinkshowjump?jump=nextslide"/>
          </p:cNvPr>
          <p:cNvSpPr/>
          <p:nvPr/>
        </p:nvSpPr>
        <p:spPr>
          <a:xfrm>
            <a:off x="860436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17806" y="10818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5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50920" y="259920"/>
            <a:ext cx="4248000" cy="360360"/>
          </a:xfrm>
          <a:prstGeom prst="rect">
            <a:avLst/>
          </a:prstGeom>
          <a:solidFill>
            <a:srgbClr val="ffff0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Modèle de fiche de po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4572000" y="189000"/>
            <a:ext cx="4392720" cy="5976720"/>
            <a:chOff x="4572000" y="189000"/>
            <a:chExt cx="4392720" cy="5976720"/>
          </a:xfrm>
        </p:grpSpPr>
        <p:sp>
          <p:nvSpPr>
            <p:cNvPr id="72" name="Rectangle 5"/>
            <p:cNvSpPr/>
            <p:nvPr/>
          </p:nvSpPr>
          <p:spPr>
            <a:xfrm>
              <a:off x="4572000" y="189000"/>
              <a:ext cx="4392720" cy="597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6315120" y="2034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 de pos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4716360" y="5557680"/>
              <a:ext cx="410364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de prise de fonc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gnature du salari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4788000" y="5084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rspectives d’évolution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Possibilités d’évolution vers telles fonctions inter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"/>
            <p:cNvSpPr/>
            <p:nvPr/>
          </p:nvSpPr>
          <p:spPr>
            <a:xfrm>
              <a:off x="4716360" y="458136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nctions passerell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uations internes permettant d’accéder à cette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"/>
            <p:cNvSpPr/>
            <p:nvPr/>
          </p:nvSpPr>
          <p:spPr>
            <a:xfrm>
              <a:off x="4788000" y="429264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bilitation et délégation de pouvoir 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4716360" y="4005360"/>
              <a:ext cx="4103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igences :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iplômes,horaires, saisonnalité, …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2"/>
            <p:cNvSpPr/>
            <p:nvPr/>
          </p:nvSpPr>
          <p:spPr>
            <a:xfrm>
              <a:off x="4716360" y="3500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aisons relationnelles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lation interne et externe liées à la fon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3"/>
            <p:cNvSpPr/>
            <p:nvPr/>
          </p:nvSpPr>
          <p:spPr>
            <a:xfrm>
              <a:off x="4716360" y="2276640"/>
              <a:ext cx="4103640" cy="14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étences requis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Être capable d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 compétences » :</a:t>
              </a:r>
              <a:r>
                <a:rPr b="0" i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-fair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avoir être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Ressources personnelles nécessair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Ces compétences  servent à l’évaluation du salarié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4716360" y="1916280"/>
              <a:ext cx="4103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tivités et tâches 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Liste des activités et des tâch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5"/>
            <p:cNvSpPr/>
            <p:nvPr/>
          </p:nvSpPr>
          <p:spPr>
            <a:xfrm>
              <a:off x="4716360" y="1484280"/>
              <a:ext cx="41036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ssions principales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Description des miss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716360" y="762120"/>
              <a:ext cx="41036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fication : 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iveau / échelon / coefficient</a:t>
              </a: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hiérarchique : </a:t>
              </a:r>
              <a:r>
                <a:rPr b="1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 du supérieu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ttachement fonctionnel :  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Fonctions de rattachement transvers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eu d’affectation : 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site de rattachement offici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4716360" y="476280"/>
              <a:ext cx="41036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itulé du poste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: </a:t>
              </a:r>
              <a:r>
                <a:rPr b="0" lang="fr-FR" sz="9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« métier 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>
              <a:off x="4716360" y="47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4716360" y="60199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>
              <a:off x="471636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>
              <a:off x="8820000" y="476280"/>
              <a:ext cx="0" cy="5543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4716360" y="7621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>
              <a:off x="4716360" y="141300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4716360" y="1916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4716360" y="227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4716360" y="350028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4716360" y="393372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8"/>
            <p:cNvSpPr/>
            <p:nvPr/>
          </p:nvSpPr>
          <p:spPr>
            <a:xfrm>
              <a:off x="4716360" y="4292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9"/>
            <p:cNvSpPr/>
            <p:nvPr/>
          </p:nvSpPr>
          <p:spPr>
            <a:xfrm>
              <a:off x="4716360" y="4581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4716360" y="501336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>
              <a:off x="4716360" y="5516640"/>
              <a:ext cx="41036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32"/>
          <p:cNvSpPr/>
          <p:nvPr/>
        </p:nvSpPr>
        <p:spPr>
          <a:xfrm>
            <a:off x="324000" y="5373720"/>
            <a:ext cx="2376360" cy="6415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99"/>
                </a:solidFill>
                <a:latin typeface="Arial"/>
              </a:rPr>
              <a:t>Vous pouvez accéder directement au modèle de fiche de poste vierge,  en cliquant i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3"/>
          <p:cNvSpPr/>
          <p:nvPr/>
        </p:nvSpPr>
        <p:spPr>
          <a:xfrm>
            <a:off x="3132000" y="5373720"/>
            <a:ext cx="648000" cy="72072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23">
                <a:moveTo>
                  <a:pt x="0" y="0"/>
                </a:moveTo>
                <a:lnTo>
                  <a:pt x="21600" y="0"/>
                </a:lnTo>
                <a:lnTo>
                  <a:pt x="21600" y="24023"/>
                </a:lnTo>
                <a:lnTo>
                  <a:pt x="0" y="24023"/>
                </a:lnTo>
                <a:close/>
              </a:path>
              <a:path fill="lightenLess" w="21600" h="240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3">
                <a:moveTo>
                  <a:pt x="21600" y="0"/>
                </a:moveTo>
                <a:lnTo>
                  <a:pt x="21600" y="24023"/>
                </a:lnTo>
                <a:lnTo>
                  <a:pt x="20200" y="22623"/>
                </a:lnTo>
                <a:lnTo>
                  <a:pt x="20200" y="1400"/>
                </a:lnTo>
                <a:close/>
              </a:path>
              <a:path fill="darkenLess" w="21600" h="24023">
                <a:moveTo>
                  <a:pt x="21600" y="24023"/>
                </a:moveTo>
                <a:lnTo>
                  <a:pt x="0" y="24023"/>
                </a:lnTo>
                <a:lnTo>
                  <a:pt x="1400" y="22623"/>
                </a:lnTo>
                <a:lnTo>
                  <a:pt x="20200" y="22623"/>
                </a:lnTo>
                <a:close/>
              </a:path>
              <a:path fill="lighten" w="21600" h="24023">
                <a:moveTo>
                  <a:pt x="0" y="240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3"/>
                </a:lnTo>
                <a:close/>
              </a:path>
              <a:path fill="darkenLess" w="21600" h="24023">
                <a:moveTo>
                  <a:pt x="5273" y="5196"/>
                </a:moveTo>
                <a:lnTo>
                  <a:pt x="12271" y="5196"/>
                </a:lnTo>
                <a:lnTo>
                  <a:pt x="16327" y="8695"/>
                </a:lnTo>
                <a:lnTo>
                  <a:pt x="16327" y="18826"/>
                </a:lnTo>
                <a:lnTo>
                  <a:pt x="5273" y="18826"/>
                </a:lnTo>
                <a:close/>
              </a:path>
              <a:path fill="darken" w="21600" h="24023">
                <a:moveTo>
                  <a:pt x="12271" y="5196"/>
                </a:moveTo>
                <a:lnTo>
                  <a:pt x="16327" y="8695"/>
                </a:lnTo>
                <a:lnTo>
                  <a:pt x="12271" y="8695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Fiche d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ier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4"/>
          <p:cNvSpPr/>
          <p:nvPr/>
        </p:nvSpPr>
        <p:spPr>
          <a:xfrm>
            <a:off x="2771640" y="566100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5">
            <a:hlinkClick r:id="" action="ppaction://hlinkshowjump?jump=previousslide"/>
          </p:cNvPr>
          <p:cNvSpPr/>
          <p:nvPr/>
        </p:nvSpPr>
        <p:spPr>
          <a:xfrm>
            <a:off x="125892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6"/>
          <p:cNvSpPr/>
          <p:nvPr/>
        </p:nvSpPr>
        <p:spPr>
          <a:xfrm>
            <a:off x="1476360" y="6237360"/>
            <a:ext cx="1871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« principe de création 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7">
            <a:hlinkClick r:id="" action="ppaction://hlinkshowjump?jump=firstslide"/>
          </p:cNvPr>
          <p:cNvSpPr/>
          <p:nvPr/>
        </p:nvSpPr>
        <p:spPr>
          <a:xfrm>
            <a:off x="324000" y="630864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611280" y="6237360"/>
            <a:ext cx="64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9">
            <a:hlinkClick r:id="" action="ppaction://hlinkshowjump?jump=endshow"/>
          </p:cNvPr>
          <p:cNvSpPr/>
          <p:nvPr/>
        </p:nvSpPr>
        <p:spPr>
          <a:xfrm>
            <a:off x="3348000" y="6237360"/>
            <a:ext cx="2232000" cy="360360"/>
          </a:xfrm>
          <a:custGeom>
            <a:avLst/>
            <a:gdLst>
              <a:gd name="textAreaLeft" fmla="*/ 23040 w 2232000"/>
              <a:gd name="textAreaRight" fmla="*/ 2208960 w 22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33674" h="21600">
                <a:moveTo>
                  <a:pt x="0" y="0"/>
                </a:moveTo>
                <a:lnTo>
                  <a:pt x="133674" y="0"/>
                </a:lnTo>
                <a:lnTo>
                  <a:pt x="133674" y="21600"/>
                </a:lnTo>
                <a:lnTo>
                  <a:pt x="0" y="21600"/>
                </a:lnTo>
                <a:close/>
              </a:path>
              <a:path fill="lightenLess" w="133674" h="21600">
                <a:moveTo>
                  <a:pt x="0" y="0"/>
                </a:moveTo>
                <a:lnTo>
                  <a:pt x="133674" y="0"/>
                </a:lnTo>
                <a:lnTo>
                  <a:pt x="132274" y="1400"/>
                </a:lnTo>
                <a:lnTo>
                  <a:pt x="1400" y="1400"/>
                </a:lnTo>
                <a:close/>
              </a:path>
              <a:path fill="darken" w="133674" h="21600">
                <a:moveTo>
                  <a:pt x="133674" y="0"/>
                </a:moveTo>
                <a:lnTo>
                  <a:pt x="133674" y="21600"/>
                </a:lnTo>
                <a:lnTo>
                  <a:pt x="132274" y="20200"/>
                </a:lnTo>
                <a:lnTo>
                  <a:pt x="132274" y="1400"/>
                </a:lnTo>
                <a:close/>
              </a:path>
              <a:path fill="darkenLess" w="133674" h="21600">
                <a:moveTo>
                  <a:pt x="1336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274" y="20200"/>
                </a:lnTo>
                <a:close/>
              </a:path>
              <a:path fill="lighten" w="1336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 sur l’entretien professi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0"/>
          <p:cNvSpPr/>
          <p:nvPr/>
        </p:nvSpPr>
        <p:spPr>
          <a:xfrm>
            <a:off x="179280" y="692280"/>
            <a:ext cx="439272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Remplissez chaque case de la manière indiquée en bleu sur le modèle ci-cont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ici quelques éléments pour vous aider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mission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expriment la raison d’être du poste.      (pourquoi ce poste existe-t-il 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activité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décrivent ce qui doit être fa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(que fait-on dans ce poste ?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Vous pouvez regrouper les activités par doma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tâch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sont des précisions sur les activi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"/>
              </a:rPr>
              <a:t>Les compétences</a:t>
            </a: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: pour vous aider à la définition des compétences cliquez ci-dess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Pour vous aider encore plus dans la réalisation d’une fiche de poste, nous vous proposons de vous inspirer de l’exemple d’une fiche de poste d’un com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1"/>
          <p:cNvSpPr/>
          <p:nvPr/>
        </p:nvSpPr>
        <p:spPr>
          <a:xfrm>
            <a:off x="755640" y="486900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fiche de poste d’un commercial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2"/>
          <p:cNvSpPr/>
          <p:nvPr/>
        </p:nvSpPr>
        <p:spPr>
          <a:xfrm>
            <a:off x="4572000" y="3862800"/>
            <a:ext cx="4106880" cy="1753560"/>
          </a:xfrm>
          <a:prstGeom prst="wedgeRoundRectCallout">
            <a:avLst>
              <a:gd name="adj1" fmla="val -73805"/>
              <a:gd name="adj2" fmla="val 51189"/>
              <a:gd name="adj3" fmla="val 16667"/>
            </a:avLst>
          </a:prstGeom>
          <a:gradFill rotWithShape="0">
            <a:gsLst>
              <a:gs pos="0">
                <a:srgbClr val="f8f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99"/>
                </a:solidFill>
                <a:latin typeface="Arial"/>
              </a:rPr>
              <a:t>Vous allez ouvrir un document Word modifiable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Souhaitez vous </a:t>
            </a:r>
            <a:r>
              <a:rPr b="0" lang="fr-FR" sz="800" spc="-1" strike="noStrike">
                <a:solidFill>
                  <a:srgbClr val="333399"/>
                </a:solidFill>
                <a:latin typeface="Arial"/>
              </a:rPr>
              <a:t>(cliquer sur votre choix)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Ouvrir le document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sulter la procédure d’utilisation des documents Wor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</a:t>
            </a:r>
            <a:r>
              <a:rPr b="1" lang="fr-FR" sz="9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333399"/>
                </a:solidFill>
                <a:latin typeface="Arial"/>
              </a:rPr>
              <a:t>Continuer à consulter le gui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3"/>
          <p:cNvSpPr/>
          <p:nvPr/>
        </p:nvSpPr>
        <p:spPr>
          <a:xfrm>
            <a:off x="755640" y="371628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Aide à la définition des compétences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4"/>
          <p:cNvSpPr/>
          <p:nvPr/>
        </p:nvSpPr>
        <p:spPr>
          <a:xfrm>
            <a:off x="768240" y="2611440"/>
            <a:ext cx="3313080" cy="287280"/>
          </a:xfrm>
          <a:custGeom>
            <a:avLst/>
            <a:gdLst>
              <a:gd name="textAreaLeft" fmla="*/ 18360 w 3313080"/>
              <a:gd name="textAreaRight" fmla="*/ 3294720 w 3313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48819" h="21600">
                <a:moveTo>
                  <a:pt x="0" y="0"/>
                </a:moveTo>
                <a:lnTo>
                  <a:pt x="248819" y="0"/>
                </a:lnTo>
                <a:lnTo>
                  <a:pt x="248819" y="21600"/>
                </a:lnTo>
                <a:lnTo>
                  <a:pt x="0" y="21600"/>
                </a:lnTo>
                <a:close/>
              </a:path>
              <a:path fill="lightenLess" w="248819" h="21600">
                <a:moveTo>
                  <a:pt x="0" y="0"/>
                </a:moveTo>
                <a:lnTo>
                  <a:pt x="248819" y="0"/>
                </a:lnTo>
                <a:lnTo>
                  <a:pt x="247419" y="1400"/>
                </a:lnTo>
                <a:lnTo>
                  <a:pt x="1400" y="1400"/>
                </a:lnTo>
                <a:close/>
              </a:path>
              <a:path fill="darken" w="248819" h="21600">
                <a:moveTo>
                  <a:pt x="248819" y="0"/>
                </a:moveTo>
                <a:lnTo>
                  <a:pt x="248819" y="21600"/>
                </a:lnTo>
                <a:lnTo>
                  <a:pt x="247419" y="20200"/>
                </a:lnTo>
                <a:lnTo>
                  <a:pt x="247419" y="1400"/>
                </a:lnTo>
                <a:close/>
              </a:path>
              <a:path fill="darkenLess" w="248819" h="21600">
                <a:moveTo>
                  <a:pt x="2488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419" y="20200"/>
                </a:lnTo>
                <a:close/>
              </a:path>
              <a:path fill="lighten" w="2488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Exemple de domaines d’activité : cliquer i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5"/>
          <p:cNvSpPr/>
          <p:nvPr/>
        </p:nvSpPr>
        <p:spPr>
          <a:xfrm>
            <a:off x="7956720" y="6237360"/>
            <a:ext cx="936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99"/>
                </a:solidFill>
                <a:latin typeface="Arial"/>
              </a:rPr>
              <a:t>Retour dé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6">
            <a:hlinkClick r:id="" action="ppaction://hlinkshowjump?jump=nextslide"/>
          </p:cNvPr>
          <p:cNvSpPr/>
          <p:nvPr/>
        </p:nvSpPr>
        <p:spPr>
          <a:xfrm flipH="1">
            <a:off x="7812000" y="6308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16:11:02Z</dcterms:created>
  <dc:creator/>
  <dc:description/>
  <dc:language>en-US</dc:language>
  <cp:lastModifiedBy>revellat</cp:lastModifiedBy>
  <dcterms:modified xsi:type="dcterms:W3CDTF">2010-12-05T16:04:47Z</dcterms:modified>
  <cp:revision>49</cp:revision>
  <dc:subject/>
  <dc:title>Diapositive 1</dc:title>
</cp:coreProperties>
</file>