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954A-97AF-41D7-AA8C-9331678A94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F97A-FE83-4D17-9CD0-3981D5AEBF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77F-6DDB-4CE9-8EFB-0FFFC009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EA84-CB39-4184-B135-858EF3E6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BA5-8140-44FF-83E9-30258616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67C-418F-45AF-98B7-9388C0E1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152-03F2-49CB-BD87-CF0D0752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C7D-88C4-4EA4-AF98-728D412E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85D-4E05-4236-B264-E6A9E49F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C5D8-80CE-48DC-9AB6-38BAC0D7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D1C-762D-444D-B3D1-4AE70C7E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AD4-2690-4396-A74E-29D7DB7E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A19-BF1A-436D-8CF1-BA2F95FC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836-3AB4-4C94-AC34-57681B79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C608-D53E-4AC1-91C1-6AC948456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340000" y="260280"/>
            <a:ext cx="4464000" cy="368280"/>
          </a:xfrm>
          <a:prstGeom prst="rect">
            <a:avLst/>
          </a:prstGeom>
          <a:solidFill>
            <a:srgbClr val="99ffcc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bulaire u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">
            <a:hlinkClick r:id="" action="ppaction://hlinkshowjump?jump=endshow"/>
          </p:cNvPr>
          <p:cNvSpPr/>
          <p:nvPr/>
        </p:nvSpPr>
        <p:spPr>
          <a:xfrm>
            <a:off x="3208320" y="6275520"/>
            <a:ext cx="2305080" cy="287280"/>
          </a:xfrm>
          <a:custGeom>
            <a:avLst/>
            <a:gdLst>
              <a:gd name="textAreaLeft" fmla="*/ 18360 w 2305080"/>
              <a:gd name="textAreaRight" fmla="*/ 2286720 w 23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173124" h="21600">
                <a:moveTo>
                  <a:pt x="0" y="0"/>
                </a:moveTo>
                <a:lnTo>
                  <a:pt x="173124" y="0"/>
                </a:lnTo>
                <a:lnTo>
                  <a:pt x="173124" y="21600"/>
                </a:lnTo>
                <a:lnTo>
                  <a:pt x="0" y="21600"/>
                </a:lnTo>
                <a:close/>
              </a:path>
              <a:path fill="lightenLess" w="173124" h="21600">
                <a:moveTo>
                  <a:pt x="0" y="0"/>
                </a:moveTo>
                <a:lnTo>
                  <a:pt x="173124" y="0"/>
                </a:lnTo>
                <a:lnTo>
                  <a:pt x="171724" y="1400"/>
                </a:lnTo>
                <a:lnTo>
                  <a:pt x="1400" y="1400"/>
                </a:lnTo>
                <a:close/>
              </a:path>
              <a:path fill="darken" w="173124" h="21600">
                <a:moveTo>
                  <a:pt x="173124" y="0"/>
                </a:moveTo>
                <a:lnTo>
                  <a:pt x="173124" y="21600"/>
                </a:lnTo>
                <a:lnTo>
                  <a:pt x="171724" y="20200"/>
                </a:lnTo>
                <a:lnTo>
                  <a:pt x="171724" y="1400"/>
                </a:lnTo>
                <a:close/>
              </a:path>
              <a:path fill="darkenLess" w="173124" h="21600">
                <a:moveTo>
                  <a:pt x="173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724" y="20200"/>
                </a:lnTo>
                <a:close/>
              </a:path>
              <a:path fill="lighten" w="173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our au 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651640" y="6165720"/>
            <a:ext cx="194472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179280" y="6165720"/>
            <a:ext cx="8785440" cy="503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79280" y="189000"/>
            <a:ext cx="244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ide de l’entretien professi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684360" y="782640"/>
            <a:ext cx="784836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NI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 : Accord National Interprofessionnel signé par les partenaires socia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LOI 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: Loi du 04/05/2004, loi du 24/11/2009, elles reprennent en grandes parties les ANI sauf quelques dispositions notamment elles ne reprennent pas l’entretien professionnel dans sa globalit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CCORD DE BRANCH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 : Accord d’organisations syndicales d’un secteur profession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ELIGIBILITE :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Aptitude à être élu (critères d’accès : âge, ancienneté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OPCA 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: Organisme collecteur de la branche métier (Organisme Paritaire Collecteur Agré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FONGECIF 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rganisme interprofessionnel de financement pour le CIF et autres dispositifs de formation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IF :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Congé Individuel de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IF 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: Droit Individuel à la formation  (à l’initiative du salari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ontrat de professionnalisation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 : contrat d’insertion en alter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ériode de professionnalisation 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ériode à définir permettant l’acquisition d’une qualification ou d’une certification professionnelle (accès à un public prioritai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ilan de compétences 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nalyse des compétences professionnelles et personnelles, des aptitudes pour définir un projet professionnel. Ce bilan est réalisé par un organisme habilit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VAE :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Validation des acquis de l’expé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lan de formation 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ctions d’adaptation au poste de travail, de maintien dans l’emploi, ou développement des compétences. Ce plan de formation est élaboré et suivi par la personne en charge de la 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Allocation formation :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Somme versée durant les heures de formation hors temps de trav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Bilan d’étape professionnel :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Rencontre professionnelle entre le salarié et l’employeur, à l’initiative du salarié, permettant de définir des objectifs de 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6:11:02Z</dcterms:created>
  <dc:creator/>
  <dc:description/>
  <dc:language>en-US</dc:language>
  <cp:lastModifiedBy>revellat</cp:lastModifiedBy>
  <dcterms:modified xsi:type="dcterms:W3CDTF">2010-12-05T16:05:56Z</dcterms:modified>
  <cp:revision>17</cp:revision>
  <dc:subject/>
  <dc:title>Diapositive 1</dc:title>
</cp:coreProperties>
</file>