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jpeg" ContentType="image/jpeg"/>
  <Override PartName="/ppt/media/image3.png" ContentType="image/pn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06C-90E2-4868-9947-532ADC21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47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8F4-83F9-44D5-A503-C820D306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7671-73F1-4206-B120-2E03880E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E80-D412-4C2B-972B-0C6D038A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BBA8-79FE-469E-981D-8BA3B1B6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E6D2-5E86-413B-A31A-AEF74A6C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B52B-893D-425D-AF8B-A4484FD3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8E1C-968A-418F-9584-645C9431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0E4C-4CF0-43D7-AD5E-3883C1EF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BBCC-8FD3-4CB4-8D48-4DADB67F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6C63-D6F6-4CEB-82FE-9754899A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4F8-736A-40B7-B82A-116E751E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936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3BD6-95B1-422D-884A-FBDBFE76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B684-0275-48A7-BE96-B1A2E417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6680" y="4047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ED0D-B5E3-485A-9439-81A4F4CE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936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4F29-5383-4B60-803B-69CE7A1A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668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468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232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DFF6-0AF5-4914-9E82-80701473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D07-2D2B-4854-BC7F-A8071636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09A-39E4-4E23-AE80-44E6889E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3D4-DC52-49BB-B2C8-0C89651C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DA6-290F-46D2-B186-AC6EC91B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5D41-18B0-4332-B738-56AB6ADF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D505-872A-4194-8BE4-9860E56A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1A7-7401-4CF1-8228-62870A6D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8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e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B335-F5E9-4FE8-88E2-97FA9637D25A}" type="datetime">
              <a:rPr b="0" lang="fr-FR" sz="1400" spc="-1" strike="noStrike">
                <a:solidFill>
                  <a:srgbClr val="009e8c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9000" y="64134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9e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&lt;footer&gt;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www.khepri.biz   Le Changement harmo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9e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51BE-F05B-4BE9-8719-0B0164E879FC}" type="slidenum">
              <a:rPr b="0" lang="fr-FR" sz="2400" spc="-1" strike="noStrike">
                <a:solidFill>
                  <a:srgbClr val="009e8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3" marL="1712880" indent="-228600">
              <a:spcBef>
                <a:spcPts val="799"/>
              </a:spcBef>
              <a:buClr>
                <a:srgbClr val="1f408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8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e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1418-7319-4EC4-9EF9-9AD6FDB83FF2}" type="datetime">
              <a:rPr b="0" lang="fr-FR" sz="1400" spc="-1" strike="noStrike">
                <a:solidFill>
                  <a:srgbClr val="009e8c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29000" y="64008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9e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&lt;footer&gt;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www.khepri.biz  Le Changement harmo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2296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9e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8B9A-2C37-4789-B175-110ACBF8B1C3}" type="slidenum">
              <a:rPr b="0" lang="fr-FR" sz="2400" spc="-1" strike="noStrike">
                <a:solidFill>
                  <a:srgbClr val="009e8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081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08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1f4081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08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08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08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08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e8c"/>
                </a:solidFill>
                <a:latin typeface="Arial"/>
              </a:rPr>
              <a:t>SOCIÉTÉ KHEPRI</a:t>
            </a:r>
            <a:r>
              <a:rPr b="1" lang="fr-FR" sz="4000" spc="-1" strike="noStrike" baseline="30000">
                <a:solidFill>
                  <a:srgbClr val="009e8c"/>
                </a:solidFill>
                <a:latin typeface="Times New Roman"/>
              </a:rPr>
              <a:t>®</a:t>
            </a:r>
            <a:endParaRPr b="0" lang="en-US" sz="40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002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Le Changement Harmonique</a:t>
            </a:r>
            <a:r>
              <a:rPr b="1" lang="fr-FR" sz="3200" spc="-1" strike="noStrike" baseline="30000">
                <a:solidFill>
                  <a:srgbClr val="1f4081"/>
                </a:solidFill>
                <a:latin typeface="Times New Roman"/>
              </a:rPr>
              <a:t>®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657600"/>
            <a:ext cx="7543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Diagnostic et solutions en Relations Humain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e8c"/>
                </a:solidFill>
                <a:latin typeface="Arial"/>
              </a:rPr>
              <a:t>Société spécialisée en accompagnement du changement des individus et des équipes dans une démarche systémiqu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9468-732C-449C-B7C8-352D6D7F9B3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E6633DD-8CC9-43BB-B2DA-7E619080BB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Domaines d’interventions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Cohésion d’équip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erformance personnell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Conduite du changemen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Communication dans l’entrepris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Organisation et système de management</a:t>
            </a:r>
            <a:br>
              <a:rPr sz="2400"/>
            </a:b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de la qualité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Nouvelle orientation stratégiqu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Coaching de dirigean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ccompagnement de proje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ccompagnement de force de vent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Mise en œuvre plan de forma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Gestion prévisionnelle des emplois et des compétenc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BC8-E759-4609-9382-B692D73446F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E8D93-BF40-4DAB-846F-57346831A1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e8c"/>
                </a:solidFill>
                <a:latin typeface="Arial"/>
              </a:rPr>
              <a:t>Processus de transformation et d’évolution pour créer de la valeur, anticiper les changements et y faire face sur le plan économique et social</a:t>
            </a:r>
            <a:endParaRPr b="0" lang="en-US" sz="18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4111560"/>
            <a:ext cx="5638680" cy="257400"/>
          </a:xfrm>
          <a:prstGeom prst="rightArrow">
            <a:avLst>
              <a:gd name="adj1" fmla="val 44167"/>
              <a:gd name="adj2" fmla="val 351008"/>
            </a:avLst>
          </a:prstGeom>
          <a:solidFill>
            <a:srgbClr val="fac164"/>
          </a:solidFill>
          <a:ln w="9360">
            <a:solidFill>
              <a:srgbClr val="fac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057400" y="3863880"/>
            <a:ext cx="5562720" cy="276480"/>
          </a:xfrm>
          <a:prstGeom prst="rightArrow">
            <a:avLst>
              <a:gd name="adj1" fmla="val 32648"/>
              <a:gd name="adj2" fmla="val 305150"/>
            </a:avLst>
          </a:pr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1930320"/>
            <a:ext cx="1600200" cy="1905120"/>
          </a:xfrm>
          <a:prstGeom prst="ellipse">
            <a:avLst/>
          </a:prstGeom>
          <a:solidFill>
            <a:srgbClr val="d0fcd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Parcour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4673520"/>
            <a:ext cx="1447920" cy="1767240"/>
          </a:xfrm>
          <a:prstGeom prst="rect">
            <a:avLst/>
          </a:prstGeom>
          <a:solidFill>
            <a:srgbClr val="d0fcd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e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Impac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immédia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émergence de la vision et des valeurs avec effets moyen et long terme sur la cultu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d’entrepri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4676760"/>
            <a:ext cx="1523880" cy="1585800"/>
          </a:xfrm>
          <a:prstGeom prst="rect">
            <a:avLst/>
          </a:prstGeom>
          <a:solidFill>
            <a:srgbClr val="fbffa8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e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Retour sur investissement de la formation par l’intégration grâce aux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télé-formation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4673520"/>
            <a:ext cx="1523880" cy="1159560"/>
          </a:xfrm>
          <a:prstGeom prst="rect">
            <a:avLst/>
          </a:prstGeom>
          <a:solidFill>
            <a:srgbClr val="d3d6f9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e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Pérennité, viabilité et flexibilité face aux changement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673520"/>
            <a:ext cx="1600200" cy="1585800"/>
          </a:xfrm>
          <a:prstGeom prst="rect">
            <a:avLst/>
          </a:prstGeom>
          <a:solidFill>
            <a:srgbClr val="b4f2f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e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Amélioration continue des processus et valorisation des compétences individuelles et collective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930320"/>
            <a:ext cx="1600200" cy="1905120"/>
          </a:xfrm>
          <a:prstGeom prst="ellipse">
            <a:avLst/>
          </a:prstGeom>
          <a:solidFill>
            <a:srgbClr val="fbffa8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Plu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1930320"/>
            <a:ext cx="1600200" cy="1905120"/>
          </a:xfrm>
          <a:prstGeom prst="ellipse">
            <a:avLst/>
          </a:prstGeom>
          <a:solidFill>
            <a:srgbClr val="d3d6f9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en mod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proje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1930320"/>
            <a:ext cx="1600200" cy="1905120"/>
          </a:xfrm>
          <a:prstGeom prst="ellipse">
            <a:avLst/>
          </a:prstGeom>
          <a:solidFill>
            <a:srgbClr val="b4f2f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par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la qualité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006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Résultats interne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91176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SALARI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39117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CLIENT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2400" y="2724120"/>
            <a:ext cx="1219320" cy="77868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9e8c"/>
                </a:solidFill>
                <a:latin typeface="Arial"/>
              </a:rPr>
              <a:t>Croissance de l’entreprise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727360"/>
            <a:ext cx="1218960" cy="778680"/>
          </a:xfrm>
          <a:prstGeom prst="rect">
            <a:avLst/>
          </a:prstGeom>
          <a:solidFill>
            <a:srgbClr val="009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bffa8"/>
                </a:solidFill>
                <a:latin typeface="Arial"/>
              </a:rPr>
              <a:t>Implication des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bffa8"/>
                </a:solidFill>
                <a:latin typeface="Arial"/>
              </a:rPr>
              <a:t>équipes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29264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Reconnaissanc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Motivatio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Intelligence collectiv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292640"/>
            <a:ext cx="160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Satisfactio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Fidélisatio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Image sur le marché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914400"/>
            <a:ext cx="1447920" cy="946440"/>
          </a:xfrm>
          <a:prstGeom prst="rect">
            <a:avLst/>
          </a:prstGeom>
          <a:solidFill>
            <a:srgbClr val="f3d7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Champs d’intervention technique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de Khépr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8280" y="501480"/>
            <a:ext cx="6324840" cy="2165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05720" y="2209680"/>
            <a:ext cx="152280" cy="152640"/>
          </a:xfrm>
          <a:prstGeom prst="smileyFace">
            <a:avLst>
              <a:gd name="adj" fmla="val 9282"/>
            </a:avLst>
          </a:prstGeom>
          <a:solidFill>
            <a:srgbClr val="ffea1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28600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ffea1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2209680"/>
            <a:ext cx="152640" cy="152640"/>
          </a:xfrm>
          <a:prstGeom prst="smileyFace">
            <a:avLst>
              <a:gd name="adj" fmla="val 9282"/>
            </a:avLst>
          </a:prstGeom>
          <a:solidFill>
            <a:srgbClr val="ffea1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190512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ffea1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914400"/>
            <a:ext cx="1600200" cy="946440"/>
          </a:xfrm>
          <a:prstGeom prst="rect">
            <a:avLst/>
          </a:prstGeom>
          <a:solidFill>
            <a:srgbClr val="d0fcd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Cohésion d’équipes et communication intern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914400"/>
            <a:ext cx="1447920" cy="946440"/>
          </a:xfrm>
          <a:prstGeom prst="rect">
            <a:avLst/>
          </a:prstGeom>
          <a:solidFill>
            <a:srgbClr val="fbffa8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Formation et maintient des valeurs de l’entrepris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914400"/>
            <a:ext cx="1447920" cy="946440"/>
          </a:xfrm>
          <a:prstGeom prst="rect">
            <a:avLst/>
          </a:prstGeom>
          <a:solidFill>
            <a:srgbClr val="d3d6f9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Démarrage, poursuite et aboutissement d’un proj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914400"/>
            <a:ext cx="1447560" cy="946440"/>
          </a:xfrm>
          <a:prstGeom prst="rect">
            <a:avLst/>
          </a:prstGeom>
          <a:solidFill>
            <a:srgbClr val="b4f2f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La performance face à la concurrenc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12952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836e"/>
                </a:solidFill>
                <a:latin typeface="Arial"/>
              </a:rPr>
              <a:t>Valeur ajouté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2400" y="19810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Résultats externe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5715000"/>
            <a:ext cx="1447920" cy="733320"/>
          </a:xfrm>
          <a:prstGeom prst="rect">
            <a:avLst/>
          </a:prstGeom>
          <a:solidFill>
            <a:srgbClr val="fac16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Avantages pour nos client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6BF1-2562-4AFF-B14F-48DB1D22CCD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3045C58-B53B-47A1-82F1-99F02BC916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Nos produits phares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Manager Plus </a:t>
            </a:r>
            <a:r>
              <a:rPr b="1" lang="fr-FR" sz="1200" spc="-1" strike="noStrike">
                <a:solidFill>
                  <a:srgbClr val="1f4081"/>
                </a:solidFill>
                <a:latin typeface="Arial"/>
              </a:rPr>
              <a:t>TM</a:t>
            </a: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Parcours </a:t>
            </a:r>
            <a:r>
              <a:rPr b="1" lang="fr-FR" sz="1200" spc="-1" strike="noStrike">
                <a:solidFill>
                  <a:srgbClr val="1f4081"/>
                </a:solidFill>
                <a:latin typeface="Arial"/>
              </a:rPr>
              <a:t>TM</a:t>
            </a: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Management des équipes en mode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projet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Management par la qualité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176-B8C8-4096-9A21-1F752EA660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F506D-080C-436D-BF7C-34E1C35CDE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479600"/>
            <a:ext cx="7772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Un perfectionnement au management avec l’appui de méthodes de coaching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Cibl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Un programme de formation pour responsables encadrants, managers, directeurs de réseaux, dirigeants souhaitant :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Trouver leur style de leadership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Intégrer des outils et un questionnement utilisés par des coachs professionnel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Inspirer l’auto-motivation de leurs collaborateur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Renforcer l’organisation en valorisant la performance de chacu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Transformer le capital social en avantage concurrenti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6FA-A922-43B9-B826-4A53BE31E9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8101A-8B59-46B3-BB9D-4FD2A22E0E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Objectifs de la format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6 mois d’accompagnement personnalisé pour :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Augmenter la crédibilité des hiérarchiques et pérenniser leur dynamique managériale,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Affirmer leur leadership en développant les synergies et la cohésion de leur équipe,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Motiver leurs collaborateurs autour de projets concrets ambitieux et réalistes,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Élever les performances de leur équipe en suscitant plaisir à travailler et désir de réussir,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Prévenir et résoudre durablement les conflits,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Maîtriser les techniques de pilotage afin d’optimiser l’efficacité et la fiabilité individuelle et collective,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Renforcer confiance, estime et affirmation de soi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1D3-BD78-4C9C-BB17-75306AB4244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2EA2D-0642-4CFE-B3DC-57C3A83A80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Valeur ajoutée pour l’entrepris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ssurer la rentabilité de vos investissements en forma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lus de productivité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Baisse du turn over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ugmentation du CA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Les sociétés qui ont déjà fait confiance à ce programme de formation :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Groupe CIC, Banques populaires, Crédit Mutuel, Groupe Mulliez, la Mondiale, France 5, GDF, DH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528-EA3A-460C-A5F7-B2BDE49957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018DC-0904-4D79-9B6D-F1D2866FF5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Organisation de la format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Programme de formation d’une durée de 6 mois comprenant :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3 séminaires résidentiels de 3 jour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8 séances de téléformation entre chaque séminaire, d’une heure par semaine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8 séances, d’1 heure de supervision par quinzain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24 séances de coaching assurées par les masters du réseau (optionnelles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Taille des groupes : de 15 à 40 personnes, et ateliers expérentiels en petites équip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CB4A-6469-4A7E-95FC-E4BEDDE096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7BA00-84E9-4264-B1C7-110CA7EC18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Stratégi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Concept intégration” :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Pas de formation sans téléformation !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Formation en salle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 (résidentiel)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Alternance d’apports théoriques, de démonstrations et d’exercices pratiques sous forme d’ateliers favorisant l’intégration par l’action, chaque atelier faisant l’objet de supervision et de débriefing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Téléforma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a téléformation complète l’apport théorique pour intégrer tous les aspects du métier de manager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DAE-1216-4BDD-A428-1561132BA4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46F82-D70B-4F6A-A9E9-53E399626B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Supervis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Focalisation sur la mise en application sur le terrain du contenu de la formation. Mise en commun d’expériences, partage et recadrage.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ermet de travailler sur son évolution personnelle : sa qualité relationnelle, son style de leadership, ses responsabilités, la cohérence de ses actions et prises de décisions, son efficacité, sa disponibilité.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89A-F850-4399-8127-9EA0D2FEEC8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E6257-260E-4EA6-A6BB-14EE48CED0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Parcours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Un regard nouveau</a:t>
            </a: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sur l’ingénierie</a:t>
            </a:r>
            <a:br>
              <a:rPr sz="2800"/>
            </a:b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d’évènements pédagogiques pour accompagner le chang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On me dit, j’oublie. </a:t>
            </a:r>
            <a:br>
              <a:rPr sz="2800"/>
            </a:b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On me montre, je me souviens. </a:t>
            </a:r>
            <a:br>
              <a:rPr sz="2800"/>
            </a:b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On m’implique, j’apprends…”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Une</a:t>
            </a:r>
            <a:r>
              <a:rPr b="1" i="1" lang="fr-FR" sz="28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démarche systémique au cœur de l’entreprise en prise directe avec ses réalité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26E-751E-4AEB-8924-BC9A41B8BDB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9373A-84E6-4787-8781-A9B73A86F6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Le Changement Harmonique</a:t>
            </a:r>
            <a:r>
              <a:rPr b="1" lang="fr-FR" sz="3600" spc="-1" strike="noStrike" baseline="30000">
                <a:solidFill>
                  <a:srgbClr val="009e8c"/>
                </a:solidFill>
                <a:latin typeface="Times New Roman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259092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Surfer sur la vague du changemen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Le changement comme vecteur de performanc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Vous avez la partition, nous vous aidons à la mettre en musique et à trouver les instrument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de votre performance</a:t>
            </a:r>
            <a:r>
              <a:rPr b="0" lang="fr-FR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B5A4-A4F0-4EBA-9723-B321C3739A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632C7EE-C60A-4B0D-A8B9-DCBEFACEA4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Parcours, pour quelles raisons ?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Champs d’applica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onventions, forums, séminaires, kick-off,</a:t>
            </a:r>
            <a:br>
              <a:rPr sz="2000"/>
            </a:b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lancement de projets stratégiques…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Objectif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Faire gagner du temps, de l’énergie et du mieux-être à l’entreprise dans les périodes charnières :</a:t>
            </a:r>
            <a:br>
              <a:rPr sz="2000"/>
            </a:b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Parcours est un accélérateur de chang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Stratégi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Tous les collaborateurs sont acteurs et mobilisé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ommunication interactiv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ise en scène de façon attrayante et concrèt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A38-E0AE-43B2-A27D-0D165FECBA9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71E17-303F-45B8-AFCB-E70E39EE1D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Parcours, pour quelles raisons ?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Valeur ajoutée pour l’entrepris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voir un impact durable et immédiat sous 48 H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Etre en phase avec les préoccupations</a:t>
            </a: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ctuelles :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Rapidité - mobilité - changement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ontée en puissance des individu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Les sociétés qui ont déjà fait confiance à ce programme de formation :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ventis, Schneider…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0D7-71EF-4AC3-B93E-4281FEFA482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9B7E8-AE53-4F7B-8CEB-BE0FE45CB0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Caractéristiques de Parcours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Organisation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Durée : 1 à 2 jour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Lieu : Différents sites thématiqu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Nombre de personnes : 50 à 250 personn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Circulation : “nomadisme organisé”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Scénographie attrayante et créativ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Animation : consultant “chef d’orchestre” et équipe d’animation interne de préférenc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E36-2515-4398-9004-BEC1B227151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D7A69-82EA-42E7-A2DB-E2F940D78B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Ses caractéristiques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Approche basée sur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Organisation apprenant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Intelligence collectiv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Quotient émotionn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pproche participativ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Intran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Logiciels sur mesur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équences enregistrées de vidéo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09C-B6BE-4401-9438-0E21918C0BF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FC902-F5E6-4B29-AC4F-D69C89A073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ise-en-œuvre en co-production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Fort investissement en amont par la constitution</a:t>
            </a:r>
            <a:br>
              <a:rPr sz="2000"/>
            </a:b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’un groupe de travai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Direction général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Direction de la communication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Direction des Ressources Humaine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Direction de la formation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Chefs de projet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éfinition des thèmes clé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Elaboration et validation des contenu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Validation des modalités d’anima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Tests, groupe miroi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E2A-40A3-4EC1-875B-076EFD320B5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F6626-227A-40BF-94A8-004B336938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Les facteurs clés de réussite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réer un partenariat étroit avec la Direction de l’Entreprise pour préparer l’évènement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ssurer une cohérence entr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a production de l’évén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a culture de l’entrepris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a progression pédagogiqu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es moyens technologiqu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rquer les esprits par une réalisation innovante et ambitieuse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îtriser les temps et les espac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ssocier Parcours et sa dimens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“</a:t>
            </a: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irect-live” à la communication globale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4D2-F7D2-42E6-8F17-9B68C66E15F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2A267-2AC7-49A5-8C92-84D0AB4F86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 en mode proje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Champs d’application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’accompagnement du chang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’assurance qualité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e marketing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a vent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’organisat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e manag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FAC-2001-490C-86FB-B106C00CD03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889FD-8AA6-4A54-AB06-D949CAF465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 en mode proje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Objectif </a:t>
            </a:r>
            <a:r>
              <a:rPr b="0" lang="fr-FR" sz="2800" spc="-1" strike="noStrike">
                <a:solidFill>
                  <a:srgbClr val="009e8c"/>
                </a:solidFill>
                <a:latin typeface="Arial"/>
              </a:rPr>
              <a:t>(au niveau individuel ou d’une équipe)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Découvrir deux modes d’apprentissage, que sont la modélisation et la métaphore symbolique pour :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Mettre en œuvre des stratégies de chang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Savoir identifier ses ressources internes à soi-même permettant l’atteinte de ses objectifs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Se donner des critères de réussite et les hiérarchis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Prendre facilement des décision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Se donner les moyens de ses enjeux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Se mettre en ac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Corriger le tir en avança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045-96D3-4209-B1E2-A84C3A42D8B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F07AF-1937-4FF4-B9E8-E7B54334FE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 en mode proje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Organisation</a:t>
            </a: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de la format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Durée du stage : 2 jour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Lieu : en résidentie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Nombre de personnes : 10 à 12 personn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7E6-EE35-48C0-9416-F401DF3825C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24CFA-D0E0-4E87-896A-B292D0FBE5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 en mode proje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Valeur ajoutée pour les individus et l’entrepris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84b81"/>
                </a:solidFill>
                <a:latin typeface="Arial"/>
              </a:rPr>
              <a:t>Vous aider à développer une vision commune dans vos équipes et atteindre une meilleure cohérence dans l’action.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84b81"/>
                </a:solidFill>
                <a:latin typeface="Arial"/>
              </a:rPr>
              <a:t>Obtenir des résultats concrets pour 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Développer son activité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Améliorer sa façon de communiquer avec ses collaborateur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Résoudre des problèm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Préparer des réunions important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Conduire efficacement un proj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C8C-0685-4A90-B36A-1478EDABF0D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40FD3-9D01-4E58-89D9-B96C2D3D3F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Style d’entreprise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Une société du 21ème siècl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pprenant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Organisée en réseau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Engagée auprès de ses clients (cf. charte déontologique p.40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Qui allie éthique, intégrité, passion, exigence, humanisme et performanc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1f408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E1D-781C-451E-8FF6-C486A17A4F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E1F54-5AAD-4E42-9B00-0030D16004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ment par la qualité</a:t>
            </a:r>
            <a:br>
              <a:rPr sz="3200"/>
            </a:b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e8c"/>
                </a:solidFill>
                <a:latin typeface="Arial"/>
              </a:rPr>
              <a:t>Objectif</a:t>
            </a: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évelopper la performance de l'entreprise et la conduire sur un mode d'amélioration continu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ccompagnement de l'entreprise jusqu'au niveau de la Certification ISO 9001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e8c"/>
                </a:solidFill>
                <a:latin typeface="Arial"/>
              </a:rPr>
              <a:t>Stratégi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lanification, Analyse stratégique et Systémique, Mission et Vision (BSC) aide à l'identification et gestion des processus (cartographie, interface et interaction), paramétrage, Assistance et Accompagnement et mise en place des tableaux de bord et plans d'action pour l'amélioration continue de l'Organism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e8c"/>
                </a:solidFill>
                <a:latin typeface="Arial"/>
              </a:rPr>
              <a:t>Système d'informa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Spécifications fonctionnelles, Opérationnelles, Normatives références AFNOR</a:t>
            </a:r>
            <a:endParaRPr b="0" lang="en-US" sz="16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EBEF-943D-45B0-B476-F6D8A8A4577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4200A-5E76-42E6-AB43-FCA2FCF22D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124080" y="1371600"/>
            <a:ext cx="2895840" cy="1143000"/>
            <a:chOff x="3124080" y="1371600"/>
            <a:chExt cx="2895840" cy="1143000"/>
          </a:xfrm>
        </p:grpSpPr>
        <p:sp>
          <p:nvSpPr>
            <p:cNvPr id="198" name=""/>
            <p:cNvSpPr/>
            <p:nvPr/>
          </p:nvSpPr>
          <p:spPr>
            <a:xfrm>
              <a:off x="3124080" y="1371600"/>
              <a:ext cx="2895840" cy="114300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66080" y="1563840"/>
              <a:ext cx="21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2a3d7a"/>
                  </a:solidFill>
                  <a:latin typeface="Arial"/>
                </a:rPr>
                <a:t>Entreprise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200" y="32767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009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96080" y="335268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009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87080" y="3022560"/>
            <a:ext cx="6366600" cy="3506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Objectifs court, moyen, long ter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Stratég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Organisa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Ressources inter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Ressources exter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ment par la qualité</a:t>
            </a:r>
            <a:br>
              <a:rPr sz="3200"/>
            </a:b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6320" y="1371600"/>
            <a:ext cx="2895480" cy="1143000"/>
            <a:chOff x="76320" y="1371600"/>
            <a:chExt cx="2895480" cy="1143000"/>
          </a:xfrm>
        </p:grpSpPr>
        <p:sp>
          <p:nvSpPr>
            <p:cNvPr id="205" name=""/>
            <p:cNvSpPr/>
            <p:nvPr/>
          </p:nvSpPr>
          <p:spPr>
            <a:xfrm>
              <a:off x="76320" y="1371600"/>
              <a:ext cx="2895480" cy="114300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280" y="1563840"/>
              <a:ext cx="2754720" cy="581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2a3d7a"/>
                  </a:solidFill>
                  <a:latin typeface="Arial"/>
                </a:rPr>
                <a:t>Fournisseurs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172200" y="1371600"/>
            <a:ext cx="2895480" cy="1143000"/>
            <a:chOff x="6172200" y="1371600"/>
            <a:chExt cx="2895480" cy="1143000"/>
          </a:xfrm>
        </p:grpSpPr>
        <p:sp>
          <p:nvSpPr>
            <p:cNvPr id="208" name=""/>
            <p:cNvSpPr/>
            <p:nvPr/>
          </p:nvSpPr>
          <p:spPr>
            <a:xfrm>
              <a:off x="6172200" y="1371600"/>
              <a:ext cx="2895480" cy="11430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6400" y="1616040"/>
              <a:ext cx="1535400" cy="581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2a3d7a"/>
                  </a:solidFill>
                  <a:latin typeface="Arial"/>
                </a:rPr>
                <a:t>Clients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H="1">
            <a:off x="1523880" y="2514600"/>
            <a:ext cx="1524240" cy="457200"/>
          </a:xfrm>
          <a:prstGeom prst="line">
            <a:avLst/>
          </a:prstGeom>
          <a:ln w="255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5880" y="2514600"/>
            <a:ext cx="1524240" cy="457200"/>
          </a:xfrm>
          <a:prstGeom prst="line">
            <a:avLst/>
          </a:prstGeom>
          <a:ln w="255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25909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F4A-9F01-4745-80ED-0902778887D9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F3048-8D5A-4E24-8963-995CC78E54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Revue et optimisation des paramètres d’organisation au niveau individue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escription de post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Objectif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Indicateurs de suivi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xes d’amélioration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Revue et optimisation des paramètres d’organisation global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Zones de recouvrement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Zones non-couverte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éveloppement de process de backup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rocess d’escalade et gestion des non-conformité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uivi des indicateurs, tableaux de bord et plans d’action en cas de non-atteinte de l’objectif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ment par la qualité</a:t>
            </a:r>
            <a:br>
              <a:rPr sz="3200"/>
            </a:b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ou la performance humaine</a:t>
            </a: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1AD-014D-4BA6-A101-7D75C9AF419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C6CC7-B2B9-48FA-88D0-E1304A2A8B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Valeur ajoutée pour l'entrepris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Amélioration continue de la performance, développement et amélioration de la compétence, maîtrise, conformité et niveau de certification du Système de Management de l'Entreprise, accès à de nouveaux marchés, développement du chiffre d’affaire, développement du profit opérationnel.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15800" indent="-41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Les sociétés qui ont déjà fait confiance à cette démarche :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Logistique : VPC Bruneau, Raja - Sté de Génie Génétique Genodyssé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Publicité et Mktg Direct : Infoflash - Mécanique Générale: Acmel, Sorel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Aménagement d'Entreprise: Mécanobloc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Stés de Négoce : Ellexcience, Géca technique, SM Galtié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Collecte 1% patronal: Solendi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Bâtimen : Franco-Suiss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Intérim : VédiorBis, Expectra France 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Imprimerie: Seic…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ment par la qualité</a:t>
            </a:r>
            <a:br>
              <a:rPr sz="3200"/>
            </a:b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63A-00E1-4DCF-9600-42C641DF840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8C8D6-7506-4923-8147-6096E050E1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Formations thématiques - </a:t>
            </a: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PME-PMI</a:t>
            </a: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8102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nagement du chang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évelopper ses capacités managérial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Induire le chang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Générer du temp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Organiser une réun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Parler en public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avoir communiqu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Gérer les conflit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Bien se connaîtr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Transmission des compétenc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nagement Force de Vent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76920" y="1828800"/>
            <a:ext cx="396216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iriger une équip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avoir délégu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avoir motiv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avoir négoci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Prendre facilement des décision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Le stress positif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onduire un proj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nagement &amp; NTIC (ou management à distantce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Plus de leadership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Les entretiens professionnels du Manag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295280"/>
            <a:ext cx="78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Toutes ces formations commencent par un module : Bien se connaîtr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0DC-22A1-4BC3-9532-89CDBC3D8D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56C8D-0770-478B-866E-134942FDF4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Formations thématiques - </a:t>
            </a: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TPE</a:t>
            </a: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Le type de mon entrepris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Créer les conditions de l'auto-motiva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Valoriser son intui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Savoir s’entour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Prendre facilement des décision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Faire émerger ses capacités commercial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Une image pour mon proj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onduire un proj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Générer du temp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Le stress positif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Gérer les conflit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Parler en public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225-E9EB-4735-953E-C9B3E306F55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B374D-EB10-4331-AC37-14B9F7A632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Organisation de travail Khépri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Cellules de travail internes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Recherche et développ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Pour toujours plus de créativité et d’adaptation pour nos clients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0A5-BC1C-4858-BD74-7495E1E7104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8387F-6001-4476-A606-8B06E80933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Ingénierie de formation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Mise en place de sessions de formation 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daptation de contenus pédagogique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nimation des formation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Constitution de ressources techniques et humaines sur nos produit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Téléformation, supervision, coaching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619-31E0-4BB9-8C95-F3802FADA58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86CB3-F3CE-47C9-83AD-B02B462CF7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Recherche et développemen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Créativité et innovation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ccroître notre capacité d’auto-formation en tant qu’entreprise apprenant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telier de recherche sur des compétences croisées 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telier d’improvisation théâtral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Techniques d’intervention ludique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74D-EDA6-4F34-9FD4-6A61195BB261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90AFF-3B5F-4379-B27D-3CFB830069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Charte qualité rigoureuse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Coaching City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(réseau actifs de coachs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Un cadre de référence de notre profession par lequel nous nous engageaons à respecter les règles déontologiques établies par notre réseau :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Formation constante, supervis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Engagement pénal à ne pas adhérer à un mouvement sectaire (MIVILUDES)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ssurance professionnelle spécifiqu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arfaite et totale confidentialité 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761-7228-436E-BCAA-0139686C4F6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DCC1D-3240-43E9-B6C5-0B2BC709DB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Vocation de Khépri</a:t>
            </a:r>
            <a:r>
              <a:rPr b="1" lang="fr-FR" sz="3600" spc="-1" strike="noStrike">
                <a:solidFill>
                  <a:srgbClr val="009e8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Créer de la valeur ajouté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Faciliter les mutations technologiques, organisationnelles et culturell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sécuriser les étapes d'évolu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Utiliser l’instabilité économique comme catalyseur de motivation dans l’entrepris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ccepter la nouveauté en développant la créativité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Responsabiliser les équip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ratiquer une communication ouvert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Renforcer le leadership de chacu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AA0-53A6-4376-8BD8-7B9FDE04739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3F483-F386-4D19-8EA6-C61BE852B3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Organisation de la société</a:t>
            </a: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581280"/>
            <a:ext cx="1905120" cy="1905120"/>
          </a:xfrm>
          <a:prstGeom prst="triangle">
            <a:avLst>
              <a:gd name="adj" fmla="val 50000"/>
            </a:avLst>
          </a:prstGeom>
          <a:solidFill>
            <a:srgbClr val="fce8c3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209680"/>
            <a:ext cx="1600200" cy="1067040"/>
          </a:xfrm>
          <a:prstGeom prst="rect">
            <a:avLst/>
          </a:prstGeom>
          <a:solidFill>
            <a:srgbClr val="fce7c3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de ven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1676520"/>
            <a:ext cx="2286000" cy="1295280"/>
          </a:xfrm>
          <a:prstGeom prst="rect">
            <a:avLst/>
          </a:prstGeom>
          <a:solidFill>
            <a:srgbClr val="fce8c3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2362320"/>
            <a:ext cx="1600200" cy="1066680"/>
          </a:xfrm>
          <a:prstGeom prst="rect">
            <a:avLst/>
          </a:prstGeom>
          <a:solidFill>
            <a:srgbClr val="fdecc9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d7a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d7a"/>
                </a:solidFill>
                <a:latin typeface="Arial"/>
              </a:rPr>
              <a:t>&amp; Forma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18288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Recherc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&amp; Développemen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4755800">
            <a:off x="5421960" y="295956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7604400">
            <a:off x="3287880" y="29595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152388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737600">
            <a:off x="2361600" y="14472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6560" y="4767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Co-équipier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Khépri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589400">
            <a:off x="6095880" y="548604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3d7a"/>
                </a:solidFill>
                <a:latin typeface="Arial"/>
              </a:rPr>
              <a:t>Réseau professionn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08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3760" y="3274920"/>
            <a:ext cx="253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Accompagnemen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d’équipes commercial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sur le terrai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50532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081"/>
                </a:solidFill>
                <a:latin typeface="Arial"/>
              </a:rPr>
              <a:t>Manager Coach Training </a:t>
            </a:r>
            <a:r>
              <a:rPr b="1" lang="fr-FR" sz="500" spc="-1" strike="noStrike">
                <a:solidFill>
                  <a:srgbClr val="1f4081"/>
                </a:solidFill>
                <a:latin typeface="Arial"/>
              </a:rPr>
              <a:t>TM</a:t>
            </a:r>
            <a:endParaRPr b="0" lang="en-US" sz="5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081"/>
                </a:solidFill>
                <a:latin typeface="Arial"/>
              </a:rPr>
              <a:t>Modélisation et Apprentissag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87680" y="5791320"/>
            <a:ext cx="717840" cy="717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38080" y="4495680"/>
            <a:ext cx="1600200" cy="1067040"/>
          </a:xfrm>
          <a:prstGeom prst="rect">
            <a:avLst/>
          </a:prstGeom>
          <a:solidFill>
            <a:srgbClr val="c2d4ec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d7a"/>
                </a:solidFill>
                <a:latin typeface="Arial"/>
              </a:rPr>
              <a:t>Intervention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d7a"/>
                </a:solidFill>
                <a:latin typeface="Arial"/>
              </a:rPr>
              <a:t>en entrepris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680" y="1293840"/>
            <a:ext cx="29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Formations et intégra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5029200"/>
            <a:ext cx="1218960" cy="485640"/>
          </a:xfrm>
          <a:prstGeom prst="leftArrow">
            <a:avLst>
              <a:gd name="adj1" fmla="val 50000"/>
              <a:gd name="adj2" fmla="val 62750"/>
            </a:avLst>
          </a:pr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7" idx="2"/>
          </p:cNvCxnSpPr>
          <p:nvPr/>
        </p:nvCxnSpPr>
        <p:spPr>
          <a:xfrm rot="5400000">
            <a:off x="6433560" y="4255920"/>
            <a:ext cx="1458000" cy="991440"/>
          </a:xfrm>
          <a:prstGeom prst="bentConnector3">
            <a:avLst>
              <a:gd name="adj1" fmla="val 49987"/>
            </a:avLst>
          </a:prstGeom>
          <a:ln w="38160">
            <a:solidFill>
              <a:srgbClr val="009e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rot="5400000">
            <a:off x="2628000" y="3314520"/>
            <a:ext cx="2210400" cy="1524600"/>
          </a:xfrm>
          <a:prstGeom prst="bentConnector3">
            <a:avLst>
              <a:gd name="adj1" fmla="val 49991"/>
            </a:avLst>
          </a:prstGeom>
          <a:ln w="38160">
            <a:solidFill>
              <a:srgbClr val="009e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>
            <a:off x="2590920" y="2970360"/>
            <a:ext cx="4420080" cy="2160"/>
          </a:xfrm>
          <a:prstGeom prst="straightConnector1">
            <a:avLst/>
          </a:prstGeom>
          <a:ln w="38160">
            <a:solidFill>
              <a:srgbClr val="009e8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609480" y="563868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Parcours </a:t>
            </a:r>
            <a:r>
              <a:rPr b="1" lang="fr-FR" sz="600" spc="-1" strike="noStrike">
                <a:solidFill>
                  <a:srgbClr val="1f4081"/>
                </a:solidFill>
                <a:latin typeface="Arial"/>
              </a:rPr>
              <a:t>TM</a:t>
            </a:r>
            <a:endParaRPr b="0" lang="en-US" sz="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Process management de la qualité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4343400"/>
            <a:ext cx="2057400" cy="1066680"/>
          </a:xfrm>
          <a:prstGeom prst="rect">
            <a:avLst/>
          </a:prstGeom>
          <a:solidFill>
            <a:srgbClr val="c2d4ec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a3d7a"/>
                </a:solidFill>
                <a:latin typeface="Arial"/>
              </a:rPr>
              <a:t>Coach Up Institut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a3d7a"/>
                </a:solidFill>
                <a:latin typeface="Arial"/>
              </a:rPr>
              <a:t>1er institut europée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a3d7a"/>
                </a:solidFill>
                <a:latin typeface="Arial"/>
              </a:rPr>
              <a:t>de formation de coach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a3d7a"/>
                </a:solidFill>
                <a:latin typeface="Arial"/>
              </a:rPr>
              <a:t>professionnels</a:t>
            </a:r>
            <a:r>
              <a:rPr b="1" lang="fr-FR" sz="1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924680" y="5867280"/>
            <a:ext cx="1067040" cy="6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9AC-1DDE-4A04-A9D4-53CA0C27012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58578-24DE-4014-A13C-097902A4E6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a3d7a"/>
                </a:solidFill>
                <a:latin typeface="Arial"/>
              </a:rPr>
              <a:t>KHEPRI</a:t>
            </a:r>
            <a:br>
              <a:rPr sz="4000"/>
            </a:br>
            <a:r>
              <a:rPr b="1" lang="fr-FR" sz="4000" spc="-1" strike="noStrike">
                <a:solidFill>
                  <a:srgbClr val="2a3d7a"/>
                </a:solidFill>
                <a:latin typeface="Arial"/>
              </a:rPr>
              <a:t>&amp;</a:t>
            </a:r>
            <a:br>
              <a:rPr sz="4000"/>
            </a:br>
            <a:r>
              <a:rPr b="1" lang="fr-FR" sz="4000" spc="-1" strike="noStrike">
                <a:solidFill>
                  <a:srgbClr val="2a3d7a"/>
                </a:solidFill>
                <a:latin typeface="Arial"/>
              </a:rPr>
              <a:t>ses co-équipiers</a:t>
            </a:r>
            <a:endParaRPr b="0" lang="en-US" sz="40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360" y="243828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Luc Epaulard, Evelyne Revellat,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hilippe Lemaire, Béatrice Quasnik, Roger Vida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Béatrice Cuvellier, Sylvie Dubuc, Agnès Menso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Laurent Duboi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Représentent par leur expertise des domaines d’intervention</a:t>
            </a:r>
            <a:br>
              <a:rPr sz="2000"/>
            </a:b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   différents qui sont en synergie au sein de Khépri :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457200" indent="114480">
              <a:lnSpc>
                <a:spcPct val="10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Ingénieurs, spécialistes marketing ou Ressources Humaines,</a:t>
            </a:r>
            <a:br>
              <a:rPr sz="1800"/>
            </a:b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   Spécialistes des systèmes d’informations, de la qualité, du</a:t>
            </a:r>
            <a:br>
              <a:rPr sz="1800"/>
            </a:b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   management, de la pédagogie, de la communication relationnelle,</a:t>
            </a:r>
            <a:br>
              <a:rPr sz="1800"/>
            </a:b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   chefs d’entreprise.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ABFE6A7-7D83-4169-8C9B-B504425005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Notre réseau, son fonctionnemen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Fonctionnement du réseau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996120" indent="-441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Ce que nous proposons :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Un réseau structuré de co-équipiers formant une entité solid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Une vision commune de l’entrepris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Partager un challenge, des ambitions et de nouvelles expérienc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Se réaliser en tant qu’indépendant en ayant un sentiment d’appartenance à une enseign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Avoir une autonomie de fonctionnement en renforçant la synergie du group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Prendre des initiatives personnell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Développer son propre busines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ans le respect de l’éthique commercial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1D5-A41F-4562-8EA0-70AF7CF2033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5C953-D8B6-4E88-B9B7-222BC2DCC1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Interventions de Khépri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Interventions en binôme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Nous partons de la réalité de votre entrepris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Nos intervenants, experts dans leur domaine, analysent les besoins de votre organisation et de vos collaborateurs.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L’accompagnement des équipes s’inscrit dans le projet de votre entreprise en cherchant des résultats concrets.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5CB2-4644-4320-82D9-6BC2961257F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5B244-1CB0-43B7-8EB3-79DB5FF73F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Un écrin de compétences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nalyse transactionnell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nimation Jeu du TAO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PCM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(Typologie comportementale de Ned Herrmann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MBTI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(Théorie des types psychologiques de Jung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PNL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(Programmation Neuro-linguistique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Ennéagramm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Coaching vocal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Conseil en imag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Improvisation théâtral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206-5A0D-4FEB-A6D7-7396B09371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C7359-CC74-4C2C-911E-2821C300D2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00:38:52Z</dcterms:created>
  <dc:creator>GS</dc:creator>
  <dc:description/>
  <dc:language>en-US</dc:language>
  <cp:lastModifiedBy>GS</cp:lastModifiedBy>
  <cp:lastPrinted>2005-03-16T08:17:59Z</cp:lastPrinted>
  <dcterms:modified xsi:type="dcterms:W3CDTF">2005-04-04T21:14:02Z</dcterms:modified>
  <cp:revision>8</cp:revision>
  <dc:subject/>
  <dc:title>SOCIÉTÉ KHEPRI®</dc:title>
</cp:coreProperties>
</file>