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DD2-9CF9-4CDD-AD15-A0FE29F7C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CBD5-8780-41F0-98E3-E1878EBC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76DB-4929-4B37-ADB7-E9F8367F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EF8-333C-463B-915F-54BD88906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1853-2692-49FA-AB86-CC0C0012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8886-8FCA-473E-8DCF-6B28F27A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3BB-00AD-468A-99D3-2034B6FCE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538-F26F-4109-9E24-F2EB8A2D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8A5-B2A1-4714-9386-549BF57C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BCB-B12F-4409-9D62-DB7979D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CA7-D2F3-4A1E-94C1-AD4C208D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A641-2C93-42E6-B1B2-C450E900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05AA-E5C5-43D7-8CC0-C58387577DC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4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>
                <a:off x="250920" y="5013360"/>
                <a:ext cx="2233440" cy="165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250920" y="5445000"/>
              <a:ext cx="2469960" cy="10242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8000" y="154080"/>
          <a:ext cx="8928000" cy="6534000"/>
        </p:xfrm>
        <a:graphic>
          <a:graphicData uri="http://schemas.openxmlformats.org/drawingml/2006/table">
            <a:tbl>
              <a:tblPr/>
              <a:tblGrid>
                <a:gridCol w="1152360"/>
                <a:gridCol w="795600"/>
                <a:gridCol w="736560"/>
                <a:gridCol w="711000"/>
                <a:gridCol w="781200"/>
                <a:gridCol w="704880"/>
                <a:gridCol w="736560"/>
                <a:gridCol w="790560"/>
                <a:gridCol w="719280"/>
                <a:gridCol w="792000"/>
                <a:gridCol w="1008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mobi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 Z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 p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pi F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. P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C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ers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rg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vie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ou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y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llau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t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u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id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sep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gen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ém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ris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lo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g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nard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ip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l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ppol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d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v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s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sè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u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i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uth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is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s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acin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d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ylv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b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e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o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dol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d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isl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ntr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énol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u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ébas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to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e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bau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b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an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ud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wlad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im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g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ab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m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dr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s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n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thelem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gi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l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pti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ol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ug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rn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di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nd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licit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oach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li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rén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guer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l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fa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ich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m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g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ach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ha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en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ier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nço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am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m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en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et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v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sab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ono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sel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aza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b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d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l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rist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n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lo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r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s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e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ph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id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d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or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drig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er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yd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ale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b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éd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athe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et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i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omi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nab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y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Sig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Manqu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7440" y="620640"/>
            <a:ext cx="4143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COMPET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8360" y="5516640"/>
            <a:ext cx="2034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367600">
            <a:off x="2987280" y="155700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1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9152600">
            <a:off x="5867280" y="155700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04360" y="5589720"/>
            <a:ext cx="11577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92428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2293800">
            <a:off x="356364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2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6000" y="2781360"/>
            <a:ext cx="252108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l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é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9152600">
            <a:off x="521928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03640" y="40464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4360" y="2924280"/>
            <a:ext cx="252072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796000" y="2781360"/>
            <a:ext cx="2521080" cy="1584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3399"/>
              </a:gs>
              <a:gs pos="50000">
                <a:srgbClr val="bbe0e3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Sol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Décorrél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32000" y="5084640"/>
            <a:ext cx="2521080" cy="158436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152600">
            <a:off x="521928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293800">
            <a:off x="3563640" y="198864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2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2293800">
            <a:off x="5148000" y="414936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2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152600">
            <a:off x="3563640" y="4149360"/>
            <a:ext cx="287280" cy="1079640"/>
          </a:xfrm>
          <a:prstGeom prst="downArrow">
            <a:avLst>
              <a:gd name="adj1" fmla="val 50000"/>
              <a:gd name="adj2" fmla="val 93954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94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L’ANTI CR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5800" y="4365720"/>
            <a:ext cx="327744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65800" y="4365720"/>
            <a:ext cx="307476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  COMPET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21200">
            <a:off x="2987640" y="2420640"/>
            <a:ext cx="504720" cy="1297080"/>
          </a:xfrm>
          <a:prstGeom prst="downArrow">
            <a:avLst>
              <a:gd name="adj1" fmla="val 50000"/>
              <a:gd name="adj2" fmla="val 64248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5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636800">
            <a:off x="5219640" y="2421000"/>
            <a:ext cx="504720" cy="1297080"/>
          </a:xfrm>
          <a:prstGeom prst="downArrow">
            <a:avLst>
              <a:gd name="adj1" fmla="val 50000"/>
              <a:gd name="adj2" fmla="val 64248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546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7164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76120" y="5445000"/>
            <a:ext cx="29847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jetez les clients  vers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vec des solutions concrè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(Ne  pleurez pas sur le lait renvers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390800">
            <a:off x="356364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21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7164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695200">
            <a:off x="2916000" y="1268280"/>
            <a:ext cx="360360" cy="1914480"/>
          </a:xfrm>
          <a:prstGeom prst="downArrow">
            <a:avLst>
              <a:gd name="adj1" fmla="val 50000"/>
              <a:gd name="adj2" fmla="val 13281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08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924280"/>
            <a:ext cx="305928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76120" y="5445000"/>
            <a:ext cx="29847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jetez les clients  vers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vec des solutions concrè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(Ne  pleurez pas sur le lait renvers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240" y="350028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s de voyage à vide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(Un rendez-vous, une proposition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390800">
            <a:off x="356364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21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7164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10520" y="620640"/>
            <a:ext cx="4827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 COMPOR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2695200">
            <a:off x="2916000" y="1268280"/>
            <a:ext cx="360360" cy="1914480"/>
          </a:xfrm>
          <a:prstGeom prst="downArrow">
            <a:avLst>
              <a:gd name="adj1" fmla="val 50000"/>
              <a:gd name="adj2" fmla="val 13281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0806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2924280"/>
            <a:ext cx="305928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76120" y="5445000"/>
            <a:ext cx="29847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jetez les clients  vers l’aveni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avec des solutions concrèt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"/>
              </a:rPr>
              <a:t>(Ne  pleurez pas sur le lait renversé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84720" y="3068640"/>
            <a:ext cx="3059280" cy="16556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56000" y="4941720"/>
            <a:ext cx="305928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8240" y="350028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s de voyage à vide.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(Un rendez-vous, une proposition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50240" y="5373720"/>
            <a:ext cx="313740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oyez directif et entrepren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n rendez-vous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( celui qui est sûr de lui rassure les autr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458040" y="3645000"/>
            <a:ext cx="2312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Occupez le terrain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(Doublez votre nombre de RD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66"/>
                </a:solidFill>
                <a:latin typeface="Arial"/>
              </a:rPr>
              <a:t>prospects &amp; client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093800">
            <a:off x="5867280" y="1267920"/>
            <a:ext cx="360360" cy="1914480"/>
          </a:xfrm>
          <a:prstGeom prst="downArrow">
            <a:avLst>
              <a:gd name="adj1" fmla="val 50000"/>
              <a:gd name="adj2" fmla="val 13281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60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390800">
            <a:off x="356364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210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202600">
            <a:off x="5148000" y="169992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48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4941720"/>
            <a:ext cx="3058920" cy="16560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57440" y="620640"/>
            <a:ext cx="414324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A COMPET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8360" y="5516640"/>
            <a:ext cx="2034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367600">
            <a:off x="2987280" y="1557000"/>
            <a:ext cx="360360" cy="3282840"/>
          </a:xfrm>
          <a:prstGeom prst="downArrow">
            <a:avLst>
              <a:gd name="adj1" fmla="val 50000"/>
              <a:gd name="adj2" fmla="val 227747"/>
            </a:avLst>
          </a:prstGeom>
          <a:gradFill rotWithShape="0">
            <a:gsLst>
              <a:gs pos="0">
                <a:srgbClr val="bbe0e3"/>
              </a:gs>
              <a:gs pos="50000">
                <a:srgbClr val="000066"/>
              </a:gs>
              <a:gs pos="100000">
                <a:srgbClr val="bbe0e3"/>
              </a:gs>
            </a:gsLst>
            <a:lin ang="1113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08000" y="274680"/>
          <a:ext cx="8928000" cy="7294680"/>
        </p:xfrm>
        <a:graphic>
          <a:graphicData uri="http://schemas.openxmlformats.org/drawingml/2006/table">
            <a:tbl>
              <a:tblPr/>
              <a:tblGrid>
                <a:gridCol w="1008000"/>
                <a:gridCol w="863640"/>
                <a:gridCol w="811080"/>
                <a:gridCol w="774720"/>
                <a:gridCol w="692280"/>
                <a:gridCol w="762120"/>
                <a:gridCol w="774360"/>
                <a:gridCol w="793800"/>
                <a:gridCol w="792360"/>
                <a:gridCol w="792000"/>
                <a:gridCol w="86364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mobi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 Z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 p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pi F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. P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C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ers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rg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79280" y="154080"/>
          <a:ext cx="8785080" cy="6703560"/>
        </p:xfrm>
        <a:graphic>
          <a:graphicData uri="http://schemas.openxmlformats.org/drawingml/2006/table">
            <a:tbl>
              <a:tblPr/>
              <a:tblGrid>
                <a:gridCol w="860040"/>
                <a:gridCol w="847440"/>
                <a:gridCol w="786600"/>
                <a:gridCol w="758520"/>
                <a:gridCol w="832680"/>
                <a:gridCol w="752400"/>
                <a:gridCol w="784800"/>
                <a:gridCol w="771840"/>
                <a:gridCol w="771840"/>
                <a:gridCol w="825840"/>
                <a:gridCol w="793080"/>
              </a:tblGrid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mobil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 ZR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p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i port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cpi F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ransf. P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h Cm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€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vers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parg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s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nevie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ou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y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llau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tia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u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ido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sep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e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gen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er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v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or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ém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s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m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ris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rlo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om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ég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nard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ilipp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n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l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ppoly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der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rv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ta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cq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li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se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m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sè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o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ual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tric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uth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ris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sc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yacin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é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d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ylv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bi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b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alen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l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o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dol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na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di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isl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ntr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énol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u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ébast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ristop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dele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ibau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b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rang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ud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wlad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sim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l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gn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ab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m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dre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s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é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iv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n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thelem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igi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Ulri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pti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olan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ugu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b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rna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di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ch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no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nd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élicit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u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oachi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Oli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rén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gueri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l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fa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ich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e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im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ng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ach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athal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enr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ier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na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ranço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am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ms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en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dette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vie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sab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ugust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t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land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Hono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sel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aza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ab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li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evi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exand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set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de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l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rist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n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lo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rg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Just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e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lph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Ig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idè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ic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dm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Nor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rce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Rodrig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ero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yd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il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Valer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athil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Ab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éd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athe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Lou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Gaeta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ia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atri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ominiqu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arnab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Cy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8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Prospe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i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07:18:58Z</dcterms:created>
  <dc:creator>valere</dc:creator>
  <dc:description/>
  <dc:language>en-US</dc:language>
  <cp:lastModifiedBy>valere</cp:lastModifiedBy>
  <dcterms:modified xsi:type="dcterms:W3CDTF">2008-10-23T07:37:56Z</dcterms:modified>
  <cp:revision>9</cp:revision>
  <dc:subject/>
  <dc:title>L’ANTI CRISE</dc:title>
</cp:coreProperties>
</file>