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9D1-9C75-4CC6-9311-5CC6E5046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CFA3-3C5B-4443-8AE4-72DF65EA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78E4-C873-4392-B60F-D40B8BDE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B14-EC01-4A1A-A34B-5999BD76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3D4-0349-4F7A-9CE7-D1CFD77F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A23-1FAE-4DFF-B813-1CAC35B2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789-BB00-41CE-B7C8-B4C89BBA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57B-5A54-43DA-AF3B-86F806AE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86E7-BDA3-4427-96FE-04E73C8D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1BEA-DC4B-45E2-B245-14E183EB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6BA-6EC3-4CD6-B681-73A794B5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C876-770E-4D6F-A2F0-90BAC8E0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4D18-E83C-4BE5-BBB5-8CE5C2AF1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9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ESENTATION SIMPLIFIE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560" y="2565000"/>
            <a:ext cx="7705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ette présentation s’adresse plutôt 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 profils à dominances Rouges et Jau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 néoph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 investissements fa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 premiers investiss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993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ESENTATION COMPLE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42560" y="2565000"/>
            <a:ext cx="77058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</a:rPr>
              <a:t>Cette présentation s’adresse plutôt 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 profils à dominances Vertes et surtout Ble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 investisseurs au fait des march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 investissements conséq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"/>
              </a:rPr>
              <a:t>Des investissements régu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15:54:00Z</dcterms:created>
  <dc:creator>valere</dc:creator>
  <dc:description/>
  <dc:language>en-US</dc:language>
  <cp:lastModifiedBy>valere</cp:lastModifiedBy>
  <dcterms:modified xsi:type="dcterms:W3CDTF">2010-01-03T15:54:11Z</dcterms:modified>
  <cp:revision>1</cp:revision>
  <dc:subject/>
  <dc:title>PRESENTATION SIMPLIFIEE </dc:title>
</cp:coreProperties>
</file>