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E896-A64C-4550-9149-062E9F2F7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a32a0"/>
              </a:solidFill>
              <a:latin typeface="HelveticaNeue LightEx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8953"/>
              </a:solidFill>
              <a:latin typeface="HelveticaNeue LightEx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8953"/>
              </a:solidFill>
              <a:latin typeface="HelveticaNeue LightEx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323E-3F8B-44AE-8994-60BA43153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a32a0"/>
              </a:solidFill>
              <a:latin typeface="HelveticaNeue LightEx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8953"/>
              </a:solidFill>
              <a:latin typeface="HelveticaNeue LightEx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8953"/>
              </a:solidFill>
              <a:latin typeface="HelveticaNeue LightEx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8953"/>
              </a:solidFill>
              <a:latin typeface="HelveticaNeue LightEx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8953"/>
              </a:solidFill>
              <a:latin typeface="HelveticaNeue LightEx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4CF3-75D8-4D58-A137-B2832FC66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a32a0"/>
              </a:solidFill>
              <a:latin typeface="HelveticaNeue LightEx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8953"/>
              </a:solidFill>
              <a:latin typeface="HelveticaNeue LightEx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8953"/>
              </a:solidFill>
              <a:latin typeface="HelveticaNeue LightEx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8953"/>
              </a:solidFill>
              <a:latin typeface="HelveticaNeue LightEx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8953"/>
              </a:solidFill>
              <a:latin typeface="HelveticaNeue LightEx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8953"/>
              </a:solidFill>
              <a:latin typeface="HelveticaNeue LightEx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8953"/>
              </a:solidFill>
              <a:latin typeface="HelveticaNeue LightEx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5111-A361-4E49-BD3C-4E83DAEB0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a32a0"/>
              </a:solidFill>
              <a:latin typeface="HelveticaNeue LightEx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8953"/>
              </a:solidFill>
              <a:latin typeface="HelveticaNeue LightEx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1F68-B51A-4BB3-B988-8ADE59F6A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a32a0"/>
              </a:solidFill>
              <a:latin typeface="HelveticaNeue LightEx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8953"/>
              </a:solidFill>
              <a:latin typeface="HelveticaNeue LightEx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4F76-113A-4E69-8165-CDE7CA70B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a32a0"/>
              </a:solidFill>
              <a:latin typeface="HelveticaNeue LightEx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8953"/>
              </a:solidFill>
              <a:latin typeface="HelveticaNeue LightEx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8953"/>
              </a:solidFill>
              <a:latin typeface="HelveticaNeue LightEx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B146-7A92-49F7-9716-88A02C427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a32a0"/>
              </a:solidFill>
              <a:latin typeface="HelveticaNeue LightEx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8F78-A7A1-49F0-8491-1347B7E35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8953"/>
              </a:solidFill>
              <a:latin typeface="HelveticaNeue LightEx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C4F5-057E-4678-BD26-57ED1C84A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a32a0"/>
              </a:solidFill>
              <a:latin typeface="HelveticaNeue LightEx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8953"/>
              </a:solidFill>
              <a:latin typeface="HelveticaNeue LightEx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8953"/>
              </a:solidFill>
              <a:latin typeface="HelveticaNeue LightEx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8953"/>
              </a:solidFill>
              <a:latin typeface="HelveticaNeue LightEx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4263-5EDA-4FE7-A396-690959E25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a32a0"/>
              </a:solidFill>
              <a:latin typeface="HelveticaNeue LightEx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8953"/>
              </a:solidFill>
              <a:latin typeface="HelveticaNeue LightEx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8953"/>
              </a:solidFill>
              <a:latin typeface="HelveticaNeue LightEx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8953"/>
              </a:solidFill>
              <a:latin typeface="HelveticaNeue LightEx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CAC5-26C8-4D49-9497-ECBCF6925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a32a0"/>
              </a:solidFill>
              <a:latin typeface="HelveticaNeue LightEx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8953"/>
              </a:solidFill>
              <a:latin typeface="HelveticaNeue LightEx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8953"/>
              </a:solidFill>
              <a:latin typeface="HelveticaNeue LightEx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8953"/>
              </a:solidFill>
              <a:latin typeface="HelveticaNeue LightEx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9EE2-8974-4185-9E01-02CF46D5A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52502" r="0" b="0"/>
          <a:stretch/>
        </p:blipFill>
        <p:spPr>
          <a:xfrm>
            <a:off x="0" y="3600360"/>
            <a:ext cx="9144000" cy="3257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a32a0"/>
                </a:solidFill>
                <a:latin typeface="HelveticaNeue LightExt"/>
              </a:rPr>
              <a:t>Click to edit the title text format</a:t>
            </a:r>
            <a:endParaRPr b="0" lang="en-US" sz="4400" spc="-1" strike="noStrike">
              <a:solidFill>
                <a:srgbClr val="0a32a0"/>
              </a:solidFill>
              <a:latin typeface="HelveticaNeue LightEx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a32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88953"/>
                </a:solidFill>
                <a:latin typeface="HelveticaNeue LightExt"/>
              </a:rPr>
              <a:t>Click to edit the outline text format</a:t>
            </a:r>
            <a:endParaRPr b="0" lang="en-US" sz="3200" spc="-1" strike="noStrike">
              <a:solidFill>
                <a:srgbClr val="988953"/>
              </a:solidFill>
              <a:latin typeface="HelveticaNeue LightExt"/>
            </a:endParaRPr>
          </a:p>
          <a:p>
            <a:pPr lvl="1" marL="743040" indent="-285840">
              <a:spcBef>
                <a:spcPts val="799"/>
              </a:spcBef>
              <a:buClr>
                <a:srgbClr val="0a32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88953"/>
                </a:solidFill>
                <a:latin typeface="HelveticaNeue LightExt"/>
              </a:rPr>
              <a:t>Second Outline Level</a:t>
            </a:r>
            <a:endParaRPr b="0" lang="en-US" sz="3200" spc="-1" strike="noStrike">
              <a:solidFill>
                <a:srgbClr val="988953"/>
              </a:solidFill>
              <a:latin typeface="HelveticaNeue LightExt"/>
            </a:endParaRPr>
          </a:p>
          <a:p>
            <a:pPr lvl="2" marL="1143000" indent="-228600">
              <a:spcBef>
                <a:spcPts val="799"/>
              </a:spcBef>
              <a:buClr>
                <a:srgbClr val="0a32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88953"/>
                </a:solidFill>
                <a:latin typeface="HelveticaNeue LightExt"/>
              </a:rPr>
              <a:t>Third Outline Level</a:t>
            </a:r>
            <a:endParaRPr b="0" lang="en-US" sz="3200" spc="-1" strike="noStrike">
              <a:solidFill>
                <a:srgbClr val="988953"/>
              </a:solidFill>
              <a:latin typeface="HelveticaNeue LightExt"/>
            </a:endParaRPr>
          </a:p>
          <a:p>
            <a:pPr lvl="3" marL="1600200" indent="-228600">
              <a:spcBef>
                <a:spcPts val="799"/>
              </a:spcBef>
              <a:buClr>
                <a:srgbClr val="0a32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88953"/>
                </a:solidFill>
                <a:latin typeface="HelveticaNeue LightExt"/>
              </a:rPr>
              <a:t>Fourth Outline Level</a:t>
            </a:r>
            <a:endParaRPr b="0" lang="en-US" sz="3200" spc="-1" strike="noStrike">
              <a:solidFill>
                <a:srgbClr val="988953"/>
              </a:solidFill>
              <a:latin typeface="HelveticaNeue LightExt"/>
            </a:endParaRPr>
          </a:p>
          <a:p>
            <a:pPr lvl="4" marL="2057400" indent="-228600">
              <a:spcBef>
                <a:spcPts val="799"/>
              </a:spcBef>
              <a:buClr>
                <a:srgbClr val="0a32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88953"/>
                </a:solidFill>
                <a:latin typeface="HelveticaNeue LightExt"/>
              </a:rPr>
              <a:t>Fifth Outline Level</a:t>
            </a:r>
            <a:endParaRPr b="0" lang="en-US" sz="3200" spc="-1" strike="noStrike">
              <a:solidFill>
                <a:srgbClr val="988953"/>
              </a:solidFill>
              <a:latin typeface="HelveticaNeue LightEx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88953"/>
                </a:solidFill>
                <a:latin typeface="HelveticaNeue LightExt"/>
              </a:rPr>
              <a:t>Sixth Outline Level</a:t>
            </a:r>
            <a:endParaRPr b="0" lang="en-US" sz="3200" spc="-1" strike="noStrike">
              <a:solidFill>
                <a:srgbClr val="988953"/>
              </a:solidFill>
              <a:latin typeface="HelveticaNeue LightEx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88953"/>
                </a:solidFill>
                <a:latin typeface="HelveticaNeue LightExt"/>
              </a:rPr>
              <a:t>Seventh Outline Level</a:t>
            </a:r>
            <a:endParaRPr b="0" lang="en-US" sz="3200" spc="-1" strike="noStrike">
              <a:solidFill>
                <a:srgbClr val="988953"/>
              </a:solidFill>
              <a:latin typeface="HelveticaNeue LightEx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3DFAF-1CE6-4010-BAD3-FE21446B51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a32a0"/>
              </a:solidFill>
              <a:latin typeface="HelveticaNeue LightEx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88953"/>
              </a:solidFill>
              <a:latin typeface="HelveticaNeue LightExt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45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pic>
            <p:nvPicPr>
              <p:cNvPr id="4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914400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" name=""/>
              <p:cNvSpPr/>
              <p:nvPr/>
            </p:nvSpPr>
            <p:spPr>
              <a:xfrm>
                <a:off x="250920" y="5013360"/>
                <a:ext cx="2233440" cy="1655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250920" y="5445000"/>
              <a:ext cx="2469960" cy="1024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0" t="3053" r="0" b="340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042920" y="260280"/>
            <a:ext cx="7056360" cy="9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ES FONDS €UR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374472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ontrats Euro</a:t>
            </a:r>
            <a:endParaRPr b="0" lang="en-US" sz="2800" spc="-1" strike="noStrike">
              <a:solidFill>
                <a:srgbClr val="0a32a0"/>
              </a:solidFill>
              <a:latin typeface="HelveticaNeue LightExt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0" y="3357720"/>
          <a:ext cx="4038480" cy="3465360"/>
        </p:xfrm>
        <a:graphic>
          <a:graphicData uri="http://schemas.openxmlformats.org/drawingml/2006/table">
            <a:tbl>
              <a:tblPr/>
              <a:tblGrid>
                <a:gridCol w="1346040"/>
                <a:gridCol w="1346400"/>
                <a:gridCol w="1346040"/>
              </a:tblGrid>
              <a:tr h="29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HelveticaNeue LightExt"/>
                        </a:rPr>
                        <a:t>19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HelveticaNeue LightExt"/>
                        </a:rPr>
                        <a:t>5,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HelveticaNeue LightExt"/>
                        </a:rPr>
                        <a:t>4,5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2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HelveticaNeue LightExt"/>
                        </a:rPr>
                        <a:t>2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HelveticaNeue LightExt"/>
                        </a:rPr>
                        <a:t>5,1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HelveticaNeue LightExt"/>
                        </a:rPr>
                        <a:t>3,4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HelveticaNeue LightExt"/>
                        </a:rPr>
                        <a:t>2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HelveticaNeue LightExt"/>
                        </a:rPr>
                        <a:t>4,9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HelveticaNeue LightExt"/>
                        </a:rPr>
                        <a:t>3,2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33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HelveticaNeue LightExt"/>
                        </a:rPr>
                        <a:t>20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HelveticaNeue LightExt"/>
                        </a:rPr>
                        <a:t>4,6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HelveticaNeue LightExt"/>
                        </a:rPr>
                        <a:t>2,7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9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HelveticaNeue LightExt"/>
                        </a:rPr>
                        <a:t>20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HelveticaNeue LightExt"/>
                        </a:rPr>
                        <a:t>4,4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HelveticaNeue LightExt"/>
                        </a:rPr>
                        <a:t>2,2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1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HelveticaNeue LightExt"/>
                        </a:rPr>
                        <a:t>20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HelveticaNeue LightExt"/>
                        </a:rPr>
                        <a:t>4,1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HelveticaNeue LightExt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HelveticaNeue LightExt"/>
                        </a:rPr>
                        <a:t>2,00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4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HelveticaNeue LightExt"/>
                        </a:rPr>
                        <a:t>20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HelveticaNeue LightExt"/>
                        </a:rPr>
                        <a:t>4,0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HelveticaNeue LightExt"/>
                        </a:rPr>
                        <a:t>2,3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03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HelveticaNeue LightExt"/>
                        </a:rPr>
                        <a:t>2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HelveticaNeue LightExt"/>
                        </a:rPr>
                        <a:t>3,9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HelveticaNeue LightExt"/>
                        </a:rPr>
                        <a:t>2,2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0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HelveticaNeue LightExt"/>
                        </a:rPr>
                        <a:t>2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HelveticaNeue LightExt"/>
                        </a:rPr>
                        <a:t>4,1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HelveticaNeue LightExt"/>
                        </a:rPr>
                        <a:t>2,2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03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HelveticaNeue LightExt"/>
                        </a:rPr>
                        <a:t>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HelveticaNeue LightExt"/>
                        </a:rPr>
                        <a:t>4,2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HelveticaNeue LightExt"/>
                        </a:rPr>
                        <a:t>1,5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0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HelveticaNeue LightExt"/>
                        </a:rPr>
                        <a:t>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HelveticaNeue LightExt"/>
                        </a:rPr>
                        <a:t>3,6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HelveticaNeue LightExt"/>
                        </a:rPr>
                        <a:t>2,4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0" y="620640"/>
          <a:ext cx="4038480" cy="2718000"/>
        </p:xfrm>
        <a:graphic>
          <a:graphicData uri="http://schemas.openxmlformats.org/drawingml/2006/table">
            <a:tbl>
              <a:tblPr/>
              <a:tblGrid>
                <a:gridCol w="1346040"/>
                <a:gridCol w="1346400"/>
                <a:gridCol w="1346040"/>
              </a:tblGrid>
              <a:tr h="358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né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nde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inflatio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</a:tr>
              <a:tr h="28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HelveticaNeue LightExt"/>
                        </a:rPr>
                        <a:t>199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HelveticaNeue LightExt"/>
                        </a:rPr>
                        <a:t>7,8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HelveticaNeue LightExt"/>
                        </a:rPr>
                        <a:t>4,6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1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HelveticaNeue LightExt"/>
                        </a:rPr>
                        <a:t>19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HelveticaNeue LightExt"/>
                        </a:rPr>
                        <a:t>7,9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HelveticaNeue LightExt"/>
                        </a:rPr>
                        <a:t>5,5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8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HelveticaNeue LightExt"/>
                        </a:rPr>
                        <a:t>199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HelveticaNeue LightExt"/>
                        </a:rPr>
                        <a:t>7,9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HelveticaNeue LightExt"/>
                        </a:rPr>
                        <a:t>5,8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8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HelveticaNeue LightExt"/>
                        </a:rPr>
                        <a:t>199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HelveticaNeue LightExt"/>
                        </a:rPr>
                        <a:t>7,2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HelveticaNeue LightExt"/>
                        </a:rPr>
                        <a:t>5,5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1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HelveticaNeue LightExt"/>
                        </a:rPr>
                        <a:t>19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HelveticaNeue LightExt"/>
                        </a:rPr>
                        <a:t>6,2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HelveticaNeue LightExt"/>
                        </a:rPr>
                        <a:t>4,5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8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HelveticaNeue LightExt"/>
                        </a:rPr>
                        <a:t>199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HelveticaNeue LightExt"/>
                        </a:rPr>
                        <a:t>6,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HelveticaNeue LightExt"/>
                        </a:rPr>
                        <a:t>4,50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9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HelveticaNeue LightExt"/>
                        </a:rPr>
                        <a:t>19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HelveticaNeue LightExt"/>
                        </a:rPr>
                        <a:t>5,7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HelveticaNeue LightExt"/>
                        </a:rPr>
                        <a:t>4,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8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HelveticaNeue LightExt"/>
                        </a:rPr>
                        <a:t>19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HelveticaNeue LightExt"/>
                        </a:rPr>
                        <a:t>5,4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HelveticaNeue LightExt"/>
                        </a:rPr>
                        <a:t>4,5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5105520" y="620640"/>
          <a:ext cx="4038480" cy="2687760"/>
        </p:xfrm>
        <a:graphic>
          <a:graphicData uri="http://schemas.openxmlformats.org/drawingml/2006/table">
            <a:tbl>
              <a:tblPr/>
              <a:tblGrid>
                <a:gridCol w="2018880"/>
                <a:gridCol w="2019600"/>
              </a:tblGrid>
              <a:tr h="346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Anné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Rendement n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8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HelveticaNeue LightExt"/>
                        </a:rPr>
                        <a:t>199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HelveticaNeue LightExt"/>
                        </a:rPr>
                        <a:t>17,1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</a:tr>
              <a:tr h="300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HelveticaNeue LightExt"/>
                        </a:rPr>
                        <a:t>19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HelveticaNeue LightExt"/>
                        </a:rPr>
                        <a:t>7,3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</a:tr>
              <a:tr h="28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HelveticaNeue LightExt"/>
                        </a:rPr>
                        <a:t>199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HelveticaNeue LightExt"/>
                        </a:rPr>
                        <a:t>-7,9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</a:tr>
              <a:tr h="28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HelveticaNeue LightExt"/>
                        </a:rPr>
                        <a:t>199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HelveticaNeue LightExt"/>
                        </a:rPr>
                        <a:t>6,4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</a:tr>
              <a:tr h="28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HelveticaNeue LightExt"/>
                        </a:rPr>
                        <a:t>19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HelveticaNeue LightExt"/>
                        </a:rPr>
                        <a:t>11,3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</a:tr>
              <a:tr h="28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HelveticaNeue LightExt"/>
                        </a:rPr>
                        <a:t>199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HelveticaNeue LightExt"/>
                        </a:rPr>
                        <a:t>11,5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</a:tr>
              <a:tr h="28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HelveticaNeue LightExt"/>
                        </a:rPr>
                        <a:t>19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HelveticaNeue LightExt"/>
                        </a:rPr>
                        <a:t>10,1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</a:tr>
              <a:tr h="28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HelveticaNeue LightExt"/>
                        </a:rPr>
                        <a:t>19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HelveticaNeue LightExt"/>
                        </a:rPr>
                        <a:t>11,5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5105520" y="3284640"/>
          <a:ext cx="4038480" cy="356400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357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HelveticaNeue LightExt"/>
                        </a:rPr>
                        <a:t>19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HelveticaNeue LightExt"/>
                        </a:rPr>
                        <a:t>20,7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HelveticaNeue LightExt"/>
                        </a:rPr>
                        <a:t>2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HelveticaNeue LightExt"/>
                        </a:rPr>
                        <a:t>-1,9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HelveticaNeue LightExt"/>
                        </a:rPr>
                        <a:t>2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HelveticaNeue LightExt"/>
                        </a:rPr>
                        <a:t>-9,6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HelveticaNeue LightExt"/>
                        </a:rPr>
                        <a:t>20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HelveticaNeue LightExt"/>
                        </a:rPr>
                        <a:t>-16,2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HelveticaNeue LightExt"/>
                        </a:rPr>
                        <a:t>20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HelveticaNeue LightExt"/>
                        </a:rPr>
                        <a:t>7,9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HelveticaNeue LightExt"/>
                        </a:rPr>
                        <a:t>20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HelveticaNeue LightExt"/>
                        </a:rPr>
                        <a:t>5,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</a:tr>
              <a:tr h="33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HelveticaNeue LightExt"/>
                        </a:rPr>
                        <a:t>20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HelveticaNeue LightExt"/>
                        </a:rPr>
                        <a:t>9,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</a:tr>
              <a:tr h="33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HelveticaNeue LightExt"/>
                        </a:rPr>
                        <a:t>2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HelveticaNeue LightExt"/>
                        </a:rPr>
                        <a:t>21,4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</a:tr>
              <a:tr h="33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HelveticaNeue LightExt"/>
                        </a:rPr>
                        <a:t>2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HelveticaNeue LightExt"/>
                        </a:rPr>
                        <a:t>-1,0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HelveticaNeue LightExt"/>
                        </a:rPr>
                        <a:t>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HelveticaNeue LightExt"/>
                        </a:rPr>
                        <a:t>- 42,6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</a:tr>
              <a:tr h="31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HelveticaNeue LightExt"/>
                        </a:rPr>
                        <a:t>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HelveticaNeue LightExt"/>
                        </a:rPr>
                        <a:t>17,6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</a:tr>
            </a:tbl>
          </a:graphicData>
        </a:graphic>
      </p:graphicFrame>
      <p:sp>
        <p:nvSpPr>
          <p:cNvPr id="56" name=""/>
          <p:cNvSpPr/>
          <p:nvPr/>
        </p:nvSpPr>
        <p:spPr>
          <a:xfrm>
            <a:off x="5076720" y="44280"/>
            <a:ext cx="3816360" cy="505080"/>
          </a:xfrm>
          <a:prstGeom prst="rect">
            <a:avLst/>
          </a:prstGeom>
          <a:solidFill>
            <a:srgbClr val="000099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rats U.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547640" y="1844640"/>
            <a:ext cx="865440" cy="287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547640" y="3645000"/>
            <a:ext cx="865440" cy="287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547640" y="3933720"/>
            <a:ext cx="865440" cy="358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547640" y="1268280"/>
            <a:ext cx="865440" cy="287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547640" y="1557360"/>
            <a:ext cx="865440" cy="287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76360" y="5877000"/>
            <a:ext cx="934920" cy="287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547640" y="4292640"/>
            <a:ext cx="865440" cy="3585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547640" y="6165720"/>
            <a:ext cx="865440" cy="358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332000" y="404640"/>
            <a:ext cx="6696000" cy="648000"/>
          </a:xfrm>
          <a:prstGeom prst="roundRect">
            <a:avLst>
              <a:gd name="adj" fmla="val 16667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559640" y="5013360"/>
            <a:ext cx="1584360" cy="15843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867280" y="5013360"/>
            <a:ext cx="1584360" cy="1584360"/>
          </a:xfrm>
          <a:prstGeom prst="can">
            <a:avLst>
              <a:gd name="adj" fmla="val 25000"/>
            </a:avLst>
          </a:prstGeom>
          <a:solidFill>
            <a:srgbClr val="00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56000" y="5013360"/>
            <a:ext cx="1584360" cy="1584360"/>
          </a:xfrm>
          <a:prstGeom prst="can">
            <a:avLst>
              <a:gd name="adj" fmla="val 25000"/>
            </a:avLst>
          </a:prstGeom>
          <a:solidFill>
            <a:srgbClr val="0000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84360" y="5013360"/>
            <a:ext cx="1584000" cy="1584360"/>
          </a:xfrm>
          <a:prstGeom prst="can">
            <a:avLst>
              <a:gd name="adj" fmla="val 25000"/>
            </a:avLst>
          </a:prstGeom>
          <a:solidFill>
            <a:srgbClr val="000066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556000" y="5634000"/>
            <a:ext cx="1584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TIS 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1280" y="5634000"/>
            <a:ext cx="16556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EREN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pportunit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561440" y="5634000"/>
            <a:ext cx="15825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EREN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Diversifi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867280" y="5634000"/>
            <a:ext cx="14400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ARDIF  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43280" y="1557360"/>
            <a:ext cx="2737080" cy="86508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nds obligataires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versifi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164360" y="5273640"/>
            <a:ext cx="1584360" cy="1584360"/>
          </a:xfrm>
          <a:prstGeom prst="can">
            <a:avLst>
              <a:gd name="adj" fmla="val 25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260280"/>
            <a:ext cx="914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ION DES FONDS EU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79280" y="2421000"/>
            <a:ext cx="3024360" cy="86508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nds obligatair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ctions Immobil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332000" y="3573360"/>
            <a:ext cx="358560" cy="1079640"/>
          </a:xfrm>
          <a:prstGeom prst="downArrow">
            <a:avLst>
              <a:gd name="adj1" fmla="val 50000"/>
              <a:gd name="adj2" fmla="val 75276"/>
            </a:avLst>
          </a:prstGeom>
          <a:gradFill rotWithShape="0">
            <a:gsLst>
              <a:gs pos="0">
                <a:srgbClr val="bbe0e3"/>
              </a:gs>
              <a:gs pos="50000">
                <a:srgbClr val="000099"/>
              </a:gs>
              <a:gs pos="100000">
                <a:srgbClr val="bbe0e3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9516800">
            <a:off x="6229440" y="2708280"/>
            <a:ext cx="358560" cy="1079640"/>
          </a:xfrm>
          <a:prstGeom prst="downArrow">
            <a:avLst>
              <a:gd name="adj1" fmla="val 50000"/>
              <a:gd name="adj2" fmla="val 75276"/>
            </a:avLst>
          </a:prstGeom>
          <a:gradFill rotWithShape="0">
            <a:gsLst>
              <a:gs pos="0">
                <a:srgbClr val="bbe0e3"/>
              </a:gs>
              <a:gs pos="50000">
                <a:srgbClr val="000099"/>
              </a:gs>
              <a:gs pos="100000">
                <a:srgbClr val="bbe0e3"/>
              </a:gs>
            </a:gsLst>
            <a:lin ang="1558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1900800">
            <a:off x="4284360" y="2565360"/>
            <a:ext cx="358560" cy="1079640"/>
          </a:xfrm>
          <a:prstGeom prst="downArrow">
            <a:avLst>
              <a:gd name="adj1" fmla="val 50000"/>
              <a:gd name="adj2" fmla="val 75276"/>
            </a:avLst>
          </a:prstGeom>
          <a:gradFill rotWithShape="0">
            <a:gsLst>
              <a:gs pos="0">
                <a:srgbClr val="bbe0e3"/>
              </a:gs>
              <a:gs pos="50000">
                <a:srgbClr val="000099"/>
              </a:gs>
              <a:gs pos="100000">
                <a:srgbClr val="bbe0e3"/>
              </a:gs>
            </a:gsLst>
            <a:lin ang="1159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rot="19441800">
            <a:off x="7164000" y="2637000"/>
            <a:ext cx="358920" cy="1079280"/>
          </a:xfrm>
          <a:prstGeom prst="downArrow">
            <a:avLst>
              <a:gd name="adj1" fmla="val 50000"/>
              <a:gd name="adj2" fmla="val 75176"/>
            </a:avLst>
          </a:prstGeom>
          <a:gradFill rotWithShape="0">
            <a:gsLst>
              <a:gs pos="0">
                <a:srgbClr val="bbe0e3"/>
              </a:gs>
              <a:gs pos="50000">
                <a:srgbClr val="000099"/>
              </a:gs>
              <a:gs pos="100000">
                <a:srgbClr val="bbe0e3"/>
              </a:gs>
            </a:gsLst>
            <a:lin ang="1566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211640" y="5013360"/>
            <a:ext cx="1584360" cy="1584360"/>
          </a:xfrm>
          <a:prstGeom prst="can">
            <a:avLst>
              <a:gd name="adj" fmla="val 25000"/>
            </a:avLst>
          </a:prstGeom>
          <a:solidFill>
            <a:srgbClr val="3366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11640" y="5634000"/>
            <a:ext cx="1584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KANDIA 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l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rot="1900800">
            <a:off x="5148000" y="2708280"/>
            <a:ext cx="358560" cy="1079640"/>
          </a:xfrm>
          <a:prstGeom prst="downArrow">
            <a:avLst>
              <a:gd name="adj1" fmla="val 50000"/>
              <a:gd name="adj2" fmla="val 75276"/>
            </a:avLst>
          </a:prstGeom>
          <a:gradFill rotWithShape="0">
            <a:gsLst>
              <a:gs pos="0">
                <a:srgbClr val="bbe0e3"/>
              </a:gs>
              <a:gs pos="50000">
                <a:srgbClr val="000099"/>
              </a:gs>
              <a:gs pos="100000">
                <a:srgbClr val="bbe0e3"/>
              </a:gs>
            </a:gsLst>
            <a:lin ang="1159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92360" y="3692520"/>
            <a:ext cx="1584360" cy="1466640"/>
          </a:xfrm>
          <a:prstGeom prst="can">
            <a:avLst>
              <a:gd name="adj" fmla="val 25000"/>
            </a:avLst>
          </a:prstGeom>
          <a:solidFill>
            <a:srgbClr val="3366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MN Sélection Rend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292720" y="3692520"/>
            <a:ext cx="1584360" cy="1466640"/>
          </a:xfrm>
          <a:prstGeom prst="can">
            <a:avLst>
              <a:gd name="adj" fmla="val 25000"/>
            </a:avLst>
          </a:prstGeom>
          <a:solidFill>
            <a:srgbClr val="3366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nds Génér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093080" y="3692520"/>
            <a:ext cx="1584360" cy="1466640"/>
          </a:xfrm>
          <a:prstGeom prst="can">
            <a:avLst>
              <a:gd name="adj" fmla="val 25000"/>
            </a:avLst>
          </a:prstGeom>
          <a:solidFill>
            <a:srgbClr val="3366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WISS LIFE 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468360" y="404640"/>
            <a:ext cx="8207280" cy="648000"/>
          </a:xfrm>
          <a:prstGeom prst="roundRect">
            <a:avLst>
              <a:gd name="adj" fmla="val 16667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380360" y="5013360"/>
            <a:ext cx="1584360" cy="15843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635280" y="5013360"/>
            <a:ext cx="1584360" cy="1584360"/>
          </a:xfrm>
          <a:prstGeom prst="can">
            <a:avLst>
              <a:gd name="adj" fmla="val 25000"/>
            </a:avLst>
          </a:prstGeom>
          <a:solidFill>
            <a:srgbClr val="3366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00000" y="5013360"/>
            <a:ext cx="1584360" cy="1584360"/>
          </a:xfrm>
          <a:prstGeom prst="can">
            <a:avLst>
              <a:gd name="adj" fmla="val 25000"/>
            </a:avLst>
          </a:prstGeom>
          <a:solidFill>
            <a:srgbClr val="000066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635280" y="5634000"/>
            <a:ext cx="1584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GAM PE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éréni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6920" y="5634000"/>
            <a:ext cx="16560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UR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380360" y="5634000"/>
            <a:ext cx="15825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XA P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égulari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27640" y="2421000"/>
            <a:ext cx="3457440" cy="86508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nds à capital garant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ligibles P.E.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093080" y="5273640"/>
            <a:ext cx="1584360" cy="1584360"/>
          </a:xfrm>
          <a:prstGeom prst="can">
            <a:avLst>
              <a:gd name="adj" fmla="val 25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260280"/>
            <a:ext cx="9144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ION DES FONDS SECURITA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2421000"/>
            <a:ext cx="3457440" cy="865080"/>
          </a:xfrm>
          <a:prstGeom prst="roundRect">
            <a:avLst>
              <a:gd name="adj" fmla="val 16667"/>
            </a:avLst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nds DEFENS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619280" y="3573360"/>
            <a:ext cx="358920" cy="1079640"/>
          </a:xfrm>
          <a:prstGeom prst="downArrow">
            <a:avLst>
              <a:gd name="adj1" fmla="val 50000"/>
              <a:gd name="adj2" fmla="val 75201"/>
            </a:avLst>
          </a:prstGeom>
          <a:gradFill rotWithShape="0">
            <a:gsLst>
              <a:gs pos="0">
                <a:srgbClr val="bbe0e3"/>
              </a:gs>
              <a:gs pos="50000">
                <a:srgbClr val="000099"/>
              </a:gs>
              <a:gs pos="100000">
                <a:srgbClr val="bbe0e3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rot="1900800">
            <a:off x="5148000" y="3573360"/>
            <a:ext cx="358560" cy="1079640"/>
          </a:xfrm>
          <a:prstGeom prst="downArrow">
            <a:avLst>
              <a:gd name="adj1" fmla="val 50000"/>
              <a:gd name="adj2" fmla="val 75276"/>
            </a:avLst>
          </a:prstGeom>
          <a:gradFill rotWithShape="0">
            <a:gsLst>
              <a:gs pos="0">
                <a:srgbClr val="bbe0e3"/>
              </a:gs>
              <a:gs pos="50000">
                <a:srgbClr val="000099"/>
              </a:gs>
              <a:gs pos="100000">
                <a:srgbClr val="bbe0e3"/>
              </a:gs>
            </a:gsLst>
            <a:lin ang="11598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rot="19349400">
            <a:off x="7093080" y="3573000"/>
            <a:ext cx="358560" cy="1079640"/>
          </a:xfrm>
          <a:prstGeom prst="downArrow">
            <a:avLst>
              <a:gd name="adj1" fmla="val 50000"/>
              <a:gd name="adj2" fmla="val 75276"/>
            </a:avLst>
          </a:prstGeom>
          <a:gradFill rotWithShape="0">
            <a:gsLst>
              <a:gs pos="0">
                <a:srgbClr val="bbe0e3"/>
              </a:gs>
              <a:gs pos="50000">
                <a:srgbClr val="000099"/>
              </a:gs>
              <a:gs pos="100000">
                <a:srgbClr val="bbe0e3"/>
              </a:gs>
            </a:gsLst>
            <a:lin ang="1575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8615" t="0" r="4381" b="0"/>
          <a:stretch/>
        </p:blipFill>
        <p:spPr>
          <a:xfrm>
            <a:off x="-1440" y="-25560"/>
            <a:ext cx="9145440" cy="6883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8T09:25:48Z</dcterms:created>
  <dc:creator>Nathalie</dc:creator>
  <dc:description/>
  <dc:language>en-US</dc:language>
  <cp:lastModifiedBy>valere</cp:lastModifiedBy>
  <dcterms:modified xsi:type="dcterms:W3CDTF">2009-11-09T17:28:55Z</dcterms:modified>
  <cp:revision>842</cp:revision>
  <dc:subject/>
  <dc:title>Diapositive 1</dc:title>
</cp:coreProperties>
</file>