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5CD-5DB0-4E60-9F08-AC4004AD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161-277B-4E68-8055-66E399E6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543-E14F-485F-B9EF-4D1FC781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658-B7AB-4EB0-9B26-E9EB7842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8A8D-B885-48FE-9A0E-08AC9E92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E7B9-8DCB-4CED-92D4-622D6C10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43D4-75E3-4C4C-A74C-315A3324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8FAA-D5CF-4BC9-A4FA-11A928A7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C3DD-0B3E-40F7-A213-F348FA69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9D82-DD7A-4388-8ACD-013EFF3B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4111-20E7-4E51-920A-EC7D1334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D09-D882-4EDF-9D60-0BFB618C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B7BD-C09D-4DCD-8A06-F3CA1F66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D351-59FD-4273-BCA8-FB3A033B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2044-5835-4ABF-AE02-05EE920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B9E3-BBA1-406B-A13C-C2C08EFD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8C4C-BE23-48C8-ACE0-93224BA0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E6B-FFF6-43FA-9DC8-3DF6FE45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5C2-F04C-46FF-BF0D-79CF6C4A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B95-CCF4-4DA2-85FC-598CD47D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534-73CC-4B02-9FE6-C1A90D60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C97-CA09-430A-9454-E91F82B3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C1F-BFCA-4490-8B9B-EFEEA42D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D9A-2DFD-4213-AC6F-36D3DEC3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68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682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90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905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17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60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50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39640" y="1341360"/>
            <a:ext cx="8275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4" marL="2209680" indent="-38088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5" marL="2209680" indent="-38088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6" marL="2209680" indent="-38088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10920" y="6165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Novemb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7636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JSC Consul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804000" y="6140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F40A-5DA8-4A40-AEB8-18F09C4E4345}" type="slidenum">
              <a:rPr b="0" lang="en-US" sz="14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Novemb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JSC consul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0498-55F2-410F-BC5B-031EEAABBF98}" type="slidenum">
              <a:rPr b="0" lang="en-US" sz="14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Dominique Maugrain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Tahoma"/>
              </a:rPr>
              <a:t>BPD (Bilan Patrimonial Dynamique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Une méthodologie JSC Consultants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11 novembre 2010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ECE1-B73A-4095-8D78-6E4A3F6515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olution du passif patrimonial de Dominiqu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2165400"/>
            <a:ext cx="8785440" cy="29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0B7-4778-4E32-8C37-4A04634E55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euille de route pour Dominique 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756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Préambule : document de travail. La pertinence de certain pts est à vérifier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Modification situation de famille en décembre 2010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Mesurer l’impact fiscal sur les finances du coupl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Faire valoir droits à retraite le + tôt possible, après diagnostic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Transformer PEL en CEL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Transférer les 2 Carmignac sur un contrat AV Swiss Life arbitrabl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Analyser la SCPI Perial pour décisio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Obtenir coût des emprunts Gaipare pour décision rbser ou garder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ahoma"/>
              </a:rPr>
              <a:t>Tréso dispo à mettre immédiatement en SCPI de rdm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Faire l’analyse éco du plan La Mondiale pour décision garder ou trsformer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endre Montpezat pour placer le prd en papier de rdm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65400" indent="-36540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érifier la position CIPAV de Claud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EF1-BF04-43B0-B6DD-F58144E1F8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erci de votre attention…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Tahoma"/>
              </a:rPr>
              <a:t>« tout ce qui est simple est inexact, mais ce qui ne l’est pas est inutilisable »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Tahoma"/>
              </a:rPr>
              <a:t>Paul valéry</a:t>
            </a:r>
            <a:endParaRPr b="0" i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82A1-0BF6-4519-AF91-60C6ECCD51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ahoma"/>
              </a:rPr>
              <a:t>Sommaire dossier Dominique Maugrain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0560" y="1917720"/>
            <a:ext cx="6048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ésent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ilan patrimonial mois de novembre 2010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nalyse et projection revenus/dépens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tes prévisionn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nancements prévisionn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ilan patrimonial dynamiqu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euille de rou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DC0-8677-47EA-ACFF-890217EAEF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ésent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75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Le présent dossier a pour objet de 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isualiser synthétiquement la position patrimoniale aujourd’hui de Dominique Maugrain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Projeter le parcours « financier » de Dominique Maugrain sur les prochaines années en prenant en compte son patrimoine, ses engagements, ses revenus, ses besoins, sa fiscalité et sa situation de famille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En fonction de cette projection, recommander l’allocation optimale du patrimoine de Dominique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80880" indent="-380880">
              <a:spcBef>
                <a:spcPts val="499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Et selon cette recommadation lui proposer les solutions adequat. 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5FB-936C-4428-B787-87AC60B9DA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lan patrimonial de Dominique, novembre 2010 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337440" cy="5167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812000" y="170172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087-C7EB-4AF9-A651-200334C024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ommandation d’allocation patrimonial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1465200"/>
            <a:ext cx="7126200" cy="304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42920" y="4797360"/>
            <a:ext cx="7058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ncipe 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ugmenter les revenus récurrents de Dominique en diminuant la part consacrée à l’immobilier non productif pour augmenter considérablement la part de « papier de rapport » (assurance vie € et pierre papier de rend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575-4C49-48A8-B4A4-B0E31BCADB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ahoma"/>
              </a:rPr>
              <a:t>Revenus prévisibles de Dominique Maugrain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8360" y="979560"/>
            <a:ext cx="6767280" cy="5328360"/>
            <a:chOff x="2268360" y="979560"/>
            <a:chExt cx="6767280" cy="5328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68360" y="979560"/>
              <a:ext cx="6767280" cy="17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268360" y="2736000"/>
              <a:ext cx="6767280" cy="223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2268360" y="5070960"/>
              <a:ext cx="6767280" cy="123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324000" y="227664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Document de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 modifier avec Domi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60" y="1989000"/>
            <a:ext cx="2087640" cy="22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965-E66D-4F2B-8314-76BA02515A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venus nets de Dominiqu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1640" y="1268280"/>
            <a:ext cx="8317080" cy="3372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4869000"/>
            <a:ext cx="828036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tisse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 modification de la situation a des conséquences fiscales qui ne peuvent être prises en compte qu’au vu des revenus et patrimoine du conj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160-2F53-4F26-B473-35CCE602D8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ahoma"/>
              </a:rPr>
              <a:t>Comptes de financement Dominique Maugrain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993080" cy="493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33E-75EF-4F52-AFAF-C45998E9E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olution de l’actif patrimonial de Dominique 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61440" cy="513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719-7B49-43B0-9147-FE9A36D860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5:49:13Z</dcterms:created>
  <dc:creator>Jean SAINT-CRICQ</dc:creator>
  <dc:description/>
  <dc:language>en-US</dc:language>
  <cp:lastModifiedBy>Jean SAINT-CRICQ</cp:lastModifiedBy>
  <dcterms:modified xsi:type="dcterms:W3CDTF">2003-11-15T15:05:02Z</dcterms:modified>
  <cp:revision>43</cp:revision>
  <dc:subject/>
  <dc:title>Cabinet et Foyer JANIN</dc:title>
</cp:coreProperties>
</file>