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9793-4281-4A99-AB53-C015196708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E9A-6579-40F5-9906-A4844EF22D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D2F-974E-4AF8-9E16-E371BA2F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2C0-595E-46AD-8F2E-6FB6719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AEA-F979-4243-BD11-9F070718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E95-72A4-4F22-9C7D-D104D0D4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B75-1A9C-4834-8552-9F90BFF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1FB-EF21-44B0-B95D-202AC5FA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363-A1F5-415E-8524-FC338684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39B-071A-47DF-B127-0748D85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481-A9AD-4D0D-B821-22B31E8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1A1-6365-4322-B428-1450D05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1A7-EF6A-45A5-8060-2323126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D68-ED4F-47CF-8CB3-E456491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84A-25A7-49AF-858A-C131FD56C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340000" y="260280"/>
            <a:ext cx="44640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ire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endshow"/>
          </p:cNvPr>
          <p:cNvSpPr/>
          <p:nvPr/>
        </p:nvSpPr>
        <p:spPr>
          <a:xfrm>
            <a:off x="3208320" y="6275520"/>
            <a:ext cx="2305080" cy="287280"/>
          </a:xfrm>
          <a:custGeom>
            <a:avLst/>
            <a:gdLst>
              <a:gd name="textAreaLeft" fmla="*/ 18360 w 2305080"/>
              <a:gd name="textAreaRight" fmla="*/ 2286720 w 23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173124" h="21600">
                <a:moveTo>
                  <a:pt x="0" y="0"/>
                </a:moveTo>
                <a:lnTo>
                  <a:pt x="173124" y="0"/>
                </a:lnTo>
                <a:lnTo>
                  <a:pt x="173124" y="21600"/>
                </a:lnTo>
                <a:lnTo>
                  <a:pt x="0" y="21600"/>
                </a:lnTo>
                <a:close/>
              </a:path>
              <a:path fill="lightenLess" w="173124" h="21600">
                <a:moveTo>
                  <a:pt x="0" y="0"/>
                </a:moveTo>
                <a:lnTo>
                  <a:pt x="173124" y="0"/>
                </a:lnTo>
                <a:lnTo>
                  <a:pt x="171724" y="1400"/>
                </a:lnTo>
                <a:lnTo>
                  <a:pt x="1400" y="1400"/>
                </a:lnTo>
                <a:close/>
              </a:path>
              <a:path fill="darken" w="173124" h="21600">
                <a:moveTo>
                  <a:pt x="173124" y="0"/>
                </a:moveTo>
                <a:lnTo>
                  <a:pt x="173124" y="21600"/>
                </a:lnTo>
                <a:lnTo>
                  <a:pt x="171724" y="20200"/>
                </a:lnTo>
                <a:lnTo>
                  <a:pt x="171724" y="1400"/>
                </a:lnTo>
                <a:close/>
              </a:path>
              <a:path fill="darkenLess" w="173124" h="21600">
                <a:moveTo>
                  <a:pt x="173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724" y="20200"/>
                </a:lnTo>
                <a:close/>
              </a:path>
              <a:path fill="lighten" w="173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our au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79280" y="18900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de de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84360" y="782640"/>
            <a:ext cx="78483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NI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National Interprofessionnel signé par les partenaire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I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Loi du 04/05/2004, loi du 24/11/2009, elles reprennent en grandes parties les ANI sauf quelques dispositions notamment elles ne reprennent pas l’entretien professionnel dans sa globa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ORD DE BRANCH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d’organisations syndicales d’un secteur professi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LIGIBILIT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Aptitude à être élu (critères d’accès : âge, ancienneté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PCA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Organisme collecteur de la branche métier (Organisme Paritaire Collecteur Agré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ONGECIF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rganisme interprofessionnel de financement pour le CIF et autres dispositifs de formation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IF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Congé Individuel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F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Droit Individuel à la formation  (à l’initiative du salari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trat de professionnalisation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contrat d’insertion en alter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ériode de professionnalis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ériode à définir permettant l’acquisition d’une qualification ou d’une certification professionnelle (accès à un public prior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e compétences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alyse des compétences professionnelles et personnelles, des aptitudes pour définir un projet professionnel. Ce bilan est réalisé par un organisme habi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Validation des acquis de l’expé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lan de form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ions d’adaptation au poste de travail, de maintien dans l’emploi, ou développement des compétences. Ce plan de formation est élaboré et suivi par la personne en charge de la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ocation formation 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omme versée durant les heures de formation hors temps de trav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’étape professionnel 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Rencontre professionnelle entre le salarié et l’employeur, à l’initiative du salarié, permettant de définir des objectifs de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5:56Z</dcterms:modified>
  <cp:revision>17</cp:revision>
  <dc:subject/>
  <dc:title>Diapositive 1</dc:title>
</cp:coreProperties>
</file>