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4.png" ContentType="image/png"/>
  <Override PartName="/ppt/media/image2.jpeg" ContentType="image/jpeg"/>
  <Override PartName="/ppt/media/image3.png" ContentType="image/png"/>
  <Override PartName="/ppt/media/image5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BD00-9F68-49E0-BC55-F3CE1DEDA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680" y="4047840"/>
            <a:ext cx="777240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D51C-1FD0-40F2-AC1C-EB5B393D7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680" y="4047840"/>
            <a:ext cx="379260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49360" y="4047840"/>
            <a:ext cx="379260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4B96-C176-43F3-97CC-67E2FE51F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250236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4680" y="1676160"/>
            <a:ext cx="250236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2320" y="1676160"/>
            <a:ext cx="250236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680" y="4047840"/>
            <a:ext cx="250236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4680" y="4047840"/>
            <a:ext cx="250236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2320" y="4047840"/>
            <a:ext cx="250236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C1D5-C560-4A0E-A295-476ABEBF5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07001-4CE9-4060-A504-B8AF504C9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4A3BE-0BE3-43C2-8B99-325F1A68E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94293-17E0-46A5-8D88-9BDA673B4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1E75D-490F-475C-A6BE-62BD0E54F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D147C-4E13-45CB-A95E-298046C05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729D7-D90E-4B07-9DC4-BB86F9AA8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66680" y="4047840"/>
            <a:ext cx="379260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5B09C-4EAA-4F0C-9B73-D6DA336A2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08AD-CBAB-4E3B-A550-A2CE968EC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49360" y="4047840"/>
            <a:ext cx="379260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1D1A9-BE02-4D10-B184-DD3829952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66680" y="4047840"/>
            <a:ext cx="777240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B398D-606C-4704-9823-0C900B42B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066680" y="4047840"/>
            <a:ext cx="777240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FFF7E-6CC8-4845-B4E8-50ED7996D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047840"/>
            <a:ext cx="379260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49360" y="4047840"/>
            <a:ext cx="379260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3FDBB-7F9D-42FA-81F0-E9EE410C9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250236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4680" y="1676160"/>
            <a:ext cx="250236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22320" y="1676160"/>
            <a:ext cx="250236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066680" y="4047840"/>
            <a:ext cx="250236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4680" y="4047840"/>
            <a:ext cx="250236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22320" y="4047840"/>
            <a:ext cx="250236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F8704-85B8-45A7-9FC3-EA9902430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6D61-018A-4EA1-9824-E32E54DBC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B29D-1317-45AD-9E72-B471B77FA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51D0-BCE9-4712-91B9-8076376B1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BBD6-04C1-4A70-9D68-C1E2BC10F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680" y="4047840"/>
            <a:ext cx="379260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1F44-13BB-4348-BCAE-0627FC90C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49360" y="4047840"/>
            <a:ext cx="379260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A9B8-735C-40B0-B013-70D534292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4047840"/>
            <a:ext cx="777240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D9DB-8D93-42CF-A4EC-AE5F4888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e8c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9e8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15717-727A-4C88-B232-4888E4A7FE50}" type="datetime">
              <a:rPr b="0" lang="fr-FR" sz="1400" spc="-1" strike="noStrike">
                <a:solidFill>
                  <a:srgbClr val="009e8c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9000" y="6413400"/>
            <a:ext cx="4191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009e8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9e8c"/>
                </a:solidFill>
                <a:latin typeface="Arial"/>
              </a:rPr>
              <a:t>&lt;footer&gt;</a:t>
            </a:r>
            <a:r>
              <a:rPr b="1" lang="fr-FR" sz="1400" spc="-1" strike="noStrike">
                <a:solidFill>
                  <a:srgbClr val="009e8c"/>
                </a:solidFill>
                <a:latin typeface="Arial"/>
              </a:rPr>
              <a:t>www.khepri.biz   Le Changement harmon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9e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0C5D6-65D0-4001-9F50-BF7B42F328C6}" type="slidenum">
              <a:rPr b="0" lang="fr-FR" sz="2400" spc="-1" strike="noStrike">
                <a:solidFill>
                  <a:srgbClr val="009e8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081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081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  <a:p>
            <a:pPr lvl="2" marL="1370160" indent="-22860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081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  <a:p>
            <a:pPr lvl="3" marL="1712880" indent="-228600">
              <a:spcBef>
                <a:spcPts val="799"/>
              </a:spcBef>
              <a:buClr>
                <a:srgbClr val="1f408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081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081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081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081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e8c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1066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9e8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B81B6-96DE-4FB1-B354-F8E004B9ADE3}" type="datetime">
              <a:rPr b="0" lang="fr-FR" sz="1400" spc="-1" strike="noStrike">
                <a:solidFill>
                  <a:srgbClr val="009e8c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429000" y="6400800"/>
            <a:ext cx="4191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009e8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9e8c"/>
                </a:solidFill>
                <a:latin typeface="Arial"/>
              </a:rPr>
              <a:t>&lt;footer&gt;</a:t>
            </a:r>
            <a:r>
              <a:rPr b="1" lang="fr-FR" sz="1400" spc="-1" strike="noStrike">
                <a:solidFill>
                  <a:srgbClr val="009e8c"/>
                </a:solidFill>
                <a:latin typeface="Arial"/>
              </a:rPr>
              <a:t>www.khepri.biz  Le Changement harmon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8229600" y="64008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9e8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B29A5-7ECF-48F9-8459-81C6C9F2EBF3}" type="slidenum">
              <a:rPr b="0" lang="fr-FR" sz="2400" spc="-1" strike="noStrike">
                <a:solidFill>
                  <a:srgbClr val="009e8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081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081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081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1f4081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081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081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081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081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9e8c"/>
                </a:solidFill>
                <a:latin typeface="Arial"/>
              </a:rPr>
              <a:t>SOCIÉTÉ KHEPRI</a:t>
            </a:r>
            <a:r>
              <a:rPr b="1" lang="fr-FR" sz="4000" spc="-1" strike="noStrike" baseline="30000">
                <a:solidFill>
                  <a:srgbClr val="009e8c"/>
                </a:solidFill>
                <a:latin typeface="Times New Roman"/>
              </a:rPr>
              <a:t>®</a:t>
            </a:r>
            <a:endParaRPr b="0" lang="en-US" sz="40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600200" y="23623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f4081"/>
                </a:solidFill>
                <a:latin typeface="Arial"/>
              </a:rPr>
              <a:t>Le Changement Harmonique</a:t>
            </a:r>
            <a:r>
              <a:rPr b="1" lang="fr-FR" sz="3200" spc="-1" strike="noStrike" baseline="30000">
                <a:solidFill>
                  <a:srgbClr val="1f4081"/>
                </a:solidFill>
                <a:latin typeface="Times New Roman"/>
              </a:rPr>
              <a:t>®</a:t>
            </a: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3657600"/>
            <a:ext cx="7543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e8c"/>
                </a:solidFill>
                <a:latin typeface="Arial"/>
              </a:rPr>
              <a:t>Diagnostic et solutions en Relations Humaine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9e8c"/>
                </a:solidFill>
                <a:latin typeface="Arial"/>
              </a:rPr>
              <a:t>Société spécialisée en accompagnement du changement des individus et des équipes dans une démarche systémiqu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91965-4ABE-4015-9321-1301B28577FC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9C354FCA-D6FE-46AD-956D-71EF3FCB527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Domaines d’interventions</a:t>
            </a: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5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-42516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Cohésion d’équipe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marL="425160" indent="-42516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Performance personnelle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marL="425160" indent="-42516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Conduite du changement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marL="425160" indent="-42516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Communication dans l’entreprise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marL="425160" indent="-42516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Organisation et système de management</a:t>
            </a:r>
            <a:br>
              <a:rPr sz="2400"/>
            </a:b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de la qualité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marL="425160" indent="-42516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Nouvelle orientation stratégique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marL="425160" indent="-42516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Coaching de dirigeant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marL="425160" indent="-42516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Accompagnement de projet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marL="425160" indent="-42516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Accompagnement de force de vente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marL="425160" indent="-42516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Mise en œuvre plan de formation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marL="425160" indent="-42516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Gestion prévisionnelle des emplois et des compétences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7C19-A60F-46EC-862D-54352CE79B1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6D3CC1-C369-467E-81B3-1D287D48E04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9e8c"/>
                </a:solidFill>
                <a:latin typeface="Arial"/>
              </a:rPr>
              <a:t>Processus de transformation et d’évolution pour créer de la valeur, anticiper les changements et y faire face sur le plan économique et social</a:t>
            </a:r>
            <a:endParaRPr b="0" lang="en-US" sz="18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057400" y="4111560"/>
            <a:ext cx="5638680" cy="257400"/>
          </a:xfrm>
          <a:prstGeom prst="rightArrow">
            <a:avLst>
              <a:gd name="adj1" fmla="val 44167"/>
              <a:gd name="adj2" fmla="val 351008"/>
            </a:avLst>
          </a:prstGeom>
          <a:solidFill>
            <a:srgbClr val="fac164"/>
          </a:solidFill>
          <a:ln w="9360">
            <a:solidFill>
              <a:srgbClr val="fac1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2057400" y="3863880"/>
            <a:ext cx="5562720" cy="276480"/>
          </a:xfrm>
          <a:prstGeom prst="rightArrow">
            <a:avLst>
              <a:gd name="adj1" fmla="val 32648"/>
              <a:gd name="adj2" fmla="val 305150"/>
            </a:avLst>
          </a:prstGeom>
          <a:solidFill>
            <a:srgbClr val="009e8c"/>
          </a:solidFill>
          <a:ln w="9360">
            <a:solidFill>
              <a:srgbClr val="009e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1080" y="1930320"/>
            <a:ext cx="1600200" cy="1905120"/>
          </a:xfrm>
          <a:prstGeom prst="ellipse">
            <a:avLst/>
          </a:prstGeom>
          <a:solidFill>
            <a:srgbClr val="d0fcd4"/>
          </a:solidFill>
          <a:ln w="9360">
            <a:solidFill>
              <a:srgbClr val="009e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e8c"/>
                </a:solidFill>
                <a:latin typeface="Arial"/>
              </a:rPr>
              <a:t>Parcours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28800" y="4673520"/>
            <a:ext cx="1447920" cy="1767240"/>
          </a:xfrm>
          <a:prstGeom prst="rect">
            <a:avLst/>
          </a:prstGeom>
          <a:solidFill>
            <a:srgbClr val="d0fcd4"/>
          </a:solidFill>
          <a:ln w="9360">
            <a:solidFill>
              <a:srgbClr val="009e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9e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9e8c"/>
                </a:solidFill>
                <a:latin typeface="Arial"/>
              </a:rPr>
              <a:t> </a:t>
            </a:r>
            <a:r>
              <a:rPr b="1" lang="fr-FR" sz="1200" spc="-1" strike="noStrike">
                <a:solidFill>
                  <a:srgbClr val="009e8c"/>
                </a:solidFill>
                <a:latin typeface="Arial"/>
              </a:rPr>
              <a:t>Impact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9e8c"/>
                </a:solidFill>
                <a:latin typeface="Arial"/>
              </a:rPr>
              <a:t>immédiat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9e8c"/>
                </a:solidFill>
                <a:latin typeface="Arial"/>
              </a:rPr>
              <a:t>émergence de la vision et des valeurs avec effets moyen et long terme sur la cultur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9e8c"/>
                </a:solidFill>
                <a:latin typeface="Arial"/>
              </a:rPr>
              <a:t>d’entrepris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00400" y="4676760"/>
            <a:ext cx="1523880" cy="1585800"/>
          </a:xfrm>
          <a:prstGeom prst="rect">
            <a:avLst/>
          </a:prstGeom>
          <a:solidFill>
            <a:srgbClr val="fbffa8"/>
          </a:solidFill>
          <a:ln w="9360">
            <a:solidFill>
              <a:srgbClr val="009e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9e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9e8c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9e8c"/>
                </a:solidFill>
                <a:latin typeface="Arial"/>
              </a:rPr>
              <a:t>Retour sur investissement de la formation par l’intégration grâce aux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9e8c"/>
                </a:solidFill>
                <a:latin typeface="Arial"/>
              </a:rPr>
              <a:t>télé-formations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4673520"/>
            <a:ext cx="1523880" cy="1159560"/>
          </a:xfrm>
          <a:prstGeom prst="rect">
            <a:avLst/>
          </a:prstGeom>
          <a:solidFill>
            <a:srgbClr val="d3d6f9"/>
          </a:solidFill>
          <a:ln w="9360">
            <a:solidFill>
              <a:srgbClr val="009e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9e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9e8c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9e8c"/>
                </a:solidFill>
                <a:latin typeface="Arial"/>
              </a:rPr>
              <a:t>Pérennité, viabilité et flexibilité face aux changements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5880" y="4673520"/>
            <a:ext cx="1600200" cy="1585800"/>
          </a:xfrm>
          <a:prstGeom prst="rect">
            <a:avLst/>
          </a:prstGeom>
          <a:solidFill>
            <a:srgbClr val="b4f2f4"/>
          </a:solidFill>
          <a:ln w="9360">
            <a:solidFill>
              <a:srgbClr val="009e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9e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9e8c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9e8c"/>
                </a:solidFill>
                <a:latin typeface="Arial"/>
              </a:rPr>
              <a:t>Amélioration continue des processus et valorisation des compétences individuelles et collectives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76720" y="1930320"/>
            <a:ext cx="1600200" cy="1905120"/>
          </a:xfrm>
          <a:prstGeom prst="ellipse">
            <a:avLst/>
          </a:prstGeom>
          <a:solidFill>
            <a:srgbClr val="fbffa8"/>
          </a:solidFill>
          <a:ln w="9360">
            <a:solidFill>
              <a:srgbClr val="009e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e8c"/>
                </a:solidFill>
                <a:latin typeface="Arial"/>
              </a:rPr>
              <a:t>Manager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e8c"/>
                </a:solidFill>
                <a:latin typeface="Arial"/>
              </a:rPr>
              <a:t>Plus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48320" y="1930320"/>
            <a:ext cx="1600200" cy="1905120"/>
          </a:xfrm>
          <a:prstGeom prst="ellipse">
            <a:avLst/>
          </a:prstGeom>
          <a:solidFill>
            <a:srgbClr val="d3d6f9"/>
          </a:solidFill>
          <a:ln w="9360">
            <a:solidFill>
              <a:srgbClr val="009e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e8c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e8c"/>
                </a:solidFill>
                <a:latin typeface="Arial"/>
              </a:rPr>
              <a:t>en mode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e8c"/>
                </a:solidFill>
                <a:latin typeface="Arial"/>
              </a:rPr>
              <a:t>projet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19920" y="1930320"/>
            <a:ext cx="1600200" cy="1905120"/>
          </a:xfrm>
          <a:prstGeom prst="ellipse">
            <a:avLst/>
          </a:prstGeom>
          <a:solidFill>
            <a:srgbClr val="b4f2f4"/>
          </a:solidFill>
          <a:ln w="9360">
            <a:solidFill>
              <a:srgbClr val="009e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e8c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e8c"/>
                </a:solidFill>
                <a:latin typeface="Arial"/>
              </a:rPr>
              <a:t>par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e8c"/>
                </a:solidFill>
                <a:latin typeface="Arial"/>
              </a:rPr>
              <a:t>la qualité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2006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9e8c"/>
                </a:solidFill>
                <a:latin typeface="Arial"/>
              </a:rPr>
              <a:t>Résultats internes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2120" y="391176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e8c"/>
                </a:solidFill>
                <a:latin typeface="Arial"/>
              </a:rPr>
              <a:t>SALARIES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772400" y="391176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e8c"/>
                </a:solidFill>
                <a:latin typeface="Arial"/>
              </a:rPr>
              <a:t>CLIENTS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772400" y="2724120"/>
            <a:ext cx="1219320" cy="778680"/>
          </a:xfrm>
          <a:prstGeom prst="rect">
            <a:avLst/>
          </a:prstGeom>
          <a:solidFill>
            <a:srgbClr val="fac1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009e8c"/>
                </a:solidFill>
                <a:latin typeface="Arial"/>
              </a:rPr>
              <a:t>Croissance de l’entreprise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2727360"/>
            <a:ext cx="1218960" cy="778680"/>
          </a:xfrm>
          <a:prstGeom prst="rect">
            <a:avLst/>
          </a:prstGeom>
          <a:solidFill>
            <a:srgbClr val="009e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fbffa8"/>
                </a:solidFill>
                <a:latin typeface="Arial"/>
              </a:rPr>
              <a:t>Implication des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fbffa8"/>
                </a:solidFill>
                <a:latin typeface="Arial"/>
              </a:rPr>
              <a:t>équipes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4292640"/>
            <a:ext cx="160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9e8c"/>
                </a:solidFill>
                <a:latin typeface="Arial"/>
              </a:rPr>
              <a:t>Reconnaissance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9e8c"/>
                </a:solidFill>
                <a:latin typeface="Arial"/>
              </a:rPr>
              <a:t>Motivation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9e8c"/>
                </a:solidFill>
                <a:latin typeface="Arial"/>
              </a:rPr>
              <a:t>Intelligence collective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43800" y="4292640"/>
            <a:ext cx="16002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9e8c"/>
                </a:solidFill>
                <a:latin typeface="Arial"/>
              </a:rPr>
              <a:t>Satisfaction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9e8c"/>
                </a:solidFill>
                <a:latin typeface="Arial"/>
              </a:rPr>
              <a:t>Fidélisation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9e8c"/>
                </a:solidFill>
                <a:latin typeface="Arial"/>
              </a:rPr>
              <a:t>Image sur le marché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" y="914400"/>
            <a:ext cx="1447920" cy="946440"/>
          </a:xfrm>
          <a:prstGeom prst="rect">
            <a:avLst/>
          </a:prstGeom>
          <a:solidFill>
            <a:srgbClr val="f3d7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9e8c"/>
                </a:solidFill>
                <a:latin typeface="Arial"/>
              </a:rPr>
              <a:t>Champs d’intervention techniques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9e8c"/>
                </a:solidFill>
                <a:latin typeface="Arial"/>
              </a:rPr>
              <a:t>de Khépri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438280" y="501480"/>
            <a:ext cx="6324840" cy="21654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705720" y="2209680"/>
            <a:ext cx="152280" cy="152640"/>
          </a:xfrm>
          <a:prstGeom prst="smileyFace">
            <a:avLst>
              <a:gd name="adj" fmla="val 9282"/>
            </a:avLst>
          </a:prstGeom>
          <a:solidFill>
            <a:srgbClr val="ffea18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038480" y="2286000"/>
            <a:ext cx="152640" cy="152280"/>
          </a:xfrm>
          <a:prstGeom prst="smileyFace">
            <a:avLst>
              <a:gd name="adj" fmla="val 9282"/>
            </a:avLst>
          </a:prstGeom>
          <a:solidFill>
            <a:srgbClr val="ffea18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10080" y="2209680"/>
            <a:ext cx="152640" cy="152640"/>
          </a:xfrm>
          <a:prstGeom prst="smileyFace">
            <a:avLst>
              <a:gd name="adj" fmla="val 9282"/>
            </a:avLst>
          </a:prstGeom>
          <a:solidFill>
            <a:srgbClr val="ffea18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438280" y="1905120"/>
            <a:ext cx="152640" cy="152280"/>
          </a:xfrm>
          <a:prstGeom prst="smileyFace">
            <a:avLst>
              <a:gd name="adj" fmla="val 9282"/>
            </a:avLst>
          </a:prstGeom>
          <a:solidFill>
            <a:srgbClr val="ffea18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52480" y="914400"/>
            <a:ext cx="1600200" cy="946440"/>
          </a:xfrm>
          <a:prstGeom prst="rect">
            <a:avLst/>
          </a:prstGeom>
          <a:solidFill>
            <a:srgbClr val="d0fcd4"/>
          </a:solidFill>
          <a:ln w="9360">
            <a:solidFill>
              <a:srgbClr val="009e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9e8c"/>
                </a:solidFill>
                <a:latin typeface="Arial"/>
              </a:rPr>
              <a:t>Cohésion d’équipes et communication interne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52680" y="914400"/>
            <a:ext cx="1447920" cy="946440"/>
          </a:xfrm>
          <a:prstGeom prst="rect">
            <a:avLst/>
          </a:prstGeom>
          <a:solidFill>
            <a:srgbClr val="fbffa8"/>
          </a:solidFill>
          <a:ln w="9360">
            <a:solidFill>
              <a:srgbClr val="009e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9e8c"/>
                </a:solidFill>
                <a:latin typeface="Arial"/>
              </a:rPr>
              <a:t>Formation et maintient des valeurs de l’entreprise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00600" y="914400"/>
            <a:ext cx="1447920" cy="946440"/>
          </a:xfrm>
          <a:prstGeom prst="rect">
            <a:avLst/>
          </a:prstGeom>
          <a:solidFill>
            <a:srgbClr val="d3d6f9"/>
          </a:solidFill>
          <a:ln w="9360">
            <a:solidFill>
              <a:srgbClr val="009e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9e8c"/>
                </a:solidFill>
                <a:latin typeface="Arial"/>
              </a:rPr>
              <a:t>Démarrage, poursuite et aboutissement d’un projet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248520" y="914400"/>
            <a:ext cx="1447560" cy="946440"/>
          </a:xfrm>
          <a:prstGeom prst="rect">
            <a:avLst/>
          </a:prstGeom>
          <a:solidFill>
            <a:srgbClr val="b4f2f4"/>
          </a:solidFill>
          <a:ln w="9360">
            <a:solidFill>
              <a:srgbClr val="009e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9e8c"/>
                </a:solidFill>
                <a:latin typeface="Arial"/>
              </a:rPr>
              <a:t>La performance face à la concurrence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077320" y="1295280"/>
            <a:ext cx="106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ed836e"/>
                </a:solidFill>
                <a:latin typeface="Arial"/>
              </a:rPr>
              <a:t>Valeur ajoutée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772400" y="198108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9e8c"/>
                </a:solidFill>
                <a:latin typeface="Arial"/>
              </a:rPr>
              <a:t>Résultats externes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0880" y="5715000"/>
            <a:ext cx="1447920" cy="733320"/>
          </a:xfrm>
          <a:prstGeom prst="rect">
            <a:avLst/>
          </a:prstGeom>
          <a:solidFill>
            <a:srgbClr val="fac164"/>
          </a:solidFill>
          <a:ln w="9360">
            <a:solidFill>
              <a:srgbClr val="009e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9e8c"/>
                </a:solidFill>
                <a:latin typeface="Arial"/>
              </a:rPr>
              <a:t>Avantages pour nos clients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7B03F-87BE-455E-8F2F-10E211F5383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9077EEC1-613E-468E-B3CE-AE26C977623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Nos produits phares</a:t>
            </a: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3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f4081"/>
                </a:solidFill>
                <a:latin typeface="Arial"/>
              </a:rPr>
              <a:t>Manager Plus </a:t>
            </a:r>
            <a:r>
              <a:rPr b="1" lang="fr-FR" sz="1200" spc="-1" strike="noStrike">
                <a:solidFill>
                  <a:srgbClr val="1f4081"/>
                </a:solidFill>
                <a:latin typeface="Arial"/>
              </a:rPr>
              <a:t>TM</a:t>
            </a:r>
            <a:endParaRPr b="0" lang="en-US" sz="12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f4081"/>
                </a:solidFill>
                <a:latin typeface="Arial"/>
              </a:rPr>
              <a:t>Parcours </a:t>
            </a:r>
            <a:r>
              <a:rPr b="1" lang="fr-FR" sz="1200" spc="-1" strike="noStrike">
                <a:solidFill>
                  <a:srgbClr val="1f4081"/>
                </a:solidFill>
                <a:latin typeface="Arial"/>
              </a:rPr>
              <a:t>TM</a:t>
            </a:r>
            <a:endParaRPr b="0" lang="en-US" sz="12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f4081"/>
                </a:solidFill>
                <a:latin typeface="Arial"/>
              </a:rPr>
              <a:t>Management des équipes en mode</a:t>
            </a: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f4081"/>
                </a:solidFill>
                <a:latin typeface="Arial"/>
              </a:rPr>
              <a:t>	</a:t>
            </a:r>
            <a:r>
              <a:rPr b="1" lang="fr-FR" sz="3200" spc="-1" strike="noStrike">
                <a:solidFill>
                  <a:srgbClr val="1f4081"/>
                </a:solidFill>
                <a:latin typeface="Arial"/>
              </a:rPr>
              <a:t>projet</a:t>
            </a: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f4081"/>
                </a:solidFill>
                <a:latin typeface="Arial"/>
              </a:rPr>
              <a:t>Management par la qualité</a:t>
            </a: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55E8-A525-407C-AE5F-8AE198688FF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578489-F657-41E9-9AAC-4B75E57FDA7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e8c"/>
                </a:solidFill>
                <a:latin typeface="Arial"/>
              </a:rPr>
              <a:t>“</a:t>
            </a:r>
            <a:r>
              <a:rPr b="1" lang="fr-FR" sz="3200" spc="-1" strike="noStrike">
                <a:solidFill>
                  <a:srgbClr val="009e8c"/>
                </a:solidFill>
                <a:latin typeface="Arial"/>
              </a:rPr>
              <a:t>Manager Plus”</a:t>
            </a:r>
            <a:r>
              <a:rPr b="1" lang="fr-FR" sz="3600" spc="-1" strike="noStrike" baseline="30000">
                <a:solidFill>
                  <a:srgbClr val="009e8c"/>
                </a:solidFill>
                <a:latin typeface="Arial"/>
              </a:rPr>
              <a:t>®</a:t>
            </a: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680" y="1479600"/>
            <a:ext cx="7772400" cy="45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f4081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1f4081"/>
                </a:solidFill>
                <a:latin typeface="Arial"/>
              </a:rPr>
              <a:t>Un perfectionnement au management avec l’appui de méthodes de coaching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e8c"/>
                </a:solidFill>
                <a:latin typeface="Arial"/>
              </a:rPr>
              <a:t>Cible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Un programme de formation pour responsables encadrants, managers, directeurs de réseaux, dirigeants souhaitant :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Trouver leur style de leadership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Intégrer des outils et un questionnement utilisés par des coachs professionnels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Inspirer l’auto-motivation de leurs collaborateurs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Renforcer l’organisation en valorisant la performance de chacun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Transformer le capital social en avantage concurrentiel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2B2F-3A62-4C53-B9F5-06F7E658B13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06FD0D-C2DD-4900-AB52-8FE64B5C51E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“</a:t>
            </a: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Manager Plus”</a:t>
            </a:r>
            <a:r>
              <a:rPr b="1" lang="fr-FR" sz="3600" spc="-1" strike="noStrike" baseline="30000">
                <a:solidFill>
                  <a:srgbClr val="009e8c"/>
                </a:solidFill>
                <a:latin typeface="Arial"/>
              </a:rPr>
              <a:t>®</a:t>
            </a: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9e8c"/>
                </a:solidFill>
                <a:latin typeface="Arial"/>
              </a:rPr>
              <a:t>Objectifs de la formation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16640" indent="-45072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6 mois d’accompagnement personnalisé pour :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2" marL="1356120" indent="-22608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Augmenter la crédibilité des hiérarchiques et pérenniser leur dynamique managériale,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2" marL="1356120" indent="-22608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Affirmer leur leadership en développant les synergies et la cohésion de leur équipe,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2" marL="1356120" indent="-22608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Motiver leurs collaborateurs autour de projets concrets ambitieux et réalistes,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2" marL="1356120" indent="-22608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Élever les performances de leur équipe en suscitant plaisir à travailler et désir de réussir, 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2" marL="1356120" indent="-22608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Prévenir et résoudre durablement les conflits,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2" marL="1356120" indent="-22608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Maîtriser les techniques de pilotage afin d’optimiser l’efficacité et la fiabilité individuelle et collective, 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2" marL="1356120" indent="-22608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Renforcer confiance, estime et affirmation de soi.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0C9A-0CF2-4D78-A8AA-B004D866F0B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FA9B2A-E5DC-4E15-8B82-DCFD241EFAB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“</a:t>
            </a: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Manager Plus”</a:t>
            </a:r>
            <a:r>
              <a:rPr b="1" lang="fr-FR" sz="3600" spc="-1" strike="noStrike" baseline="30000">
                <a:solidFill>
                  <a:srgbClr val="009e8c"/>
                </a:solidFill>
                <a:latin typeface="Arial"/>
              </a:rPr>
              <a:t>®</a:t>
            </a: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9e8c"/>
                </a:solidFill>
                <a:latin typeface="Arial"/>
              </a:rPr>
              <a:t>Valeur ajoutée pour l’entreprise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Assurer la rentabilité de vos investissements en formation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Plus de productivité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Baisse du turn over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Augmentation du CA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9e8c"/>
                </a:solidFill>
                <a:latin typeface="Arial"/>
              </a:rPr>
              <a:t>Les sociétés qui ont déjà fait confiance à ce programme de formation :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Groupe CIC, Banques populaires, Crédit Mutuel, Groupe Mulliez, la Mondiale, France 5, GDF, DHL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6FAA-89A1-4D8A-8A04-A253656B88F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70DBB2-3209-4416-BECF-8528879DB8B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“</a:t>
            </a: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Manager Plus”</a:t>
            </a:r>
            <a:r>
              <a:rPr b="1" lang="fr-FR" sz="3600" spc="-1" strike="noStrike" baseline="30000">
                <a:solidFill>
                  <a:srgbClr val="009e8c"/>
                </a:solidFill>
                <a:latin typeface="Arial"/>
              </a:rPr>
              <a:t>®</a:t>
            </a: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9e8c"/>
                </a:solidFill>
                <a:latin typeface="Arial"/>
              </a:rPr>
              <a:t>Organisation de la formation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06200" indent="-44604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f4081"/>
                </a:solidFill>
                <a:latin typeface="Arial"/>
              </a:rPr>
              <a:t>Programme de formation d’une durée de 6 mois comprenant :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1" marL="1006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2" marL="1342440" indent="-22392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3 séminaires résidentiels de 3 jours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2" marL="1342440" indent="-22392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8 séances de téléformation entre chaque séminaire, d’une heure par semaine 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2" marL="1342440" indent="-22392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8 séances, d’1 heure de supervision par quinzaine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2" marL="1342440" indent="-22392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24 séances de coaching assurées par les masters du réseau (optionnelles)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2" marL="1342440" indent="-22392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Taille des groupes : de 15 à 40 personnes, et ateliers expérentiels en petites équipes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06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1" marL="1006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665E-C7C6-4118-BEC6-F92530DFC1C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D837E1-6543-4C91-A37D-738E65EE0D5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“</a:t>
            </a: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Manager Plus”</a:t>
            </a:r>
            <a:r>
              <a:rPr b="1" lang="fr-FR" sz="3600" spc="-1" strike="noStrike" baseline="30000">
                <a:solidFill>
                  <a:srgbClr val="009e8c"/>
                </a:solidFill>
                <a:latin typeface="Arial"/>
              </a:rPr>
              <a:t>®</a:t>
            </a: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9e8c"/>
                </a:solidFill>
                <a:latin typeface="Arial"/>
              </a:rPr>
              <a:t>Stratégie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9e8c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009e8c"/>
                </a:solidFill>
                <a:latin typeface="Arial"/>
              </a:rPr>
              <a:t>“</a:t>
            </a:r>
            <a:r>
              <a:rPr b="1" lang="fr-FR" sz="2800" spc="-1" strike="noStrike">
                <a:solidFill>
                  <a:srgbClr val="009e8c"/>
                </a:solidFill>
                <a:latin typeface="Arial"/>
              </a:rPr>
              <a:t>Concept intégration” :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9e8c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009e8c"/>
                </a:solidFill>
                <a:latin typeface="Arial"/>
              </a:rPr>
              <a:t>Pas de formation sans téléformation !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f4081"/>
                </a:solidFill>
                <a:latin typeface="Arial"/>
              </a:rPr>
              <a:t>Formation en salle</a:t>
            </a: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 (résidentiel)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2" marL="1370160" indent="-228600">
              <a:lnSpc>
                <a:spcPct val="10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Alternance d’apports théoriques, de démonstrations et d’exercices pratiques sous forme d’ateliers favorisant l’intégration par l’action, chaque atelier faisant l’objet de supervision et de débriefing.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f4081"/>
                </a:solidFill>
                <a:latin typeface="Arial"/>
              </a:rPr>
              <a:t>Téléformation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2" marL="1370160" indent="-228600">
              <a:lnSpc>
                <a:spcPct val="10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La téléformation complète l’apport théorique pour intégrer tous les aspects du métier de manager.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7972-7645-4740-91EA-7EB71556DBA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AE8393-4A85-4080-9886-95FB6A39F46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“</a:t>
            </a: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Manager Plus”</a:t>
            </a:r>
            <a:r>
              <a:rPr b="1" lang="fr-FR" sz="3600" spc="-1" strike="noStrike" baseline="30000">
                <a:solidFill>
                  <a:srgbClr val="009e8c"/>
                </a:solidFill>
                <a:latin typeface="Arial"/>
              </a:rPr>
              <a:t>®</a:t>
            </a: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9e8c"/>
                </a:solidFill>
                <a:latin typeface="Arial"/>
              </a:rPr>
              <a:t>Supervision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2" marL="1370160" indent="-22860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Focalisation sur la mise en application sur le terrain du contenu de la formation. Mise en commun d’expériences, partage et recadrage.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9e8c"/>
                </a:solidFill>
                <a:latin typeface="Arial"/>
              </a:rPr>
              <a:t>Coaching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2" marL="1370160" indent="-22860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Permet de travailler sur son évolution personnelle : sa qualité relationnelle, son style de leadership, ses responsabilités, la cohérence de ses actions et prises de décisions, son efficacité, sa disponibilité.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CD47-003D-48B8-AE9D-8C64C2BF183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4444AD-4250-43D6-8E93-EF8E29D62B5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Parcours</a:t>
            </a:r>
            <a:r>
              <a:rPr b="1" lang="fr-FR" sz="3600" spc="-1" strike="noStrike" baseline="30000">
                <a:solidFill>
                  <a:srgbClr val="009e8c"/>
                </a:solidFill>
                <a:latin typeface="Arial"/>
              </a:rPr>
              <a:t>®</a:t>
            </a: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4160" indent="-434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1f4081"/>
                </a:solidFill>
                <a:latin typeface="Arial"/>
              </a:rPr>
              <a:t>Un regard nouveau</a:t>
            </a:r>
            <a:r>
              <a:rPr b="0" lang="fr-FR" sz="2800" spc="-1" strike="noStrike">
                <a:solidFill>
                  <a:srgbClr val="1f4081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1f4081"/>
                </a:solidFill>
                <a:latin typeface="Arial"/>
              </a:rPr>
              <a:t>sur l’ingénierie</a:t>
            </a:r>
            <a:br>
              <a:rPr sz="2800"/>
            </a:br>
            <a:r>
              <a:rPr b="1" lang="fr-FR" sz="2800" spc="-1" strike="noStrike">
                <a:solidFill>
                  <a:srgbClr val="1f4081"/>
                </a:solidFill>
                <a:latin typeface="Arial"/>
              </a:rPr>
              <a:t>d’évènements pédagogiques pour accompagner le changement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  <a:p>
            <a:pPr marL="434160" indent="-434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9e8c"/>
                </a:solidFill>
                <a:latin typeface="Arial"/>
              </a:rPr>
              <a:t>“</a:t>
            </a:r>
            <a:r>
              <a:rPr b="1" i="1" lang="fr-FR" sz="2800" spc="-1" strike="noStrike">
                <a:solidFill>
                  <a:srgbClr val="009e8c"/>
                </a:solidFill>
                <a:latin typeface="Arial"/>
              </a:rPr>
              <a:t>On me dit, j’oublie. </a:t>
            </a:r>
            <a:br>
              <a:rPr sz="2800"/>
            </a:br>
            <a:r>
              <a:rPr b="1" i="1" lang="fr-FR" sz="2800" spc="-1" strike="noStrike">
                <a:solidFill>
                  <a:srgbClr val="009e8c"/>
                </a:solidFill>
                <a:latin typeface="Arial"/>
              </a:rPr>
              <a:t>	</a:t>
            </a:r>
            <a:r>
              <a:rPr b="1" i="1" lang="fr-FR" sz="2800" spc="-1" strike="noStrike">
                <a:solidFill>
                  <a:srgbClr val="009e8c"/>
                </a:solidFill>
                <a:latin typeface="Arial"/>
              </a:rPr>
              <a:t>On me montre, je me souviens. </a:t>
            </a:r>
            <a:br>
              <a:rPr sz="2800"/>
            </a:br>
            <a:r>
              <a:rPr b="1" i="1" lang="fr-FR" sz="2800" spc="-1" strike="noStrike">
                <a:solidFill>
                  <a:srgbClr val="009e8c"/>
                </a:solidFill>
                <a:latin typeface="Arial"/>
              </a:rPr>
              <a:t>	</a:t>
            </a:r>
            <a:r>
              <a:rPr b="1" i="1" lang="fr-FR" sz="2800" spc="-1" strike="noStrike">
                <a:solidFill>
                  <a:srgbClr val="009e8c"/>
                </a:solidFill>
                <a:latin typeface="Arial"/>
              </a:rPr>
              <a:t>On m’implique, j’apprends…”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marL="434160" indent="-434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1f4081"/>
                </a:solidFill>
                <a:latin typeface="Arial"/>
              </a:rPr>
              <a:t>Une</a:t>
            </a:r>
            <a:r>
              <a:rPr b="1" i="1" lang="fr-FR" sz="2800" spc="-1" strike="noStrike">
                <a:solidFill>
                  <a:srgbClr val="1f4081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1f4081"/>
                </a:solidFill>
                <a:latin typeface="Arial"/>
              </a:rPr>
              <a:t>démarche systémique au cœur de l’entreprise en prise directe avec ses réalités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C41C-C7F1-4F34-BDF2-B319C754E98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CC1CD9-5E8D-4D6F-8327-30D5C716EEB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Le Changement Harmonique</a:t>
            </a:r>
            <a:r>
              <a:rPr b="1" lang="fr-FR" sz="3600" spc="-1" strike="noStrike" baseline="30000">
                <a:solidFill>
                  <a:srgbClr val="009e8c"/>
                </a:solidFill>
                <a:latin typeface="Times New Roman"/>
              </a:rPr>
              <a:t>®</a:t>
            </a: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120" y="2590920"/>
            <a:ext cx="80773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f4081"/>
                </a:solidFill>
                <a:latin typeface="Arial"/>
              </a:rPr>
              <a:t>Surfer sur la vague du changement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f4081"/>
                </a:solidFill>
                <a:latin typeface="Arial"/>
              </a:rPr>
              <a:t>Le changement comme vecteur de performance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f4081"/>
                </a:solidFill>
                <a:latin typeface="Arial"/>
              </a:rPr>
              <a:t>Vous avez la partition, nous vous aidons à la mettre en musique et à trouver les instruments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f4081"/>
                </a:solidFill>
                <a:latin typeface="Arial"/>
              </a:rPr>
              <a:t>de votre performance</a:t>
            </a:r>
            <a:r>
              <a:rPr b="0" lang="fr-FR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A7012-7A30-4896-995E-0D1B886AA57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FB61A971-191A-45A7-83CB-CE135014381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Parcours, pour quelles raisons ?</a:t>
            </a: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e8c"/>
                </a:solidFill>
                <a:latin typeface="Arial"/>
              </a:rPr>
              <a:t>Champs d’application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Conventions, forums, séminaires, kick-off,</a:t>
            </a:r>
            <a:br>
              <a:rPr sz="2000"/>
            </a:b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lancement de projets stratégiques…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e8c"/>
                </a:solidFill>
                <a:latin typeface="Arial"/>
              </a:rPr>
              <a:t>Objectif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Faire gagner du temps, de l’énergie et du mieux-être à l’entreprise dans les périodes charnières :</a:t>
            </a:r>
            <a:br>
              <a:rPr sz="2000"/>
            </a:b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Parcours est un accélérateur de changement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e8c"/>
                </a:solidFill>
                <a:latin typeface="Arial"/>
              </a:rPr>
              <a:t>Stratégie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Tous les collaborateurs sont acteurs et mobilisés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Communication interactive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Mise en scène de façon attrayante et concrète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BCD8-3414-4752-B1CB-2876B4C02CC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0DE4CE-8093-4139-A31B-7C2A97DBFF0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Parcours, pour quelles raisons ?</a:t>
            </a: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9e8c"/>
                </a:solidFill>
                <a:latin typeface="Arial"/>
              </a:rPr>
              <a:t>Valeur ajoutée pour l’entreprise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Avoir un impact durable et immédiat sous 48 H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Etre en phase avec les préoccupations</a:t>
            </a:r>
            <a:r>
              <a:rPr b="1" lang="fr-FR" sz="2400" spc="-1" strike="noStrike">
                <a:solidFill>
                  <a:srgbClr val="1f4081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actuelles :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2" marL="1370160" indent="-228600">
              <a:lnSpc>
                <a:spcPct val="10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Rapidité - mobilité - changement 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2" marL="1370160" indent="-228600">
              <a:lnSpc>
                <a:spcPct val="10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Montée en puissance des individus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9e8c"/>
                </a:solidFill>
                <a:latin typeface="Arial"/>
              </a:rPr>
              <a:t>Les sociétés qui ont déjà fait confiance à ce programme de formation :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Aventis, Schneider…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EF3F-CDED-4E88-B249-9FDDF1686AF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F6D5BB-970F-475C-99CB-EE387AB31F8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Caractéristiques de Parcours</a:t>
            </a:r>
            <a:r>
              <a:rPr b="1" lang="fr-FR" sz="3600" spc="-1" strike="noStrike" baseline="30000">
                <a:solidFill>
                  <a:srgbClr val="009e8c"/>
                </a:solidFill>
                <a:latin typeface="Arial"/>
              </a:rPr>
              <a:t>®</a:t>
            </a: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e8c"/>
                </a:solidFill>
                <a:latin typeface="Arial"/>
              </a:rPr>
              <a:t>Organisation</a:t>
            </a: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f4081"/>
                </a:solidFill>
                <a:latin typeface="Arial"/>
              </a:rPr>
              <a:t>Durée : 1 à 2 jours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f4081"/>
                </a:solidFill>
                <a:latin typeface="Arial"/>
              </a:rPr>
              <a:t>Lieu : Différents sites thématiques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f4081"/>
                </a:solidFill>
                <a:latin typeface="Arial"/>
              </a:rPr>
              <a:t>Nombre de personnes : 50 à 250 personnes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f4081"/>
                </a:solidFill>
                <a:latin typeface="Arial"/>
              </a:rPr>
              <a:t>Circulation : “nomadisme organisé”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f4081"/>
                </a:solidFill>
                <a:latin typeface="Arial"/>
              </a:rPr>
              <a:t>Scénographie attrayante et créative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f4081"/>
                </a:solidFill>
                <a:latin typeface="Arial"/>
              </a:rPr>
              <a:t>Animation : consultant “chef d’orchestre” et équipe d’animation interne de préférence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5AE0-4676-4308-A525-94949210D24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808DD3-F160-4763-8B8E-75DFF0122D5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Ses caractéristiques</a:t>
            </a: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f4081"/>
                </a:solidFill>
                <a:latin typeface="Arial"/>
              </a:rPr>
              <a:t>Approche basée sur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Organisation apprenante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Intelligence collective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Quotient émotionnel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Approche participative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Intranet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Logiciels sur mesure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Séquences enregistrées de vidéo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729E-AE57-455A-A51A-C981EC43CA9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DE38AC-D53A-469F-BFF4-D52765866EC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Mise-en-œuvre en co-production</a:t>
            </a: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Fort investissement en amont par la constitution</a:t>
            </a:r>
            <a:br>
              <a:rPr sz="2000"/>
            </a:b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d’un groupe de travail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f4081"/>
                </a:solidFill>
                <a:latin typeface="Arial"/>
              </a:rPr>
              <a:t>Direction générale</a:t>
            </a:r>
            <a:endParaRPr b="0" lang="en-US" sz="1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f4081"/>
                </a:solidFill>
                <a:latin typeface="Arial"/>
              </a:rPr>
              <a:t>Direction de la communication</a:t>
            </a:r>
            <a:endParaRPr b="0" lang="en-US" sz="1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f4081"/>
                </a:solidFill>
                <a:latin typeface="Arial"/>
              </a:rPr>
              <a:t>Direction des Ressources Humaines</a:t>
            </a:r>
            <a:endParaRPr b="0" lang="en-US" sz="1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f4081"/>
                </a:solidFill>
                <a:latin typeface="Arial"/>
              </a:rPr>
              <a:t>Direction de la formation</a:t>
            </a:r>
            <a:endParaRPr b="0" lang="en-US" sz="1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f4081"/>
                </a:solidFill>
                <a:latin typeface="Arial"/>
              </a:rPr>
              <a:t>Chefs de projets</a:t>
            </a:r>
            <a:endParaRPr b="0" lang="en-US" sz="1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Définition des thèmes clés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Elaboration et validation des contenus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Validation des modalités d’animation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Tests, groupe miroir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D05C-2DB9-4AE0-9C57-AA30D4E04E8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D2B60A-15B1-43D0-A3FD-1CF6DBC7F3A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Les facteurs clés de réussite</a:t>
            </a: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Créer un partenariat étroit avec la Direction de l’Entreprise pour préparer l’évènement.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Assurer une cohérence entre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La production de l’événement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La culture de l’entreprise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La progression pédagogique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Les moyens technologiques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Marquer les esprits par une réalisation innovante et ambitieuse.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Maîtriser les temps et les espaces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Associer Parcours et sa dimension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“</a:t>
            </a: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direct-live” à la communication globale.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51FE-2916-4212-9DC9-E18254D9170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375097-BEF8-4944-93F5-98F1EA1E5FC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Management en mode projet</a:t>
            </a: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e8c"/>
                </a:solidFill>
                <a:latin typeface="Arial"/>
              </a:rPr>
              <a:t>Champs d’application</a:t>
            </a: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84b81"/>
                </a:solidFill>
                <a:latin typeface="Arial"/>
              </a:rPr>
              <a:t>L’accompagnement du changement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84b81"/>
                </a:solidFill>
                <a:latin typeface="Arial"/>
              </a:rPr>
              <a:t>L’assurance qualité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84b81"/>
                </a:solidFill>
                <a:latin typeface="Arial"/>
              </a:rPr>
              <a:t>Le marketing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84b81"/>
                </a:solidFill>
                <a:latin typeface="Arial"/>
              </a:rPr>
              <a:t>La vente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84b81"/>
                </a:solidFill>
                <a:latin typeface="Arial"/>
              </a:rPr>
              <a:t>L’organisation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84b81"/>
                </a:solidFill>
                <a:latin typeface="Arial"/>
              </a:rPr>
              <a:t>Le management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9720-9E6F-455F-80F2-18238C937C70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558022-741E-4D62-846F-5B77EF25BAF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Management en mode projet</a:t>
            </a: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9e8c"/>
                </a:solidFill>
                <a:latin typeface="Arial"/>
              </a:rPr>
              <a:t>Objectif </a:t>
            </a:r>
            <a:r>
              <a:rPr b="0" lang="fr-FR" sz="2800" spc="-1" strike="noStrike">
                <a:solidFill>
                  <a:srgbClr val="009e8c"/>
                </a:solidFill>
                <a:latin typeface="Arial"/>
              </a:rPr>
              <a:t>(au niveau individuel ou d’une équipe)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16640" indent="-45072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e8c"/>
                </a:solidFill>
                <a:latin typeface="Arial"/>
              </a:rPr>
              <a:t>Découvrir deux modes d’apprentissage, que sont la modélisation et la métaphore symbolique pour :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2" marL="1356120" indent="-22608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84b81"/>
                </a:solidFill>
                <a:latin typeface="Arial"/>
              </a:rPr>
              <a:t>Mettre en œuvre des stratégies de changement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2" marL="1356120" indent="-22608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84b81"/>
                </a:solidFill>
                <a:latin typeface="Arial"/>
              </a:rPr>
              <a:t>Savoir identifier ses ressources internes à soi-même permettant l’atteinte de ses objectifs 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2" marL="1356120" indent="-22608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Se donner des critères de réussite et les hiérarchiser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2" marL="1356120" indent="-22608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Prendre facilement des décisions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2" marL="1356120" indent="-22608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Se donner les moyens de ses enjeux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2" marL="1356120" indent="-22608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Se mettre en action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2" marL="1356120" indent="-22608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Corriger le tir en avançant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921E-6000-4AA8-B3E0-3455E6CFC1C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56A617-1632-4B0D-81FD-C1CEB169004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Management en mode projet</a:t>
            </a: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e8c"/>
                </a:solidFill>
                <a:latin typeface="Arial"/>
              </a:rPr>
              <a:t>Organisation</a:t>
            </a:r>
            <a:r>
              <a:rPr b="1" lang="fr-FR" sz="2800" spc="-1" strike="noStrike">
                <a:solidFill>
                  <a:srgbClr val="1f4081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9e8c"/>
                </a:solidFill>
                <a:latin typeface="Arial"/>
              </a:rPr>
              <a:t>de la formation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f4081"/>
                </a:solidFill>
                <a:latin typeface="Arial"/>
              </a:rPr>
              <a:t>Durée du stage : 2 jours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f4081"/>
                </a:solidFill>
                <a:latin typeface="Arial"/>
              </a:rPr>
              <a:t>Lieu : en résidentiel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f4081"/>
                </a:solidFill>
                <a:latin typeface="Arial"/>
              </a:rPr>
              <a:t>Nombre de personnes : 10 à 12 personnes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A24D-92CD-46B7-831D-16558DEB953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84F14C-44B7-4442-AFF6-0980EE084E8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Management en mode projet</a:t>
            </a: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9e8c"/>
                </a:solidFill>
                <a:latin typeface="Arial"/>
              </a:rPr>
              <a:t>Valeur ajoutée pour les individus et l’entreprise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84b81"/>
                </a:solidFill>
                <a:latin typeface="Arial"/>
              </a:rPr>
              <a:t>Vous aider à développer une vision commune dans vos équipes et atteindre une meilleure cohérence dans l’action.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84b81"/>
                </a:solidFill>
                <a:latin typeface="Arial"/>
              </a:rPr>
              <a:t>Obtenir des résultats concrets pour 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2" marL="1370160" indent="-2286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84b81"/>
                </a:solidFill>
                <a:latin typeface="Arial"/>
              </a:rPr>
              <a:t>Développer son activité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2" marL="1370160" indent="-2286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84b81"/>
                </a:solidFill>
                <a:latin typeface="Arial"/>
              </a:rPr>
              <a:t>Améliorer sa façon de communiquer avec ses collaborateurs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2" marL="1370160" indent="-2286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84b81"/>
                </a:solidFill>
                <a:latin typeface="Arial"/>
              </a:rPr>
              <a:t>Résoudre des problèmes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2" marL="1370160" indent="-2286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84b81"/>
                </a:solidFill>
                <a:latin typeface="Arial"/>
              </a:rPr>
              <a:t>Préparer des réunions importantes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2" marL="1370160" indent="-2286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84b81"/>
                </a:solidFill>
                <a:latin typeface="Arial"/>
              </a:rPr>
              <a:t>Conduire efficacement un projet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47E5-94A4-400B-BB07-2576FF47D64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24DF31-3158-4AC4-88D9-3DD90834CCA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Style d’entreprise</a:t>
            </a: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772400" cy="36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e8c"/>
                </a:solidFill>
                <a:latin typeface="Arial"/>
              </a:rPr>
              <a:t>Une société du 21ème siècle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Apprenante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Organisée en réseau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Engagée auprès de ses clients (cf. charte déontologique p.40)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Qui allie éthique, intégrité, passion, exigence, humanisme et performance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f4081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1f4081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93D4-6BD8-4849-8D7C-3C1EAB1C162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E3F75C-F47C-4F70-90CC-CA414F89932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e8c"/>
                </a:solidFill>
                <a:latin typeface="Arial"/>
              </a:rPr>
              <a:t>Management par la qualité</a:t>
            </a:r>
            <a:br>
              <a:rPr sz="3200"/>
            </a:br>
            <a:endParaRPr b="0" lang="en-US" sz="32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3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9e8c"/>
                </a:solidFill>
                <a:latin typeface="Arial"/>
              </a:rPr>
              <a:t>Objectif</a:t>
            </a:r>
            <a:r>
              <a:rPr b="1" lang="fr-FR" sz="1200" spc="-1" strike="noStrike">
                <a:solidFill>
                  <a:srgbClr val="009e8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Développer la performance de l'entreprise et la conduire sur un mode d'amélioration continue</a:t>
            </a:r>
            <a:endParaRPr b="0" lang="en-US" sz="1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Accompagnement de l'entreprise jusqu'au niveau de la Certification ISO 9001</a:t>
            </a:r>
            <a:endParaRPr b="0" lang="en-US" sz="18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9e8c"/>
                </a:solidFill>
                <a:latin typeface="Arial"/>
              </a:rPr>
              <a:t>Stratégie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Planification, Analyse stratégique et Systémique, Mission et Vision (BSC) aide à l'identification et gestion des processus (cartographie, interface et interaction), paramétrage, Assistance et Accompagnement et mise en place des tableaux de bord et plans d'action pour l'amélioration continue de l'Organisme</a:t>
            </a:r>
            <a:endParaRPr b="0" lang="en-US" sz="18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9e8c"/>
                </a:solidFill>
                <a:latin typeface="Arial"/>
              </a:rPr>
              <a:t>Système d'information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Spécifications fonctionnelles, Opérationnelles, Normatives références AFNOR</a:t>
            </a:r>
            <a:endParaRPr b="0" lang="en-US" sz="16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A913-2EAF-4ACE-943C-8298706CC933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32CE5B-FD6F-4628-9866-B8D543C1946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"/>
          <p:cNvGrpSpPr/>
          <p:nvPr/>
        </p:nvGrpSpPr>
        <p:grpSpPr>
          <a:xfrm>
            <a:off x="3124080" y="1371600"/>
            <a:ext cx="2895840" cy="1143000"/>
            <a:chOff x="3124080" y="1371600"/>
            <a:chExt cx="2895840" cy="1143000"/>
          </a:xfrm>
        </p:grpSpPr>
        <p:sp>
          <p:nvSpPr>
            <p:cNvPr id="198" name=""/>
            <p:cNvSpPr/>
            <p:nvPr/>
          </p:nvSpPr>
          <p:spPr>
            <a:xfrm>
              <a:off x="3124080" y="1371600"/>
              <a:ext cx="2895840" cy="1143000"/>
            </a:xfrm>
            <a:prstGeom prst="rect">
              <a:avLst/>
            </a:prstGeom>
            <a:solidFill>
              <a:srgbClr val="3366ff"/>
            </a:solidFill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466080" y="1563840"/>
              <a:ext cx="2190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2a3d7a"/>
                  </a:solidFill>
                  <a:latin typeface="Arial"/>
                </a:rPr>
                <a:t>Entreprise</a:t>
              </a: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457200" y="3276720"/>
            <a:ext cx="990720" cy="685800"/>
          </a:xfrm>
          <a:prstGeom prst="rightArrow">
            <a:avLst>
              <a:gd name="adj1" fmla="val 50000"/>
              <a:gd name="adj2" fmla="val 36115"/>
            </a:avLst>
          </a:prstGeom>
          <a:solidFill>
            <a:srgbClr val="009e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96080" y="3352680"/>
            <a:ext cx="990720" cy="685800"/>
          </a:xfrm>
          <a:prstGeom prst="rightArrow">
            <a:avLst>
              <a:gd name="adj1" fmla="val 50000"/>
              <a:gd name="adj2" fmla="val 36115"/>
            </a:avLst>
          </a:prstGeom>
          <a:solidFill>
            <a:srgbClr val="009e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87080" y="3022560"/>
            <a:ext cx="6366600" cy="35060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a3d7a"/>
                </a:solidFill>
                <a:latin typeface="Arial"/>
              </a:rPr>
              <a:t>Vis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a3d7a"/>
                </a:solidFill>
                <a:latin typeface="Arial"/>
              </a:rPr>
              <a:t>Objectifs court, moyen, long term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a3d7a"/>
                </a:solidFill>
                <a:latin typeface="Arial"/>
              </a:rPr>
              <a:t>Stratégi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a3d7a"/>
                </a:solidFill>
                <a:latin typeface="Arial"/>
              </a:rPr>
              <a:t>Organisation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a3d7a"/>
                </a:solidFill>
                <a:latin typeface="Arial"/>
              </a:rPr>
              <a:t>Proces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a3d7a"/>
                </a:solidFill>
                <a:latin typeface="Arial"/>
              </a:rPr>
              <a:t>Ressources intern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a3d7a"/>
                </a:solidFill>
                <a:latin typeface="Arial"/>
              </a:rPr>
              <a:t>Ressources extern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e8c"/>
                </a:solidFill>
                <a:latin typeface="Arial"/>
              </a:rPr>
              <a:t>Management par la qualité</a:t>
            </a:r>
            <a:br>
              <a:rPr sz="3200"/>
            </a:br>
            <a:endParaRPr b="0" lang="en-US" sz="3200" spc="-1" strike="noStrike">
              <a:solidFill>
                <a:srgbClr val="009e8c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76320" y="1371600"/>
            <a:ext cx="2895480" cy="1143000"/>
            <a:chOff x="76320" y="1371600"/>
            <a:chExt cx="2895480" cy="1143000"/>
          </a:xfrm>
        </p:grpSpPr>
        <p:sp>
          <p:nvSpPr>
            <p:cNvPr id="205" name=""/>
            <p:cNvSpPr/>
            <p:nvPr/>
          </p:nvSpPr>
          <p:spPr>
            <a:xfrm>
              <a:off x="76320" y="1371600"/>
              <a:ext cx="2895480" cy="1143000"/>
            </a:xfrm>
            <a:prstGeom prst="rect">
              <a:avLst/>
            </a:prstGeom>
            <a:solidFill>
              <a:srgbClr val="ff9900"/>
            </a:solidFill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52280" y="1563840"/>
              <a:ext cx="2754720" cy="5814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2a3d7a"/>
                  </a:solidFill>
                  <a:latin typeface="Arial"/>
                </a:rPr>
                <a:t>Fournisseurs</a:t>
              </a: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6172200" y="1371600"/>
            <a:ext cx="2895480" cy="1143000"/>
            <a:chOff x="6172200" y="1371600"/>
            <a:chExt cx="2895480" cy="1143000"/>
          </a:xfrm>
        </p:grpSpPr>
        <p:sp>
          <p:nvSpPr>
            <p:cNvPr id="208" name=""/>
            <p:cNvSpPr/>
            <p:nvPr/>
          </p:nvSpPr>
          <p:spPr>
            <a:xfrm>
              <a:off x="6172200" y="1371600"/>
              <a:ext cx="2895480" cy="1143000"/>
            </a:xfrm>
            <a:prstGeom prst="rect">
              <a:avLst/>
            </a:prstGeom>
            <a:solidFill>
              <a:srgbClr val="ffcc00"/>
            </a:solidFill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836400" y="1616040"/>
              <a:ext cx="1535400" cy="581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2a3d7a"/>
                  </a:solidFill>
                  <a:latin typeface="Arial"/>
                </a:rPr>
                <a:t>Clients</a:t>
              </a:r>
              <a:endParaRPr b="0" lang="en-US" sz="3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 flipH="1">
            <a:off x="1523880" y="2514600"/>
            <a:ext cx="1524240" cy="457200"/>
          </a:xfrm>
          <a:prstGeom prst="line">
            <a:avLst/>
          </a:prstGeom>
          <a:ln w="255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095880" y="2514600"/>
            <a:ext cx="1524240" cy="457200"/>
          </a:xfrm>
          <a:prstGeom prst="line">
            <a:avLst/>
          </a:prstGeom>
          <a:ln w="255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038480" y="2590920"/>
            <a:ext cx="99072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e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3975-4B4D-4111-B906-FF44CB4238D8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D43B9E-04B2-451C-8649-F61871FE76C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066680" y="14475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e8c"/>
                </a:solidFill>
                <a:latin typeface="Arial"/>
              </a:rPr>
              <a:t>Revue et optimisation des paramètres d’organisation au niveau individuel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1" marL="1006200" indent="-446040">
              <a:lnSpc>
                <a:spcPct val="8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Mission</a:t>
            </a:r>
            <a:endParaRPr b="0" lang="en-US" sz="1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06200" indent="-446040">
              <a:lnSpc>
                <a:spcPct val="8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Description de poste</a:t>
            </a:r>
            <a:endParaRPr b="0" lang="en-US" sz="1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06200" indent="-446040">
              <a:lnSpc>
                <a:spcPct val="8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Objectifs</a:t>
            </a:r>
            <a:endParaRPr b="0" lang="en-US" sz="1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06200" indent="-446040">
              <a:lnSpc>
                <a:spcPct val="8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Indicateurs de suivi</a:t>
            </a:r>
            <a:endParaRPr b="0" lang="en-US" sz="1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06200" indent="-446040">
              <a:lnSpc>
                <a:spcPct val="8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Axes d’amélioration</a:t>
            </a:r>
            <a:endParaRPr b="0" lang="en-US" sz="1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0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e8c"/>
                </a:solidFill>
                <a:latin typeface="Arial"/>
              </a:rPr>
              <a:t>Revue et optimisation des paramètres d’organisation globale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1" marL="1006200" indent="-446040">
              <a:lnSpc>
                <a:spcPct val="8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Zones de recouvrement</a:t>
            </a:r>
            <a:endParaRPr b="0" lang="en-US" sz="1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06200" indent="-446040">
              <a:lnSpc>
                <a:spcPct val="8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Zones non-couvertes</a:t>
            </a:r>
            <a:endParaRPr b="0" lang="en-US" sz="1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06200" indent="-446040">
              <a:lnSpc>
                <a:spcPct val="8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Développement de process de backup</a:t>
            </a:r>
            <a:endParaRPr b="0" lang="en-US" sz="1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06200" indent="-446040">
              <a:lnSpc>
                <a:spcPct val="8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Process d’escalade et gestion des non-conformités</a:t>
            </a:r>
            <a:endParaRPr b="0" lang="en-US" sz="1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06200" indent="-446040">
              <a:lnSpc>
                <a:spcPct val="8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Suivi des indicateurs, tableaux de bord et plans d’action en cas de non-atteinte de l’objectif</a:t>
            </a:r>
            <a:endParaRPr b="0" lang="en-US" sz="1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0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9144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e8c"/>
                </a:solidFill>
                <a:latin typeface="Arial"/>
              </a:rPr>
              <a:t>Management par la qualité</a:t>
            </a:r>
            <a:br>
              <a:rPr sz="3200"/>
            </a:br>
            <a:r>
              <a:rPr b="1" lang="fr-FR" sz="3200" spc="-1" strike="noStrike">
                <a:solidFill>
                  <a:srgbClr val="009e8c"/>
                </a:solidFill>
                <a:latin typeface="Arial"/>
              </a:rPr>
              <a:t>ou la performance humaine</a:t>
            </a:r>
            <a:endParaRPr b="0" lang="en-US" sz="32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5DF1-2BFB-4C67-B917-833022942D81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9FB2A5-5765-4DE6-8B66-50B3239B422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5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e8c"/>
                </a:solidFill>
                <a:latin typeface="Arial"/>
              </a:rPr>
              <a:t>Valeur ajoutée pour l'entreprise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1" marL="934560" indent="-414360">
              <a:lnSpc>
                <a:spcPct val="8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a3d7a"/>
                </a:solidFill>
                <a:latin typeface="Arial"/>
              </a:rPr>
              <a:t>Amélioration continue de la performance, développement et amélioration de la compétence, maîtrise, conformité et niveau de certification du Système de Management de l'Entreprise, accès à de nouveaux marchés, développement du chiffre d’affaire, développement du profit opérationnel.</a:t>
            </a:r>
            <a:endParaRPr b="0" lang="en-US" sz="1800" spc="-1" strike="noStrike">
              <a:solidFill>
                <a:srgbClr val="1f4081"/>
              </a:solidFill>
              <a:latin typeface="Times New Roman"/>
            </a:endParaRPr>
          </a:p>
          <a:p>
            <a:pPr lvl="1" marL="934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15800" indent="-41580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e8c"/>
                </a:solidFill>
                <a:latin typeface="Arial"/>
              </a:rPr>
              <a:t>Les sociétés qui ont déjà fait confiance à cette démarche :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1" marL="934560" indent="-414360">
              <a:lnSpc>
                <a:spcPct val="8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a3d7a"/>
                </a:solidFill>
                <a:latin typeface="Arial"/>
              </a:rPr>
              <a:t>Logistique : VPC Bruneau, Raja - Sté de Génie Génétique Genodyssée</a:t>
            </a:r>
            <a:endParaRPr b="0" lang="en-US" sz="1800" spc="-1" strike="noStrike">
              <a:solidFill>
                <a:srgbClr val="1f4081"/>
              </a:solidFill>
              <a:latin typeface="Times New Roman"/>
            </a:endParaRPr>
          </a:p>
          <a:p>
            <a:pPr lvl="1" marL="934560" indent="-414360">
              <a:lnSpc>
                <a:spcPct val="8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a3d7a"/>
                </a:solidFill>
                <a:latin typeface="Arial"/>
              </a:rPr>
              <a:t>Publicité et Mktg Direct : Infoflash - Mécanique Générale: Acmel, Sorel</a:t>
            </a:r>
            <a:endParaRPr b="0" lang="en-US" sz="1800" spc="-1" strike="noStrike">
              <a:solidFill>
                <a:srgbClr val="1f4081"/>
              </a:solidFill>
              <a:latin typeface="Times New Roman"/>
            </a:endParaRPr>
          </a:p>
          <a:p>
            <a:pPr lvl="1" marL="934560" indent="-414360">
              <a:lnSpc>
                <a:spcPct val="8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a3d7a"/>
                </a:solidFill>
                <a:latin typeface="Arial"/>
              </a:rPr>
              <a:t>Aménagement d'Entreprise: Mécanobloc</a:t>
            </a:r>
            <a:endParaRPr b="0" lang="en-US" sz="1800" spc="-1" strike="noStrike">
              <a:solidFill>
                <a:srgbClr val="1f4081"/>
              </a:solidFill>
              <a:latin typeface="Times New Roman"/>
            </a:endParaRPr>
          </a:p>
          <a:p>
            <a:pPr lvl="1" marL="934560" indent="-414360">
              <a:lnSpc>
                <a:spcPct val="8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a3d7a"/>
                </a:solidFill>
                <a:latin typeface="Arial"/>
              </a:rPr>
              <a:t>Stés de Négoce : Ellexcience, Géca technique, SM Galtié</a:t>
            </a:r>
            <a:endParaRPr b="0" lang="en-US" sz="1800" spc="-1" strike="noStrike">
              <a:solidFill>
                <a:srgbClr val="1f4081"/>
              </a:solidFill>
              <a:latin typeface="Times New Roman"/>
            </a:endParaRPr>
          </a:p>
          <a:p>
            <a:pPr lvl="1" marL="934560" indent="-414360">
              <a:lnSpc>
                <a:spcPct val="8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a3d7a"/>
                </a:solidFill>
                <a:latin typeface="Arial"/>
              </a:rPr>
              <a:t>Collecte 1% patronal: Solendi</a:t>
            </a:r>
            <a:endParaRPr b="0" lang="en-US" sz="1800" spc="-1" strike="noStrike">
              <a:solidFill>
                <a:srgbClr val="1f4081"/>
              </a:solidFill>
              <a:latin typeface="Times New Roman"/>
            </a:endParaRPr>
          </a:p>
          <a:p>
            <a:pPr lvl="1" marL="934560" indent="-414360">
              <a:lnSpc>
                <a:spcPct val="8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a3d7a"/>
                </a:solidFill>
                <a:latin typeface="Arial"/>
              </a:rPr>
              <a:t>Bâtimen : Franco-Suisse</a:t>
            </a:r>
            <a:endParaRPr b="0" lang="en-US" sz="1800" spc="-1" strike="noStrike">
              <a:solidFill>
                <a:srgbClr val="1f4081"/>
              </a:solidFill>
              <a:latin typeface="Times New Roman"/>
            </a:endParaRPr>
          </a:p>
          <a:p>
            <a:pPr lvl="1" marL="934560" indent="-414360">
              <a:lnSpc>
                <a:spcPct val="8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a3d7a"/>
                </a:solidFill>
                <a:latin typeface="Arial"/>
              </a:rPr>
              <a:t>Intérim : VédiorBis, Expectra France </a:t>
            </a:r>
            <a:endParaRPr b="0" lang="en-US" sz="1800" spc="-1" strike="noStrike">
              <a:solidFill>
                <a:srgbClr val="1f4081"/>
              </a:solidFill>
              <a:latin typeface="Times New Roman"/>
            </a:endParaRPr>
          </a:p>
          <a:p>
            <a:pPr lvl="1" marL="934560" indent="-414360">
              <a:lnSpc>
                <a:spcPct val="8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a3d7a"/>
                </a:solidFill>
                <a:latin typeface="Arial"/>
              </a:rPr>
              <a:t>Imprimerie: Seic…</a:t>
            </a:r>
            <a:endParaRPr b="0" lang="en-US" sz="18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e8c"/>
                </a:solidFill>
                <a:latin typeface="Arial"/>
              </a:rPr>
              <a:t>Management par la qualité</a:t>
            </a:r>
            <a:br>
              <a:rPr sz="3200"/>
            </a:br>
            <a:endParaRPr b="0" lang="en-US" sz="32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8B72-A719-4269-9135-A1538F70A093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07BAA6-4EB2-473E-A567-247DFF0E31D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Formations thématiques - </a:t>
            </a:r>
            <a:r>
              <a:rPr b="1" lang="fr-FR" sz="3200" spc="-1" strike="noStrike">
                <a:solidFill>
                  <a:srgbClr val="009e8c"/>
                </a:solidFill>
                <a:latin typeface="Arial"/>
              </a:rPr>
              <a:t>PME-PMI</a:t>
            </a:r>
            <a:endParaRPr b="0" lang="en-US" sz="32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3810240" cy="45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-42516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Management du changement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25160" indent="-42516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Développer ses capacités managériales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25160" indent="-42516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Induire le changement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25160" indent="-42516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Générer du temps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25160" indent="-42516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Organiser une réunion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25160" indent="-42516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Parler en public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25160" indent="-42516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Savoir communiquer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25160" indent="-42516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Gérer les conflits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25160" indent="-42516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Bien se connaître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25160" indent="-42516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Transmission des compétences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25160" indent="-42516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Management Force de Vente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76920" y="1828800"/>
            <a:ext cx="3962160" cy="45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Diriger une équipe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Savoir déléguer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Savoir motiver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Savoir négocier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Prendre facilement des décisions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Le stress positif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Conduire un projet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Management &amp; NTIC (ou management à distantce)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Plus de leadership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Les entretiens professionnels du Manager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90720" y="1295280"/>
            <a:ext cx="784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f4081"/>
                </a:solidFill>
                <a:latin typeface="Arial"/>
              </a:rPr>
              <a:t>Toutes ces formations commencent par un module : Bien se connaîtr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3FC2-1860-4BC3-BAEA-4A92D8F17DB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243BEC-18B2-4668-9893-664911DFA1B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Formations thématiques - </a:t>
            </a:r>
            <a:r>
              <a:rPr b="1" lang="fr-FR" sz="3200" spc="-1" strike="noStrike">
                <a:solidFill>
                  <a:srgbClr val="009e8c"/>
                </a:solidFill>
                <a:latin typeface="Arial"/>
              </a:rPr>
              <a:t>TPE</a:t>
            </a:r>
            <a:endParaRPr b="0" lang="en-US" sz="32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81024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84b81"/>
                </a:solidFill>
                <a:latin typeface="Arial"/>
              </a:rPr>
              <a:t>Le type de mon entreprise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84b81"/>
                </a:solidFill>
                <a:latin typeface="Arial"/>
              </a:rPr>
              <a:t>Créer les conditions de l'auto-motivation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84b81"/>
                </a:solidFill>
                <a:latin typeface="Arial"/>
              </a:rPr>
              <a:t>Valoriser son intuition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84b81"/>
                </a:solidFill>
                <a:latin typeface="Arial"/>
              </a:rPr>
              <a:t>Savoir s’entourer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84b81"/>
                </a:solidFill>
                <a:latin typeface="Arial"/>
              </a:rPr>
              <a:t>Prendre facilement des décisions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84b81"/>
                </a:solidFill>
                <a:latin typeface="Arial"/>
              </a:rPr>
              <a:t>Faire émerger ses capacités commerciales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28840" y="1676160"/>
            <a:ext cx="380988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84b81"/>
                </a:solidFill>
                <a:latin typeface="Arial"/>
              </a:rPr>
              <a:t>Une image pour mon projet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Conduire un projet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84b81"/>
                </a:solidFill>
                <a:latin typeface="Arial"/>
              </a:rPr>
              <a:t>Générer du temps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84b81"/>
                </a:solidFill>
                <a:latin typeface="Arial"/>
              </a:rPr>
              <a:t>Le stress positif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84b81"/>
                </a:solidFill>
                <a:latin typeface="Arial"/>
              </a:rPr>
              <a:t>Gérer les conflits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84b81"/>
                </a:solidFill>
                <a:latin typeface="Arial"/>
              </a:rPr>
              <a:t>Parler en public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4507-FF33-4DC9-A2BF-F2B5B47C8C2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0AE5B2-D2FC-4848-BEDF-9C424534C70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Organisation de travail Khépri</a:t>
            </a: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f4081"/>
                </a:solidFill>
                <a:latin typeface="Arial"/>
              </a:rPr>
              <a:t>Cellules de travail internes</a:t>
            </a: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1f4081"/>
                </a:solidFill>
                <a:latin typeface="Arial"/>
              </a:rPr>
              <a:t>Management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1f4081"/>
                </a:solidFill>
                <a:latin typeface="Arial"/>
              </a:rPr>
              <a:t>Recherche et développement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f4081"/>
                </a:solidFill>
                <a:latin typeface="Arial"/>
              </a:rPr>
              <a:t>Pour toujours plus de créativité et d’adaptation pour nos clients</a:t>
            </a: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8780-702B-4AB4-9C8D-8E53A766DF1D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D631E6-3DD8-4185-9F2F-1658E9A3CAF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Management</a:t>
            </a: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f4081"/>
                </a:solidFill>
                <a:latin typeface="Arial"/>
              </a:rPr>
              <a:t>Ingénierie de formation</a:t>
            </a: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f4081"/>
                </a:solidFill>
                <a:latin typeface="Arial"/>
              </a:rPr>
              <a:t>Mise en place de sessions de formation 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f4081"/>
                </a:solidFill>
                <a:latin typeface="Arial"/>
              </a:rPr>
              <a:t>Adaptation de contenus pédagogiques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f4081"/>
                </a:solidFill>
                <a:latin typeface="Arial"/>
              </a:rPr>
              <a:t>Animation des formations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f4081"/>
                </a:solidFill>
                <a:latin typeface="Arial"/>
              </a:rPr>
              <a:t>Constitution de ressources techniques et humaines sur nos produits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f4081"/>
                </a:solidFill>
                <a:latin typeface="Arial"/>
              </a:rPr>
              <a:t>Téléformation, supervision, coaching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87DA-9D10-4B8A-9B8C-6D9B88230EC6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66D3B4-9038-4125-B362-F132DCF39FC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Recherche et développement</a:t>
            </a: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f4081"/>
                </a:solidFill>
                <a:latin typeface="Arial"/>
              </a:rPr>
              <a:t>Créativité et innovation</a:t>
            </a: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f4081"/>
                </a:solidFill>
                <a:latin typeface="Arial"/>
              </a:rPr>
              <a:t>Accroître notre capacité d’auto-formation en tant qu’entreprise apprenante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f4081"/>
                </a:solidFill>
                <a:latin typeface="Arial"/>
              </a:rPr>
              <a:t>Atelier de recherche sur des compétences croisées 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f4081"/>
                </a:solidFill>
                <a:latin typeface="Arial"/>
              </a:rPr>
              <a:t>Atelier d’improvisation théâtrale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f4081"/>
                </a:solidFill>
                <a:latin typeface="Arial"/>
              </a:rPr>
              <a:t>Techniques d’intervention ludiques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9D0B-8F63-4461-A494-ACC7CCCBCFB8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90C7C6-4362-47B4-BC3F-212CF6F01FD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Charte qualité rigoureuse</a:t>
            </a: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1f4081"/>
                </a:solidFill>
                <a:latin typeface="Arial"/>
              </a:rPr>
              <a:t>Coaching City </a:t>
            </a: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(réseau actifs de coachs)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Un cadre de référence de notre profession par lequel nous nous engageaons à respecter les règles déontologiques établies par notre réseau :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2" marL="1370160" indent="-22860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Formation constante, supervision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2" marL="1370160" indent="-22860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Engagement pénal à ne pas adhérer à un mouvement sectaire (MIVILUDES)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2" marL="1370160" indent="-22860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Assurance professionnelle spécifique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2" marL="1370160" indent="-22860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Parfaite et totale confidentialité 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D2D2-6646-425A-82DC-A412B329617E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1981A3-4B10-4AF5-97DB-5B5CED437AE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Vocation de Khépri</a:t>
            </a:r>
            <a:r>
              <a:rPr b="1" lang="fr-FR" sz="3600" spc="-1" strike="noStrike">
                <a:solidFill>
                  <a:srgbClr val="009e8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e8c"/>
                </a:solidFill>
                <a:latin typeface="Arial"/>
              </a:rPr>
              <a:t>Créer de la valeur ajoutée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e8c"/>
                </a:solidFill>
                <a:latin typeface="Arial"/>
              </a:rPr>
              <a:t>Faciliter les mutations technologiques, organisationnelles et culturelles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e8c"/>
                </a:solidFill>
                <a:latin typeface="Arial"/>
              </a:rPr>
              <a:t>sécuriser les étapes d'évolution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e8c"/>
                </a:solidFill>
                <a:latin typeface="Arial"/>
              </a:rPr>
              <a:t>Utiliser l’instabilité économique comme catalyseur de motivation dans l’entreprise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Accepter la nouveauté en développant la créativité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Responsabiliser les équipes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Pratiquer une communication ouverte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Renforcer le leadership de chacun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8282-E1E6-4FFE-BD06-93EE3CE3D23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4DD18D-D80E-45E9-8336-940081AAB1F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e8c"/>
                </a:solidFill>
                <a:latin typeface="Arial"/>
              </a:rPr>
              <a:t>Organisation de la société</a:t>
            </a:r>
            <a:endParaRPr b="0" lang="en-US" sz="32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3581280"/>
            <a:ext cx="1905120" cy="1905120"/>
          </a:xfrm>
          <a:prstGeom prst="triangle">
            <a:avLst>
              <a:gd name="adj" fmla="val 50000"/>
            </a:avLst>
          </a:prstGeom>
          <a:solidFill>
            <a:srgbClr val="fce8c3"/>
          </a:solidFill>
          <a:ln w="9360">
            <a:solidFill>
              <a:srgbClr val="009e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2209680"/>
            <a:ext cx="1600200" cy="1067040"/>
          </a:xfrm>
          <a:prstGeom prst="rect">
            <a:avLst/>
          </a:prstGeom>
          <a:solidFill>
            <a:srgbClr val="fce7c3"/>
          </a:solidFill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f4081"/>
                </a:solidFill>
                <a:latin typeface="Arial"/>
              </a:rPr>
              <a:t>Forc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f4081"/>
                </a:solidFill>
                <a:latin typeface="Arial"/>
              </a:rPr>
              <a:t>de vent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1676520"/>
            <a:ext cx="2286000" cy="1295280"/>
          </a:xfrm>
          <a:prstGeom prst="rect">
            <a:avLst/>
          </a:prstGeom>
          <a:solidFill>
            <a:srgbClr val="fce8c3"/>
          </a:solidFill>
          <a:ln w="9360">
            <a:solidFill>
              <a:srgbClr val="009e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086600" y="2362320"/>
            <a:ext cx="1600200" cy="1066680"/>
          </a:xfrm>
          <a:prstGeom prst="rect">
            <a:avLst/>
          </a:prstGeom>
          <a:solidFill>
            <a:srgbClr val="fdecc9"/>
          </a:solidFill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d7a"/>
                </a:solidFill>
                <a:latin typeface="Arial"/>
              </a:rPr>
              <a:t>Management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d7a"/>
                </a:solidFill>
                <a:latin typeface="Arial"/>
              </a:rPr>
              <a:t>&amp; Formation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62520" y="1828800"/>
            <a:ext cx="190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f4081"/>
                </a:solidFill>
                <a:latin typeface="Arial"/>
              </a:rPr>
              <a:t>Recherch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f4081"/>
                </a:solidFill>
                <a:latin typeface="Arial"/>
              </a:rPr>
              <a:t>&amp; Développement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14755800">
            <a:off x="5421960" y="295956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9e8c"/>
          </a:solidFill>
          <a:ln w="9360">
            <a:solidFill>
              <a:srgbClr val="009e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7604400">
            <a:off x="3287880" y="295956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9e8c"/>
          </a:solidFill>
          <a:ln w="9360">
            <a:solidFill>
              <a:srgbClr val="009e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1523880"/>
            <a:ext cx="1214640" cy="733680"/>
          </a:xfrm>
          <a:custGeom>
            <a:avLst/>
            <a:gdLst>
              <a:gd name="textAreaLeft" fmla="*/ 212400 w 1214640"/>
              <a:gd name="textAreaRight" fmla="*/ 880560 w 121464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9e8c"/>
          </a:solidFill>
          <a:ln w="9360">
            <a:solidFill>
              <a:srgbClr val="009e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0737600">
            <a:off x="2361600" y="1447200"/>
            <a:ext cx="1214280" cy="73332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9e8c"/>
          </a:solidFill>
          <a:ln w="9360">
            <a:solidFill>
              <a:srgbClr val="009e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76560" y="4767120"/>
            <a:ext cx="157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f4081"/>
                </a:solidFill>
                <a:latin typeface="Arial"/>
              </a:rPr>
              <a:t>Co-équipier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f4081"/>
                </a:solidFill>
                <a:latin typeface="Arial"/>
              </a:rPr>
              <a:t>Khépri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589400">
            <a:off x="6095880" y="5486040"/>
            <a:ext cx="1214640" cy="485640"/>
          </a:xfrm>
          <a:prstGeom prst="leftRightArrow">
            <a:avLst>
              <a:gd name="adj1" fmla="val 50000"/>
              <a:gd name="adj2" fmla="val 49790"/>
            </a:avLst>
          </a:prstGeom>
          <a:solidFill>
            <a:srgbClr val="fac164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a3d7a"/>
                </a:solidFill>
                <a:latin typeface="Arial"/>
              </a:rPr>
              <a:t>Réseau professionn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50840" y="3317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3760" y="3274920"/>
            <a:ext cx="2533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1f4081"/>
                </a:solidFill>
                <a:latin typeface="Arial"/>
              </a:rPr>
              <a:t>Accompagnement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1f4081"/>
                </a:solidFill>
                <a:latin typeface="Arial"/>
              </a:rPr>
              <a:t>d’équipes commerciales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1f4081"/>
                </a:solidFill>
                <a:latin typeface="Arial"/>
              </a:rPr>
              <a:t>sur le terrain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172200" y="3505320"/>
            <a:ext cx="297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1f4081"/>
                </a:solidFill>
                <a:latin typeface="Arial"/>
              </a:rPr>
              <a:t>Manager Coach Training </a:t>
            </a:r>
            <a:r>
              <a:rPr b="1" lang="fr-FR" sz="500" spc="-1" strike="noStrike">
                <a:solidFill>
                  <a:srgbClr val="1f4081"/>
                </a:solidFill>
                <a:latin typeface="Arial"/>
              </a:rPr>
              <a:t>TM</a:t>
            </a:r>
            <a:endParaRPr b="0" lang="en-US" sz="5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1f4081"/>
                </a:solidFill>
                <a:latin typeface="Arial"/>
              </a:rPr>
              <a:t>Modélisation et Apprentissage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387680" y="5791320"/>
            <a:ext cx="717840" cy="7174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838080" y="4495680"/>
            <a:ext cx="1600200" cy="1067040"/>
          </a:xfrm>
          <a:prstGeom prst="rect">
            <a:avLst/>
          </a:prstGeom>
          <a:solidFill>
            <a:srgbClr val="c2d4ec"/>
          </a:solidFill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d7a"/>
                </a:solidFill>
                <a:latin typeface="Arial"/>
              </a:rPr>
              <a:t>Intervention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d7a"/>
                </a:solidFill>
                <a:latin typeface="Arial"/>
              </a:rPr>
              <a:t>en entreprise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05680" y="1293840"/>
            <a:ext cx="293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f4081"/>
                </a:solidFill>
                <a:latin typeface="Arial"/>
              </a:rPr>
              <a:t>Formations et intégration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90920" y="5029200"/>
            <a:ext cx="1218960" cy="485640"/>
          </a:xfrm>
          <a:prstGeom prst="leftArrow">
            <a:avLst>
              <a:gd name="adj1" fmla="val 50000"/>
              <a:gd name="adj2" fmla="val 62750"/>
            </a:avLst>
          </a:prstGeom>
          <a:solidFill>
            <a:srgbClr val="009e8c"/>
          </a:solidFill>
          <a:ln w="9360">
            <a:solidFill>
              <a:srgbClr val="009e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7" idx="2"/>
          </p:cNvCxnSpPr>
          <p:nvPr/>
        </p:nvCxnSpPr>
        <p:spPr>
          <a:xfrm rot="5400000">
            <a:off x="6433560" y="4255920"/>
            <a:ext cx="1458000" cy="991440"/>
          </a:xfrm>
          <a:prstGeom prst="bentConnector3">
            <a:avLst>
              <a:gd name="adj1" fmla="val 49987"/>
            </a:avLst>
          </a:prstGeom>
          <a:ln w="38160">
            <a:solidFill>
              <a:srgbClr val="009e8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3" name=""/>
          <p:cNvCxnSpPr/>
          <p:nvPr/>
        </p:nvCxnSpPr>
        <p:spPr>
          <a:xfrm rot="5400000">
            <a:off x="2628000" y="3314520"/>
            <a:ext cx="2210400" cy="1524600"/>
          </a:xfrm>
          <a:prstGeom prst="bentConnector3">
            <a:avLst>
              <a:gd name="adj1" fmla="val 49991"/>
            </a:avLst>
          </a:prstGeom>
          <a:ln w="38160">
            <a:solidFill>
              <a:srgbClr val="009e8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4" name=""/>
          <p:cNvCxnSpPr/>
          <p:nvPr/>
        </p:nvCxnSpPr>
        <p:spPr>
          <a:xfrm>
            <a:off x="2590920" y="2970360"/>
            <a:ext cx="4420080" cy="2160"/>
          </a:xfrm>
          <a:prstGeom prst="straightConnector1">
            <a:avLst/>
          </a:prstGeom>
          <a:ln w="38160">
            <a:solidFill>
              <a:srgbClr val="009e8c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5" name=""/>
          <p:cNvSpPr/>
          <p:nvPr/>
        </p:nvSpPr>
        <p:spPr>
          <a:xfrm>
            <a:off x="609480" y="5638680"/>
            <a:ext cx="365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1f4081"/>
                </a:solidFill>
                <a:latin typeface="Arial"/>
              </a:rPr>
              <a:t>Parcours </a:t>
            </a:r>
            <a:r>
              <a:rPr b="1" lang="fr-FR" sz="600" spc="-1" strike="noStrike">
                <a:solidFill>
                  <a:srgbClr val="1f4081"/>
                </a:solidFill>
                <a:latin typeface="Arial"/>
              </a:rPr>
              <a:t>TM</a:t>
            </a:r>
            <a:endParaRPr b="0" lang="en-US" sz="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1f4081"/>
                </a:solidFill>
                <a:latin typeface="Arial"/>
              </a:rPr>
              <a:t>Process management de la qualité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934320" y="4343400"/>
            <a:ext cx="2057400" cy="1066680"/>
          </a:xfrm>
          <a:prstGeom prst="rect">
            <a:avLst/>
          </a:prstGeom>
          <a:solidFill>
            <a:srgbClr val="c2d4ec"/>
          </a:solidFill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2a3d7a"/>
                </a:solidFill>
                <a:latin typeface="Arial"/>
              </a:rPr>
              <a:t>Coach Up Institut,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2a3d7a"/>
                </a:solidFill>
                <a:latin typeface="Arial"/>
              </a:rPr>
              <a:t>1er institut européen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2a3d7a"/>
                </a:solidFill>
                <a:latin typeface="Arial"/>
              </a:rPr>
              <a:t>de formation de coachs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2a3d7a"/>
                </a:solidFill>
                <a:latin typeface="Arial"/>
              </a:rPr>
              <a:t>professionnels</a:t>
            </a:r>
            <a:r>
              <a:rPr b="1" lang="fr-FR" sz="1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7924680" y="5867280"/>
            <a:ext cx="1067040" cy="60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F99F-11F1-426C-BFEE-2ECACB8F7F48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D466A2-A181-4554-A322-EC5B501451F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2a3d7a"/>
                </a:solidFill>
                <a:latin typeface="Arial"/>
              </a:rPr>
              <a:t>KHEPRI</a:t>
            </a:r>
            <a:br>
              <a:rPr sz="4000"/>
            </a:br>
            <a:r>
              <a:rPr b="1" lang="fr-FR" sz="4000" spc="-1" strike="noStrike">
                <a:solidFill>
                  <a:srgbClr val="2a3d7a"/>
                </a:solidFill>
                <a:latin typeface="Arial"/>
              </a:rPr>
              <a:t>&amp;</a:t>
            </a:r>
            <a:br>
              <a:rPr sz="4000"/>
            </a:br>
            <a:r>
              <a:rPr b="1" lang="fr-FR" sz="4000" spc="-1" strike="noStrike">
                <a:solidFill>
                  <a:srgbClr val="2a3d7a"/>
                </a:solidFill>
                <a:latin typeface="Arial"/>
              </a:rPr>
              <a:t>ses co-équipiers</a:t>
            </a:r>
            <a:endParaRPr b="0" lang="en-US" sz="40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990360" y="2438280"/>
            <a:ext cx="7543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Luc Epaulard, Evelyne Revellat,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Philippe Lemaire, Béatrice Quasnik, Roger Vidal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Béatrice Cuvellier, Sylvie Dubuc, Agnès Mensot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1f4081"/>
                </a:solidFill>
                <a:latin typeface="Arial"/>
              </a:rPr>
              <a:t>Laurent Dubois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Représentent par leur expertise des domaines d’intervention</a:t>
            </a:r>
            <a:br>
              <a:rPr sz="2000"/>
            </a:b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   différents qui sont en synergie au sein de Khépri : 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457200" indent="114480">
              <a:lnSpc>
                <a:spcPct val="100000"/>
              </a:lnSpc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f4081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1f4081"/>
                </a:solidFill>
                <a:latin typeface="Arial"/>
              </a:rPr>
              <a:t>Ingénieurs, spécialistes marketing ou Ressources Humaines,</a:t>
            </a:r>
            <a:br>
              <a:rPr sz="1800"/>
            </a:br>
            <a:r>
              <a:rPr b="0" lang="fr-FR" sz="1800" spc="-1" strike="noStrike">
                <a:solidFill>
                  <a:srgbClr val="1f4081"/>
                </a:solidFill>
                <a:latin typeface="Arial"/>
              </a:rPr>
              <a:t>   Spécialistes des systèmes d’informations, de la qualité, du</a:t>
            </a:r>
            <a:br>
              <a:rPr sz="1800"/>
            </a:br>
            <a:r>
              <a:rPr b="0" lang="fr-FR" sz="1800" spc="-1" strike="noStrike">
                <a:solidFill>
                  <a:srgbClr val="1f4081"/>
                </a:solidFill>
                <a:latin typeface="Arial"/>
              </a:rPr>
              <a:t>   management, de la pédagogie, de la communication relationnelle,</a:t>
            </a:r>
            <a:br>
              <a:rPr sz="1800"/>
            </a:br>
            <a:r>
              <a:rPr b="0" lang="fr-FR" sz="1800" spc="-1" strike="noStrike">
                <a:solidFill>
                  <a:srgbClr val="1f4081"/>
                </a:solidFill>
                <a:latin typeface="Arial"/>
              </a:rPr>
              <a:t>   chefs d’entreprise.</a:t>
            </a:r>
            <a:endParaRPr b="0" lang="en-US" sz="1800" spc="-1" strike="noStrike">
              <a:solidFill>
                <a:srgbClr val="1f4081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5D6DE0C2-410B-4CF5-9539-0C506C89C9C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Notre réseau, son fonctionnement</a:t>
            </a: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1f4081"/>
                </a:solidFill>
                <a:latin typeface="Arial"/>
              </a:rPr>
              <a:t>Fonctionnement du réseau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996120" indent="-44172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f4081"/>
                </a:solidFill>
                <a:latin typeface="Arial"/>
              </a:rPr>
              <a:t>Ce que nous proposons :</a:t>
            </a:r>
            <a:endParaRPr b="0" lang="en-US" sz="2400" spc="-1" strike="noStrike">
              <a:solidFill>
                <a:srgbClr val="1f4081"/>
              </a:solidFill>
              <a:latin typeface="Times New Roman"/>
            </a:endParaRPr>
          </a:p>
          <a:p>
            <a:pPr lvl="2" marL="1328760" indent="-2214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Un réseau structuré de co-équipiers formant une entité solide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2" marL="1328760" indent="-2214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Une vision commune de l’entreprise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2" marL="1328760" indent="-2214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Partager un challenge, des ambitions et de nouvelles expériences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2" marL="1328760" indent="-2214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Se réaliser en tant qu’indépendant en ayant un sentiment d’appartenance à une enseigne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2" marL="1328760" indent="-2214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Avoir une autonomie de fonctionnement en renforçant la synergie du groupe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2" marL="1328760" indent="-2214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Prendre des initiatives personnelles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2" marL="1328760" indent="-2214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Développer son propre business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2" marL="1328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081"/>
                </a:solidFill>
                <a:latin typeface="Arial"/>
              </a:rPr>
              <a:t>Dans le respect de l’éthique commerciale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4113-FF35-4E38-902E-C624B3F0EAA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204264-1E39-46CA-B9FA-5321A551E75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Interventions de Khépri</a:t>
            </a: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f4081"/>
                </a:solidFill>
                <a:latin typeface="Arial"/>
              </a:rPr>
              <a:t>Interventions en binôme</a:t>
            </a:r>
            <a:endParaRPr b="0" lang="en-US" sz="32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f4081"/>
                </a:solidFill>
                <a:latin typeface="Arial"/>
              </a:rPr>
              <a:t>Nous partons de la réalité de votre entreprise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f4081"/>
                </a:solidFill>
                <a:latin typeface="Arial"/>
              </a:rPr>
              <a:t>Nos intervenants, experts dans leur domaine, analysent les besoins de votre organisation et de vos collaborateurs.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f4081"/>
                </a:solidFill>
                <a:latin typeface="Arial"/>
              </a:rPr>
              <a:t>L’accompagnement des équipes s’inscrit dans le projet de votre entreprise en cherchant des résultats concrets.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6CEB-CBF5-45E8-B541-C66CCD43D7F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F85BB3-6188-441D-B092-DAA513DD3D8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e8c"/>
                </a:solidFill>
                <a:latin typeface="Arial"/>
              </a:rPr>
              <a:t>Un écrin de compétences</a:t>
            </a:r>
            <a:endParaRPr b="0" lang="en-US" sz="3600" spc="-1" strike="noStrike">
              <a:solidFill>
                <a:srgbClr val="009e8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f4081"/>
                </a:solidFill>
                <a:latin typeface="Arial"/>
              </a:rPr>
              <a:t>Analyse transactionnelle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f4081"/>
                </a:solidFill>
                <a:latin typeface="Arial"/>
              </a:rPr>
              <a:t>Animation Jeu du TAO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f4081"/>
                </a:solidFill>
                <a:latin typeface="Arial"/>
              </a:rPr>
              <a:t>PCM </a:t>
            </a: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(Typologie comportementale de Ned Herrmann)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f4081"/>
                </a:solidFill>
                <a:latin typeface="Arial"/>
              </a:rPr>
              <a:t>MBTI </a:t>
            </a: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(Théorie des types psychologiques de Jung)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f4081"/>
                </a:solidFill>
                <a:latin typeface="Arial"/>
              </a:rPr>
              <a:t>PNL </a:t>
            </a:r>
            <a:r>
              <a:rPr b="0" lang="fr-FR" sz="2000" spc="-1" strike="noStrike">
                <a:solidFill>
                  <a:srgbClr val="1f4081"/>
                </a:solidFill>
                <a:latin typeface="Arial"/>
              </a:rPr>
              <a:t>(Programmation Neuro-linguistique)</a:t>
            </a:r>
            <a:endParaRPr b="0" lang="en-US" sz="20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f4081"/>
                </a:solidFill>
                <a:latin typeface="Arial"/>
              </a:rPr>
              <a:t>Ennéagramme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f4081"/>
                </a:solidFill>
                <a:latin typeface="Arial"/>
              </a:rPr>
              <a:t>Coaching vocal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f4081"/>
                </a:solidFill>
                <a:latin typeface="Arial"/>
              </a:rPr>
              <a:t>Conseil en image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f4081"/>
                </a:solidFill>
                <a:latin typeface="Arial"/>
              </a:rPr>
              <a:t>Improvisation théâtrale</a:t>
            </a: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  <a:p>
            <a:pPr lvl="1" marL="1027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08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A124-F072-439B-B054-25414D8F500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441B89-12E9-4C4E-A539-F9D4E04410B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3T00:38:52Z</dcterms:created>
  <dc:creator>GS</dc:creator>
  <dc:description/>
  <dc:language>en-US</dc:language>
  <cp:lastModifiedBy>GS</cp:lastModifiedBy>
  <cp:lastPrinted>2005-03-16T08:17:59Z</cp:lastPrinted>
  <dcterms:modified xsi:type="dcterms:W3CDTF">2005-04-04T21:14:02Z</dcterms:modified>
  <cp:revision>8</cp:revision>
  <dc:subject/>
  <dc:title>SOCIÉTÉ KHEPRI®</dc:title>
</cp:coreProperties>
</file>