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26F-FD1A-4E98-BBBF-E09ABE7A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16A-8A19-4F83-AEFD-D59B65CD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50A-B7D1-4F5D-BD1D-7EC6FABE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6B8-8629-4991-AB5D-F240D47E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A2F-6F5D-4818-9DA2-3EAE99B9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1CC-5485-4231-BB3B-961AA6E0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177-0068-4D6D-91B5-11E7AFF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B1F-1845-4EAF-B78F-E266DC04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4B3-AA28-4A6B-93B6-30BC8751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493-AC76-4F61-9D0B-E22DEB8D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710-F746-4898-94A5-247A2E0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756-7D76-487D-AB85-D48F5F6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64C-7C36-400E-B3BE-8838675F4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9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ESENTATION SIMPLIFI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2565000"/>
            <a:ext cx="7705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ette présentation s’adresse plutôt 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profils à dominances Rouges et Ja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néoph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investissements fa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premiers investis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9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ESENTATION COMPLE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2565000"/>
            <a:ext cx="7705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Cette présentation s’adresse plutôt 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profils à dominances Vertes et surtout Bl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vestisseurs au fait des march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vestissements conséq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vestissements régu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5:54:00Z</dcterms:created>
  <dc:creator>valere</dc:creator>
  <dc:description/>
  <dc:language>en-US</dc:language>
  <cp:lastModifiedBy>valere</cp:lastModifiedBy>
  <dcterms:modified xsi:type="dcterms:W3CDTF">2010-01-03T15:54:11Z</dcterms:modified>
  <cp:revision>1</cp:revision>
  <dc:subject/>
  <dc:title>PRESENTATION SIMPLIFIEE </dc:title>
</cp:coreProperties>
</file>