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246-08B9-4B2F-8C9F-9766CF1F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834-B629-4D40-82A6-8C038583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A88-9C82-4FB5-A9C2-31047DE5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184-2AB6-4386-ABE8-E1395285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F8C-A8C3-41B6-9F64-830461B5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A23-1F88-446A-B6D5-882C42A6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4CD-BFFC-4FCD-A745-BFC72086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E78-15E0-4ABE-B9F3-FAB24238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28F-3A70-4E38-B631-A7EC8FC1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F9D-79C9-436F-85B1-BB96453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CE7-B312-4699-8B32-0106FD5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630-3A43-41C1-804D-A7F46E7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2502" r="0" b="0"/>
          <a:stretch/>
        </p:blipFill>
        <p:spPr>
          <a:xfrm>
            <a:off x="0" y="3600360"/>
            <a:ext cx="9144000" cy="32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32a0"/>
                </a:solidFill>
                <a:latin typeface="HelveticaNeue LightExt"/>
              </a:rPr>
              <a:t>Click to edit the title text format</a:t>
            </a: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Click to edit the outline text format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1" marL="743040" indent="-28584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econd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2" marL="11430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Third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3" marL="16002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Four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4" marL="20574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Fif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ix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even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212B-02A3-40FE-9540-A6FC5D111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250920" y="5013360"/>
                <a:ext cx="2233440" cy="165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50920" y="5445000"/>
              <a:ext cx="2469960" cy="102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053" r="0" b="34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260280"/>
            <a:ext cx="7056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FONDS €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374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ats Euro</a:t>
            </a:r>
            <a:endParaRPr b="0" lang="en-US" sz="2800" spc="-1" strike="noStrike">
              <a:solidFill>
                <a:srgbClr val="0a32a0"/>
              </a:solidFill>
              <a:latin typeface="HelveticaNeue LightEx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3357720"/>
          <a:ext cx="4038480" cy="34653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0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620640"/>
          <a:ext cx="4038480" cy="27180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35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d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f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6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6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105520" y="620640"/>
          <a:ext cx="4038480" cy="2687760"/>
        </p:xfrm>
        <a:graphic>
          <a:graphicData uri="http://schemas.openxmlformats.org/drawingml/2006/table">
            <a:tbl>
              <a:tblPr/>
              <a:tblGrid>
                <a:gridCol w="2018880"/>
                <a:gridCol w="2019600"/>
              </a:tblGrid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nn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ndement 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7,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7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6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0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105520" y="3284640"/>
          <a:ext cx="4038480" cy="3564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9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6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5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9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1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,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 42,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7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076720" y="44280"/>
            <a:ext cx="3816360" cy="505080"/>
          </a:xfrm>
          <a:prstGeom prst="rect">
            <a:avLst/>
          </a:prstGeom>
          <a:solidFill>
            <a:srgbClr val="0000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ts U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184464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364500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933720"/>
            <a:ext cx="865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268280"/>
            <a:ext cx="86544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155736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5877000"/>
            <a:ext cx="9349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4292640"/>
            <a:ext cx="86544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6165720"/>
            <a:ext cx="865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404640"/>
            <a:ext cx="6696000" cy="64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964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5013360"/>
            <a:ext cx="1584000" cy="1584360"/>
          </a:xfrm>
          <a:prstGeom prst="ca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TIS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5634000"/>
            <a:ext cx="165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portun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61440" y="5634000"/>
            <a:ext cx="1582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versif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634000"/>
            <a:ext cx="144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RDIF 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557360"/>
            <a:ext cx="273708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ds obligataire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5273640"/>
            <a:ext cx="1584360" cy="158436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DES FONDS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421000"/>
            <a:ext cx="302436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ds obligat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Immobi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573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516800">
            <a:off x="6229440" y="270828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58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00800">
            <a:off x="4284360" y="2565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9441800">
            <a:off x="7164000" y="263700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6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ANDIA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00800">
            <a:off x="5148000" y="270828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MN Sélection Rend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nds Géné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SS LIFE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404640"/>
            <a:ext cx="8207280" cy="64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AM P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érén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634000"/>
            <a:ext cx="16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5634000"/>
            <a:ext cx="1582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XA 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égula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421000"/>
            <a:ext cx="345744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nds à capital gara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gibles P.E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5273640"/>
            <a:ext cx="1584360" cy="158436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DES FONDS SECURI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421000"/>
            <a:ext cx="345744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nds DEFEN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3573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00800">
            <a:off x="5148000" y="3573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349400">
            <a:off x="7093080" y="357300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7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8615" t="0" r="4381" b="0"/>
          <a:stretch/>
        </p:blipFill>
        <p:spPr>
          <a:xfrm>
            <a:off x="-1440" y="-25560"/>
            <a:ext cx="914544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9:25:48Z</dcterms:created>
  <dc:creator>Nathalie</dc:creator>
  <dc:description/>
  <dc:language>en-US</dc:language>
  <cp:lastModifiedBy>valere</cp:lastModifiedBy>
  <dcterms:modified xsi:type="dcterms:W3CDTF">2009-11-09T17:28:55Z</dcterms:modified>
  <cp:revision>842</cp:revision>
  <dc:subject/>
  <dc:title>Diapositive 1</dc:title>
</cp:coreProperties>
</file>