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7EB7-ED80-4D98-B9A4-6C743882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BADE-4AF5-43E9-9F59-0C468775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208E-78D3-4312-8993-4977437D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CA94-CC7D-436D-9D38-7466AD99A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3340-B831-476C-866C-3C6BEE49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3CC4-A86E-458A-89A7-BA6211FC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CA5E-FBDA-460A-9FE5-D4F2ADCD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5AAF-84B3-4705-A010-C56E78CD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3010-3A9A-4CE3-8AAE-9EDD3AFB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459C-B368-4C18-A2A1-A507D8A8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877-A43C-41CE-B50D-AAB0C3D9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9BBF-B606-4F80-A5C1-C3A96533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7DC4-9C9D-44E9-A89E-F8D323C8408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4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>
                <a:off x="250920" y="5013360"/>
                <a:ext cx="2233440" cy="165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250920" y="5445000"/>
              <a:ext cx="2469960" cy="10242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08000" y="154080"/>
          <a:ext cx="8928000" cy="6534000"/>
        </p:xfrm>
        <a:graphic>
          <a:graphicData uri="http://schemas.openxmlformats.org/drawingml/2006/table">
            <a:tbl>
              <a:tblPr/>
              <a:tblGrid>
                <a:gridCol w="1152360"/>
                <a:gridCol w="795600"/>
                <a:gridCol w="736560"/>
                <a:gridCol w="711000"/>
                <a:gridCol w="781200"/>
                <a:gridCol w="704880"/>
                <a:gridCol w="736560"/>
                <a:gridCol w="790560"/>
                <a:gridCol w="719280"/>
                <a:gridCol w="792000"/>
                <a:gridCol w="100800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mobil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pi Z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p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i port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cpi F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f. P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h Cm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ersif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rg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del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vie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ou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ym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uc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illau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u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tia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ul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v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ur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u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ido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sep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me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gen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a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er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o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v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r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r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éme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s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cque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ém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ris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rlo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om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ég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nard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ilip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e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é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no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ol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ppoly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der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or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rv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tant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cqu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l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se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m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sè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o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mua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tri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uth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is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u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atr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s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acint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i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é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d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ylv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bi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bi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ent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i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l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c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ou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dolp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at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Jud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isl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ntr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énol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u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ébast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ristop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dele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bau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b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ang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rude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wlad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im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g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abr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mand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udre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ust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Gisè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éd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l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ex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Vinc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arthelem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igi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Ulri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apti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rma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olan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ugu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Gab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ern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o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n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eno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rospe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rdina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ch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no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and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élicit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Julien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au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Lou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Joachi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Oliv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Irén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gueri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ola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fa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ich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im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ngè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Natach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Nathal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enr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ier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rna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th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ranço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Dam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Gild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oniq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am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st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Den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dett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Viv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Isabel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rt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ugust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rt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and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ono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sel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os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Laza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rcel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ab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Juli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vi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a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exand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os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od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El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rist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Ign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Clothil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org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Just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Le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ph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Ig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idè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Vic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Edm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Nor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rce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odrig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Veroniq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Lyd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Gil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Vale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thil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b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éd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Cathe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Lou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Gaet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Dia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atr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Dominiq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arnab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Cyr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rosp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Sign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Manqu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000" y="4941720"/>
            <a:ext cx="3058920" cy="1656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57440" y="620640"/>
            <a:ext cx="41432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 COMPET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8360" y="5516640"/>
            <a:ext cx="2034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4941720"/>
            <a:ext cx="3058920" cy="1656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367600">
            <a:off x="2987280" y="1557000"/>
            <a:ext cx="360360" cy="3282840"/>
          </a:xfrm>
          <a:prstGeom prst="downArrow">
            <a:avLst>
              <a:gd name="adj1" fmla="val 50000"/>
              <a:gd name="adj2" fmla="val 22774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113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9152600">
            <a:off x="5867280" y="1557000"/>
            <a:ext cx="360360" cy="3282840"/>
          </a:xfrm>
          <a:prstGeom prst="downArrow">
            <a:avLst>
              <a:gd name="adj1" fmla="val 50000"/>
              <a:gd name="adj2" fmla="val 22774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59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04360" y="5589720"/>
            <a:ext cx="11577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03640" y="404640"/>
            <a:ext cx="2520720" cy="158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’ANTI C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03640" y="404640"/>
            <a:ext cx="2520720" cy="158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’ANTI C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2924280"/>
            <a:ext cx="2520720" cy="158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rrél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2293800">
            <a:off x="3563640" y="1988640"/>
            <a:ext cx="287280" cy="1079640"/>
          </a:xfrm>
          <a:prstGeom prst="downArrow">
            <a:avLst>
              <a:gd name="adj1" fmla="val 50000"/>
              <a:gd name="adj2" fmla="val 93954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12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03640" y="404640"/>
            <a:ext cx="2520720" cy="158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’ANTI C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6000" y="2781360"/>
            <a:ext cx="2521080" cy="158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Solu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Décorrél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9152600">
            <a:off x="5219280" y="1988640"/>
            <a:ext cx="287280" cy="1079640"/>
          </a:xfrm>
          <a:prstGeom prst="downArrow">
            <a:avLst>
              <a:gd name="adj1" fmla="val 50000"/>
              <a:gd name="adj2" fmla="val 93954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59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03640" y="404640"/>
            <a:ext cx="2520720" cy="158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’ANTI C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2924280"/>
            <a:ext cx="2520720" cy="158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rrél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96000" y="2781360"/>
            <a:ext cx="2521080" cy="158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Solu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Décorrél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5084640"/>
            <a:ext cx="2521080" cy="1584360"/>
          </a:xfrm>
          <a:prstGeom prst="horizontalScrol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9152600">
            <a:off x="5219280" y="1988640"/>
            <a:ext cx="287280" cy="1079640"/>
          </a:xfrm>
          <a:prstGeom prst="downArrow">
            <a:avLst>
              <a:gd name="adj1" fmla="val 50000"/>
              <a:gd name="adj2" fmla="val 93954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59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2293800">
            <a:off x="3563640" y="1988640"/>
            <a:ext cx="287280" cy="1079640"/>
          </a:xfrm>
          <a:prstGeom prst="downArrow">
            <a:avLst>
              <a:gd name="adj1" fmla="val 50000"/>
              <a:gd name="adj2" fmla="val 93954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12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2293800">
            <a:off x="5148000" y="4149360"/>
            <a:ext cx="287280" cy="1079640"/>
          </a:xfrm>
          <a:prstGeom prst="downArrow">
            <a:avLst>
              <a:gd name="adj1" fmla="val 50000"/>
              <a:gd name="adj2" fmla="val 93954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12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9152600">
            <a:off x="3563640" y="4149360"/>
            <a:ext cx="287280" cy="1079640"/>
          </a:xfrm>
          <a:prstGeom prst="downArrow">
            <a:avLst>
              <a:gd name="adj1" fmla="val 50000"/>
              <a:gd name="adj2" fmla="val 93954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59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L’ANTI CR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5800" y="4365720"/>
            <a:ext cx="327744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 COMPOR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5800" y="4365720"/>
            <a:ext cx="307476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 COMPET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921200">
            <a:off x="2987640" y="2420640"/>
            <a:ext cx="504720" cy="1297080"/>
          </a:xfrm>
          <a:prstGeom prst="downArrow">
            <a:avLst>
              <a:gd name="adj1" fmla="val 50000"/>
              <a:gd name="adj2" fmla="val 64248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15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9636800">
            <a:off x="5219640" y="2421000"/>
            <a:ext cx="504720" cy="1297080"/>
          </a:xfrm>
          <a:prstGeom prst="downArrow">
            <a:avLst>
              <a:gd name="adj1" fmla="val 50000"/>
              <a:gd name="adj2" fmla="val 64248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546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10520" y="620640"/>
            <a:ext cx="48272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 COMPOR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6000" y="4941720"/>
            <a:ext cx="3059280" cy="1656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50240" y="5373720"/>
            <a:ext cx="31374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oyez directif et entreprena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n rendez-vous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 celui qui est sûr de lui rassure les autre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0202600">
            <a:off x="5148000" y="1699920"/>
            <a:ext cx="360360" cy="3282840"/>
          </a:xfrm>
          <a:prstGeom prst="downArrow">
            <a:avLst>
              <a:gd name="adj1" fmla="val 50000"/>
              <a:gd name="adj2" fmla="val 22774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48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71640" y="4941720"/>
            <a:ext cx="3058920" cy="1656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10520" y="620640"/>
            <a:ext cx="48272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 COMPOR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76120" y="5445000"/>
            <a:ext cx="298476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jetez les clients  vers l’aveni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vec des solutions concrè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66"/>
                </a:solidFill>
                <a:latin typeface="Arial"/>
              </a:rPr>
              <a:t>(Ne  pleurez pas sur le lait renvers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4941720"/>
            <a:ext cx="3059280" cy="1656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50240" y="5373720"/>
            <a:ext cx="31374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oyez directif et entreprena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n rendez-vous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 celui qui est sûr de lui rassure les autre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390800">
            <a:off x="3563640" y="1699920"/>
            <a:ext cx="360360" cy="3282840"/>
          </a:xfrm>
          <a:prstGeom prst="downArrow">
            <a:avLst>
              <a:gd name="adj1" fmla="val 50000"/>
              <a:gd name="adj2" fmla="val 22774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21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0202600">
            <a:off x="5148000" y="1699920"/>
            <a:ext cx="360360" cy="3282840"/>
          </a:xfrm>
          <a:prstGeom prst="downArrow">
            <a:avLst>
              <a:gd name="adj1" fmla="val 50000"/>
              <a:gd name="adj2" fmla="val 22774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48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71640" y="4941720"/>
            <a:ext cx="3058920" cy="1656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10520" y="620640"/>
            <a:ext cx="48272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 COMPOR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695200">
            <a:off x="2916000" y="1268280"/>
            <a:ext cx="360360" cy="1914480"/>
          </a:xfrm>
          <a:prstGeom prst="downArrow">
            <a:avLst>
              <a:gd name="adj1" fmla="val 50000"/>
              <a:gd name="adj2" fmla="val 13281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080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924280"/>
            <a:ext cx="3059280" cy="165564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76120" y="5445000"/>
            <a:ext cx="298476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jetez les clients  vers l’aveni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vec des solutions concrè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66"/>
                </a:solidFill>
                <a:latin typeface="Arial"/>
              </a:rPr>
              <a:t>(Ne  pleurez pas sur le lait renvers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56000" y="4941720"/>
            <a:ext cx="3059280" cy="1656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8240" y="3500280"/>
            <a:ext cx="256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s de voyage à vide.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Arial"/>
              </a:rPr>
              <a:t>(Un rendez-vous, une proposition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50240" y="5373720"/>
            <a:ext cx="31374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oyez directif et entreprena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n rendez-vous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 celui qui est sûr de lui rassure les autre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390800">
            <a:off x="3563640" y="1699920"/>
            <a:ext cx="360360" cy="3282840"/>
          </a:xfrm>
          <a:prstGeom prst="downArrow">
            <a:avLst>
              <a:gd name="adj1" fmla="val 50000"/>
              <a:gd name="adj2" fmla="val 22774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21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0202600">
            <a:off x="5148000" y="1699920"/>
            <a:ext cx="360360" cy="3282840"/>
          </a:xfrm>
          <a:prstGeom prst="downArrow">
            <a:avLst>
              <a:gd name="adj1" fmla="val 50000"/>
              <a:gd name="adj2" fmla="val 22774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48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71640" y="4941720"/>
            <a:ext cx="3058920" cy="1656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10520" y="620640"/>
            <a:ext cx="48272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 COMPOR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2695200">
            <a:off x="2916000" y="1268280"/>
            <a:ext cx="360360" cy="1914480"/>
          </a:xfrm>
          <a:prstGeom prst="downArrow">
            <a:avLst>
              <a:gd name="adj1" fmla="val 50000"/>
              <a:gd name="adj2" fmla="val 13281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080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924280"/>
            <a:ext cx="3059280" cy="165564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6120" y="5445000"/>
            <a:ext cx="298476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jetez les clients  vers l’aveni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vec des solutions concrè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66"/>
                </a:solidFill>
                <a:latin typeface="Arial"/>
              </a:rPr>
              <a:t>(Ne  pleurez pas sur le lait renvers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4720" y="3068640"/>
            <a:ext cx="3059280" cy="165564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56000" y="4941720"/>
            <a:ext cx="3059280" cy="1656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8240" y="3500280"/>
            <a:ext cx="256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s de voyage à vide.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Arial"/>
              </a:rPr>
              <a:t>(Un rendez-vous, une proposition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50240" y="5373720"/>
            <a:ext cx="31374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oyez directif et entreprena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n rendez-vous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 celui qui est sûr de lui rassure les autre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58040" y="3645000"/>
            <a:ext cx="2312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ccupez le terrain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Arial"/>
              </a:rPr>
              <a:t>(Doublez votre nombre de RD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66"/>
                </a:solidFill>
                <a:latin typeface="Arial"/>
              </a:rPr>
              <a:t>prospects &amp; client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9093800">
            <a:off x="5867280" y="1267920"/>
            <a:ext cx="360360" cy="1914480"/>
          </a:xfrm>
          <a:prstGeom prst="downArrow">
            <a:avLst>
              <a:gd name="adj1" fmla="val 50000"/>
              <a:gd name="adj2" fmla="val 13281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60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390800">
            <a:off x="3563640" y="1699920"/>
            <a:ext cx="360360" cy="3282840"/>
          </a:xfrm>
          <a:prstGeom prst="downArrow">
            <a:avLst>
              <a:gd name="adj1" fmla="val 50000"/>
              <a:gd name="adj2" fmla="val 22774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21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202600">
            <a:off x="5148000" y="1699920"/>
            <a:ext cx="360360" cy="3282840"/>
          </a:xfrm>
          <a:prstGeom prst="downArrow">
            <a:avLst>
              <a:gd name="adj1" fmla="val 50000"/>
              <a:gd name="adj2" fmla="val 22774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48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4000" y="4941720"/>
            <a:ext cx="3058920" cy="1656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57440" y="620640"/>
            <a:ext cx="41432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 COMPET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8360" y="5516640"/>
            <a:ext cx="2034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367600">
            <a:off x="2987280" y="1557000"/>
            <a:ext cx="360360" cy="3282840"/>
          </a:xfrm>
          <a:prstGeom prst="downArrow">
            <a:avLst>
              <a:gd name="adj1" fmla="val 50000"/>
              <a:gd name="adj2" fmla="val 22774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113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08000" y="274680"/>
          <a:ext cx="8928000" cy="7294680"/>
        </p:xfrm>
        <a:graphic>
          <a:graphicData uri="http://schemas.openxmlformats.org/drawingml/2006/table">
            <a:tbl>
              <a:tblPr/>
              <a:tblGrid>
                <a:gridCol w="1008000"/>
                <a:gridCol w="863640"/>
                <a:gridCol w="811080"/>
                <a:gridCol w="774720"/>
                <a:gridCol w="692280"/>
                <a:gridCol w="762120"/>
                <a:gridCol w="774360"/>
                <a:gridCol w="793800"/>
                <a:gridCol w="792360"/>
                <a:gridCol w="792000"/>
                <a:gridCol w="86364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mobil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pi Z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p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i port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cpi F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f. P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h Cm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ersif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rg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del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rosp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79280" y="154080"/>
          <a:ext cx="8785080" cy="6703560"/>
        </p:xfrm>
        <a:graphic>
          <a:graphicData uri="http://schemas.openxmlformats.org/drawingml/2006/table">
            <a:tbl>
              <a:tblPr/>
              <a:tblGrid>
                <a:gridCol w="860040"/>
                <a:gridCol w="847440"/>
                <a:gridCol w="786600"/>
                <a:gridCol w="758520"/>
                <a:gridCol w="832680"/>
                <a:gridCol w="752400"/>
                <a:gridCol w="784800"/>
                <a:gridCol w="771840"/>
                <a:gridCol w="771840"/>
                <a:gridCol w="825840"/>
                <a:gridCol w="793080"/>
              </a:tblGrid>
              <a:tr h="414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mobil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pi Z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p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i port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cpi F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f. P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h Cm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ersif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rg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del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vie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ou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ym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uc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illau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u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tia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ul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v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ur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u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ido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sep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me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gen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a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er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o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v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r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r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éme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s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cque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ém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ris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rlo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om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ég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nard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ilip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e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é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no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ol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ppoly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der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or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rv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tant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cqu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l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se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m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sè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o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mua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tri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uth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is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u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atr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s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acint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i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é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d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ylv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bi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bi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ent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i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l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c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ou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dolp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at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Jud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isl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ntr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énol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u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ébast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ristop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dele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bau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b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ang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rude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wlad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im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g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abr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mand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udre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ust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Gisè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éd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l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ex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Vinc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arthelem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igi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Ulri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apti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rma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olan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ugu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Gab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erna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o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n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eno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rospe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rdina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ch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no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and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élicit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Julien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au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Lou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Joachi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Oliv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Irén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gueri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ola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fa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ich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im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ngè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Natach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Nathal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enr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ier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rna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th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ranço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Dam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Gild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oniq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am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st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Den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dett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Viv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Isabel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rt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ugust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rt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and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ono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sel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os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Laza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rcel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ab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Juli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vi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a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exand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os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od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El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rist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Ign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Clothil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org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Just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Le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ph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Ig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idè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Vic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Edm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Nor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rce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odrig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Veroniq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Lyd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Gil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Vale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thil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b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éd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Cathe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Lou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Gaet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Dia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atr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Dominiq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arnab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Cyr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rosp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7:18:58Z</dcterms:created>
  <dc:creator>valere</dc:creator>
  <dc:description/>
  <dc:language>en-US</dc:language>
  <cp:lastModifiedBy>valere</cp:lastModifiedBy>
  <dcterms:modified xsi:type="dcterms:W3CDTF">2008-10-23T07:37:56Z</dcterms:modified>
  <cp:revision>9</cp:revision>
  <dc:subject/>
  <dc:title>L’ANTI CRISE</dc:title>
</cp:coreProperties>
</file>