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E73-48A5-40FF-8298-192ACC54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740-B160-4194-85B0-C634D09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B37-C6AA-454D-9C53-BD63F4D5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6B9-363C-4BE8-A85F-7579BA9D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21D-4FDB-41F9-ADE0-C79A3191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D314-94E0-4D46-83A1-0288750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B11-F175-4DC9-B996-D6C6B7F4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40D-E77B-4F0D-99CC-13829C2D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EF85-A186-4390-93F5-C7C29C0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2AB-BD01-436F-A091-8A937F4E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C93C-0AB1-4B56-A660-993EEF5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A14-0ACE-46BE-BE63-E3B628C7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1968-FEC4-4A0A-A0E0-40D44823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70C-447B-43A4-B994-5AFDD24C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30F-9A86-47C0-934B-2CF17DD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09C-A277-446D-B608-CB7F86B4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0441-911C-49A2-B727-938B3D1F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727-F833-41DE-99A7-A7BB190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E30-BADB-4FF7-8A1C-F17F71C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7A6-F2C7-4251-96F4-55AA4EB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390-FF3E-41CD-94E7-48489C0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94B-CF3D-4ACD-ABD0-C28734B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90D-C27F-4F0F-975F-CD64983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979-E3C9-4D6B-9E70-6A964DF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68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90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17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50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2209680" indent="-38088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10920" y="6165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04000" y="6140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F49-14AF-4CB2-B23D-1F0908893223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5C6-EC79-472C-AEF3-63B128F9C97F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Dominique Maugrain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BPD (Bilan Patrimonial Dynamiqu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Une méthodologie JSC Consultants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11 novembre 2010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D990-248F-4F78-BF68-0D4C6BBDCB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u pass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2165400"/>
            <a:ext cx="8785440" cy="29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396-8C8A-4174-B421-25BAB0F4C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euille de route pour Dominique 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75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éambule : document de travail. La pertinence de certain pts est à vérifi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odification situation de famille en décembre 2010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esurer l’impact fiscal sur les finances du coup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valoir droits à retraite le + tôt possible, après diagnosti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ormer PEL en CE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érer les 2 Carmignac sur un contrat AV Swiss Life arbitrab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alyser la SCPI Perial pour décis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Obtenir coût des emprunts Gaipare pour décision rbser ou gard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ahoma"/>
              </a:rPr>
              <a:t>Tréso dispo à mettre immédiatement en SCPI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l’analyse éco du plan La Mondiale pour décision garder ou trsform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ndre Montpezat pour placer le prd en papier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érifier la position CIPAV de Claud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AF1-99E1-439F-A5A0-B8AA0A8DED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rci de votre attention…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« tout ce qui est simple est inexact, mais ce qui ne l’est pas est inutilisable »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Paul valéry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89B6-E1FF-4812-888B-44CF63D052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Sommaire dossier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560" y="191772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mois de novembre 2010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alyse et projection revenus/dépen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te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ancement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dynamiqu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uille de rou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3B1-154D-4363-8A1D-7320F2F97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Le présent dossier a pour objet de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isualiser synthétiquement la position patrimoniale aujourd’hui de Dominique Maugrai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ojeter le parcours « financier » de Dominique Maugrain sur les prochaines années en prenant en compte son patrimoine, ses engagements, ses revenus, ses besoins, sa fiscalité et sa situation de famill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n fonction de cette projection, recommander l’allocation optimale du patrimoine de Dominiqu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t selon cette recommadation lui proposer les solutions adequat.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736-AAA7-4463-B3A0-ABC138A40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lan patrimonial de Dominique, novembre 2010 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516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812000" y="17017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8A9-92A1-467B-81C8-59B5CA7C0A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ommandation d’allocation patrimonial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465200"/>
            <a:ext cx="7126200" cy="304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4797360"/>
            <a:ext cx="7058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ncipe 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ugmenter les revenus récurrents de Dominique en diminuant la part consacrée à l’immobilier non productif pour augmenter considérablement la part de « papier de rapport » (assurance vie € et pierre papier de rend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4EF-3A58-4190-BA79-4B8425182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Revenus prévisibles de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8360" y="979560"/>
            <a:ext cx="6767280" cy="5328360"/>
            <a:chOff x="2268360" y="979560"/>
            <a:chExt cx="6767280" cy="5328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68360" y="979560"/>
              <a:ext cx="6767280" cy="17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268360" y="2736000"/>
              <a:ext cx="6767280" cy="22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2268360" y="5070960"/>
              <a:ext cx="6767280" cy="12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324000" y="227664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ocument d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 modifier avec Domi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1989000"/>
            <a:ext cx="208764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A76-7014-4A07-BCFB-7B017C7BE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venus nets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640" y="1268280"/>
            <a:ext cx="8317080" cy="337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4869000"/>
            <a:ext cx="828036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tiss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modification de la situation a des conséquences fiscales qui ne peuvent être prises en compte qu’au vu des revenus et patrimoine du conj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57E-3E2B-4F6B-AD14-3F37AF587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Comptes de financement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93080" cy="49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2BA-B553-483A-963A-6CA8F86CB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e l’act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1440" cy="51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03-5514-42FB-89FE-73CF8C529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5:49:13Z</dcterms:created>
  <dc:creator>Jean SAINT-CRICQ</dc:creator>
  <dc:description/>
  <dc:language>en-US</dc:language>
  <cp:lastModifiedBy>Jean SAINT-CRICQ</cp:lastModifiedBy>
  <dcterms:modified xsi:type="dcterms:W3CDTF">2003-11-15T15:05:02Z</dcterms:modified>
  <cp:revision>43</cp:revision>
  <dc:subject/>
  <dc:title>Cabinet et Foyer JANIN</dc:title>
</cp:coreProperties>
</file>