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C472-54F6-4319-AD21-795E237030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97C7-8ACA-4547-92F3-DE1E89B20A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2637-D62B-4064-8BFA-45A824AA1C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1868-8751-4063-A410-97815DCA0A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40946-EFA4-4003-9861-1B8FF6B2A2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2280-34DA-4245-8450-DCDB53C6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ACF09-2413-4AAD-8997-A4F7AFFB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9F36-3D30-4641-B6C2-7FC008DAFE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C180-BC23-4ED3-A9F9-4735720E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80D0-D868-4FBE-90C9-52C46074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121B-60DD-46E9-96FD-6334041F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8024-2BD8-4BBB-A6B4-B6D6B7DC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394CC-7A24-4BA1-9E91-B6AC9B0B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EB27-4C15-4362-B453-F0B8D56B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E6943-3313-4A63-B838-79A639B6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3DDD5-E6A0-417D-9371-C78D3562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51640" y="6165720"/>
            <a:ext cx="194472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936C-5736-4947-ADE6-37FB9EE185D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179280" y="6165720"/>
            <a:ext cx="8785440" cy="503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26920" y="2060640"/>
            <a:ext cx="7705800" cy="1068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Arial"/>
              </a:rPr>
              <a:t>Méthode de conce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Arial"/>
              </a:rPr>
              <a:t>d’une fiche de po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ocuments">
            <a:hlinkClick r:id="rId1" action="ppaction://hlinksldjump"/>
          </p:cNvPr>
          <p:cNvSpPr/>
          <p:nvPr/>
        </p:nvSpPr>
        <p:spPr>
          <a:xfrm>
            <a:off x="3782880" y="3429000"/>
            <a:ext cx="1366920" cy="1719360"/>
          </a:xfrm>
          <a:custGeom>
            <a:avLst/>
            <a:gdLst>
              <a:gd name="textAreaLeft" fmla="*/ 104040 w 1366920"/>
              <a:gd name="textAreaRight" fmla="*/ 1045800 w 1366920"/>
              <a:gd name="textAreaTop" fmla="*/ 331920 h 1719360"/>
              <a:gd name="textAreaBottom" fmla="*/ 1378440 h 17193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492360" y="3933720"/>
            <a:ext cx="172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Démarr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le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>
            <a:hlinkClick r:id="" action="ppaction://hlinkshowjump?jump=endshow"/>
          </p:cNvPr>
          <p:cNvSpPr/>
          <p:nvPr/>
        </p:nvSpPr>
        <p:spPr>
          <a:xfrm>
            <a:off x="3203640" y="6237360"/>
            <a:ext cx="2305080" cy="360360"/>
          </a:xfrm>
          <a:custGeom>
            <a:avLst/>
            <a:gdLst>
              <a:gd name="textAreaLeft" fmla="*/ 23040 w 2305080"/>
              <a:gd name="textAreaRight" fmla="*/ 2282040 w 23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38050" h="21600">
                <a:moveTo>
                  <a:pt x="0" y="0"/>
                </a:moveTo>
                <a:lnTo>
                  <a:pt x="138050" y="0"/>
                </a:lnTo>
                <a:lnTo>
                  <a:pt x="138050" y="21600"/>
                </a:lnTo>
                <a:lnTo>
                  <a:pt x="0" y="21600"/>
                </a:lnTo>
                <a:close/>
              </a:path>
              <a:path fill="lightenLess" w="138050" h="21600">
                <a:moveTo>
                  <a:pt x="0" y="0"/>
                </a:moveTo>
                <a:lnTo>
                  <a:pt x="138050" y="0"/>
                </a:lnTo>
                <a:lnTo>
                  <a:pt x="136650" y="1400"/>
                </a:lnTo>
                <a:lnTo>
                  <a:pt x="1400" y="1400"/>
                </a:lnTo>
                <a:close/>
              </a:path>
              <a:path fill="darken" w="138050" h="21600">
                <a:moveTo>
                  <a:pt x="138050" y="0"/>
                </a:moveTo>
                <a:lnTo>
                  <a:pt x="138050" y="21600"/>
                </a:lnTo>
                <a:lnTo>
                  <a:pt x="136650" y="20200"/>
                </a:lnTo>
                <a:lnTo>
                  <a:pt x="136650" y="1400"/>
                </a:lnTo>
                <a:close/>
              </a:path>
              <a:path fill="darkenLess" w="138050" h="21600">
                <a:moveTo>
                  <a:pt x="138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650" y="20200"/>
                </a:lnTo>
                <a:close/>
              </a:path>
              <a:path fill="lighten" w="138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Retour  sur l’entretien professi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>
            <a:hlinkClick r:id="" action="ppaction://hlinkshowjump?jump=nextslide"/>
          </p:cNvPr>
          <p:cNvSpPr/>
          <p:nvPr/>
        </p:nvSpPr>
        <p:spPr>
          <a:xfrm>
            <a:off x="3780000" y="436572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333399"/>
                </a:solidFill>
                <a:latin typeface="Arial"/>
              </a:rPr>
              <a:t>Cliquer 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2000" y="259920"/>
            <a:ext cx="4248360" cy="3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Méthode de création d’une fiche de po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>
            <a:hlinkClick r:id="" action="ppaction://hlinkshowjump?jump=firstslide"/>
          </p:cNvPr>
          <p:cNvSpPr/>
          <p:nvPr/>
        </p:nvSpPr>
        <p:spPr>
          <a:xfrm>
            <a:off x="468360" y="6308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684360" y="623736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Dé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1268280"/>
            <a:ext cx="777708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Pour concevoir une fiche de poste, nous vous proposons la méthode suivant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1 -  Rédigez une première version de la fiche de poste suivant le modèle joint :</a:t>
            </a:r>
            <a:r>
              <a:rPr b="0" lang="fr-FR" sz="15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2 - Donnez au salarié un « questionnaire / activité ». Il peut le remplir seul ou bien vous pouvez le compléter avec lui si nécessaire : il vous renseignera sur la façon dont le salarié appréhende son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3 - Récupérez le « questionnaire / activité » complété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4 -  Rapprochez votre première version de la fiche de poste avec le « questionnaire / activité » : vous constaterez des écarts entre ce qu’estime faire le salarié et votre point de vu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5 -  Finalisez la fiche de poste en arbitrant ce que vous retenez de votre première version et de la description faite par le salari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6 – Donnez la fiche au salarié et finalisez le contenu avec son avis : le consensus est un atout important pour toutes les négociations qui peuvent avoir lie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Attention </a:t>
            </a: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: une discussion peut se créer autour du contenu final, il est nécessaire d’avoir conclu cette fiche avant de faire l’entretien professionnel (question de te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>
            <a:hlinkClick r:id="" action="ppaction://hlinkshowjump?jump=nextslide"/>
          </p:cNvPr>
          <p:cNvSpPr/>
          <p:nvPr/>
        </p:nvSpPr>
        <p:spPr>
          <a:xfrm>
            <a:off x="3205080" y="1989000"/>
            <a:ext cx="216000" cy="2178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800"/>
              <a:gd name="textAreaBottom" fmla="*/ 204120 h 217800"/>
            </a:gdLst>
            <a:ahLst/>
            <a:rect l="textAreaLeft" t="textAreaTop" r="textAreaRight" b="textAreaBottom"/>
            <a:pathLst>
              <a:path w="21600" h="21780">
                <a:moveTo>
                  <a:pt x="0" y="0"/>
                </a:moveTo>
                <a:lnTo>
                  <a:pt x="21600" y="0"/>
                </a:lnTo>
                <a:lnTo>
                  <a:pt x="21600" y="21780"/>
                </a:lnTo>
                <a:lnTo>
                  <a:pt x="0" y="21780"/>
                </a:lnTo>
                <a:close/>
              </a:path>
              <a:path fill="lightenLess" w="21600" h="21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80">
                <a:moveTo>
                  <a:pt x="21600" y="0"/>
                </a:moveTo>
                <a:lnTo>
                  <a:pt x="21600" y="21780"/>
                </a:lnTo>
                <a:lnTo>
                  <a:pt x="20200" y="20380"/>
                </a:lnTo>
                <a:lnTo>
                  <a:pt x="20200" y="1400"/>
                </a:lnTo>
                <a:close/>
              </a:path>
              <a:path fill="darkenLess" w="21600" h="21780">
                <a:moveTo>
                  <a:pt x="21600" y="21780"/>
                </a:moveTo>
                <a:lnTo>
                  <a:pt x="0" y="21780"/>
                </a:lnTo>
                <a:lnTo>
                  <a:pt x="1400" y="20380"/>
                </a:lnTo>
                <a:lnTo>
                  <a:pt x="20200" y="20380"/>
                </a:lnTo>
                <a:close/>
              </a:path>
              <a:path fill="lighten" w="21600" h="21780">
                <a:moveTo>
                  <a:pt x="0" y="21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80"/>
                </a:lnTo>
                <a:close/>
              </a:path>
              <a:path fill="darken" w="21600" h="21780">
                <a:moveTo>
                  <a:pt x="3794" y="3883"/>
                </a:moveTo>
                <a:lnTo>
                  <a:pt x="17806" y="10890"/>
                </a:lnTo>
                <a:lnTo>
                  <a:pt x="3794" y="1789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421080" y="198900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Modèle de fiche de po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203640" y="292428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3865"/>
                </a:moveTo>
                <a:lnTo>
                  <a:pt x="17806" y="10872"/>
                </a:lnTo>
                <a:lnTo>
                  <a:pt x="3794" y="178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419640" y="2924280"/>
            <a:ext cx="24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Modèle de questionnaire / activi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4643280" y="260280"/>
            <a:ext cx="4251600" cy="3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Principe de cré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2195280" y="83664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ncipe de création d’une fich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8101080" y="6237360"/>
            <a:ext cx="503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Su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">
            <a:hlinkClick r:id="" action="ppaction://hlinkshowjump?jump=nextslide"/>
          </p:cNvPr>
          <p:cNvSpPr/>
          <p:nvPr/>
        </p:nvSpPr>
        <p:spPr>
          <a:xfrm>
            <a:off x="8604360" y="630864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3812"/>
                </a:moveTo>
                <a:lnTo>
                  <a:pt x="17806" y="10818"/>
                </a:lnTo>
                <a:lnTo>
                  <a:pt x="3794" y="178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5">
            <a:hlinkClick r:id="" action="ppaction://hlinkshowjump?jump=endshow"/>
          </p:cNvPr>
          <p:cNvSpPr/>
          <p:nvPr/>
        </p:nvSpPr>
        <p:spPr>
          <a:xfrm>
            <a:off x="3348000" y="6237360"/>
            <a:ext cx="2232000" cy="360360"/>
          </a:xfrm>
          <a:custGeom>
            <a:avLst/>
            <a:gdLst>
              <a:gd name="textAreaLeft" fmla="*/ 23040 w 2232000"/>
              <a:gd name="textAreaRight" fmla="*/ 2208960 w 22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33674" h="21600">
                <a:moveTo>
                  <a:pt x="0" y="0"/>
                </a:moveTo>
                <a:lnTo>
                  <a:pt x="133674" y="0"/>
                </a:lnTo>
                <a:lnTo>
                  <a:pt x="133674" y="21600"/>
                </a:lnTo>
                <a:lnTo>
                  <a:pt x="0" y="21600"/>
                </a:lnTo>
                <a:close/>
              </a:path>
              <a:path fill="lightenLess" w="133674" h="21600">
                <a:moveTo>
                  <a:pt x="0" y="0"/>
                </a:moveTo>
                <a:lnTo>
                  <a:pt x="133674" y="0"/>
                </a:lnTo>
                <a:lnTo>
                  <a:pt x="132274" y="1400"/>
                </a:lnTo>
                <a:lnTo>
                  <a:pt x="1400" y="1400"/>
                </a:lnTo>
                <a:close/>
              </a:path>
              <a:path fill="darken" w="133674" h="21600">
                <a:moveTo>
                  <a:pt x="133674" y="0"/>
                </a:moveTo>
                <a:lnTo>
                  <a:pt x="133674" y="21600"/>
                </a:lnTo>
                <a:lnTo>
                  <a:pt x="132274" y="20200"/>
                </a:lnTo>
                <a:lnTo>
                  <a:pt x="132274" y="1400"/>
                </a:lnTo>
                <a:close/>
              </a:path>
              <a:path fill="darkenLess" w="133674" h="21600">
                <a:moveTo>
                  <a:pt x="1336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274" y="20200"/>
                </a:lnTo>
                <a:close/>
              </a:path>
              <a:path fill="lighten" w="1336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Retour  sur l’entretien professi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4248000" cy="36036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Modèle de fiche de po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4572000" y="189000"/>
            <a:ext cx="4392720" cy="5976720"/>
            <a:chOff x="4572000" y="189000"/>
            <a:chExt cx="4392720" cy="5976720"/>
          </a:xfrm>
        </p:grpSpPr>
        <p:sp>
          <p:nvSpPr>
            <p:cNvPr id="72" name="Rectangle 5"/>
            <p:cNvSpPr/>
            <p:nvPr/>
          </p:nvSpPr>
          <p:spPr>
            <a:xfrm>
              <a:off x="4572000" y="189000"/>
              <a:ext cx="4392720" cy="597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6315120" y="20340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che de pos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4716360" y="5557680"/>
              <a:ext cx="410364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e de prise de fonction 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gnature du salari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8"/>
            <p:cNvSpPr/>
            <p:nvPr/>
          </p:nvSpPr>
          <p:spPr>
            <a:xfrm>
              <a:off x="4788000" y="5084640"/>
              <a:ext cx="4103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rspectives d’évolution 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Possibilités d’évolution vers telles fonctions inter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9"/>
            <p:cNvSpPr/>
            <p:nvPr/>
          </p:nvSpPr>
          <p:spPr>
            <a:xfrm>
              <a:off x="4716360" y="4581360"/>
              <a:ext cx="4103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nctions passerelles :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ituations internes permettant d’accéder à cette fonc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0"/>
            <p:cNvSpPr/>
            <p:nvPr/>
          </p:nvSpPr>
          <p:spPr>
            <a:xfrm>
              <a:off x="4788000" y="4292640"/>
              <a:ext cx="4103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abilitation et délégation de pouvoir 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4716360" y="4005360"/>
              <a:ext cx="4103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igences :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Diplômes,horaires, saisonnalité, …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2"/>
            <p:cNvSpPr/>
            <p:nvPr/>
          </p:nvSpPr>
          <p:spPr>
            <a:xfrm>
              <a:off x="4716360" y="3500280"/>
              <a:ext cx="4103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aisons relationnelles 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Relation interne et externe liées à la fonc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4716360" y="2276640"/>
              <a:ext cx="4103640" cy="14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étences requis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</a:t>
              </a: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Être capable de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«  compétences » :</a:t>
              </a:r>
              <a:r>
                <a:rPr b="0" i="1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avoir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avoir-faire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avoir être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Ressources personnelles nécessair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« Ces compétences  servent à l’évaluation du salarié 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4716360" y="1916280"/>
              <a:ext cx="41036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tivités et tâches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Liste des activités et des tâch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5"/>
            <p:cNvSpPr/>
            <p:nvPr/>
          </p:nvSpPr>
          <p:spPr>
            <a:xfrm>
              <a:off x="4716360" y="1484280"/>
              <a:ext cx="4103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issions principales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Description des miss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6"/>
            <p:cNvSpPr/>
            <p:nvPr/>
          </p:nvSpPr>
          <p:spPr>
            <a:xfrm>
              <a:off x="4716360" y="762120"/>
              <a:ext cx="410364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ualification : 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Niveau / échelon / coefficient</a:t>
              </a: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ttachement hiérarchique : </a:t>
              </a:r>
              <a:r>
                <a:rPr b="1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Fonction du supérieu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ttachement fonctionnel :   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Fonctions de rattachement transvers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eu d’affectation : 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ite de rattachement offici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7"/>
            <p:cNvSpPr/>
            <p:nvPr/>
          </p:nvSpPr>
          <p:spPr>
            <a:xfrm>
              <a:off x="4716360" y="476280"/>
              <a:ext cx="4103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itulé du poste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: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« métier 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8"/>
            <p:cNvSpPr/>
            <p:nvPr/>
          </p:nvSpPr>
          <p:spPr>
            <a:xfrm>
              <a:off x="4716360" y="47628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9"/>
            <p:cNvSpPr/>
            <p:nvPr/>
          </p:nvSpPr>
          <p:spPr>
            <a:xfrm>
              <a:off x="4716360" y="601992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0"/>
            <p:cNvSpPr/>
            <p:nvPr/>
          </p:nvSpPr>
          <p:spPr>
            <a:xfrm>
              <a:off x="4716360" y="476280"/>
              <a:ext cx="0" cy="55436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1"/>
            <p:cNvSpPr/>
            <p:nvPr/>
          </p:nvSpPr>
          <p:spPr>
            <a:xfrm>
              <a:off x="8820000" y="476280"/>
              <a:ext cx="0" cy="55436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4716360" y="76212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>
              <a:off x="4716360" y="141300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>
              <a:off x="4716360" y="191628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>
              <a:off x="4716360" y="227664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>
              <a:off x="4716360" y="350028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>
              <a:off x="4716360" y="393372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>
              <a:off x="4716360" y="429264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9"/>
            <p:cNvSpPr/>
            <p:nvPr/>
          </p:nvSpPr>
          <p:spPr>
            <a:xfrm>
              <a:off x="4716360" y="458136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0"/>
            <p:cNvSpPr/>
            <p:nvPr/>
          </p:nvSpPr>
          <p:spPr>
            <a:xfrm>
              <a:off x="4716360" y="501336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1"/>
            <p:cNvSpPr/>
            <p:nvPr/>
          </p:nvSpPr>
          <p:spPr>
            <a:xfrm>
              <a:off x="4716360" y="551664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32"/>
          <p:cNvSpPr/>
          <p:nvPr/>
        </p:nvSpPr>
        <p:spPr>
          <a:xfrm>
            <a:off x="324000" y="5373720"/>
            <a:ext cx="2376360" cy="6415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99"/>
                </a:solidFill>
                <a:latin typeface="Arial"/>
              </a:rPr>
              <a:t>Vous pouvez accéder directement au modèle de fiche de poste vierge,  en cliquant ic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3"/>
          <p:cNvSpPr/>
          <p:nvPr/>
        </p:nvSpPr>
        <p:spPr>
          <a:xfrm>
            <a:off x="3132000" y="5373720"/>
            <a:ext cx="648000" cy="72072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23">
                <a:moveTo>
                  <a:pt x="0" y="0"/>
                </a:moveTo>
                <a:lnTo>
                  <a:pt x="21600" y="0"/>
                </a:lnTo>
                <a:lnTo>
                  <a:pt x="21600" y="24023"/>
                </a:lnTo>
                <a:lnTo>
                  <a:pt x="0" y="24023"/>
                </a:lnTo>
                <a:close/>
              </a:path>
              <a:path fill="lightenLess" w="21600" h="24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3">
                <a:moveTo>
                  <a:pt x="21600" y="0"/>
                </a:moveTo>
                <a:lnTo>
                  <a:pt x="21600" y="24023"/>
                </a:lnTo>
                <a:lnTo>
                  <a:pt x="20200" y="22623"/>
                </a:lnTo>
                <a:lnTo>
                  <a:pt x="20200" y="1400"/>
                </a:lnTo>
                <a:close/>
              </a:path>
              <a:path fill="darkenLess" w="21600" h="24023">
                <a:moveTo>
                  <a:pt x="21600" y="24023"/>
                </a:moveTo>
                <a:lnTo>
                  <a:pt x="0" y="24023"/>
                </a:lnTo>
                <a:lnTo>
                  <a:pt x="1400" y="22623"/>
                </a:lnTo>
                <a:lnTo>
                  <a:pt x="20200" y="22623"/>
                </a:lnTo>
                <a:close/>
              </a:path>
              <a:path fill="lighten" w="21600" h="24023">
                <a:moveTo>
                  <a:pt x="0" y="24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3"/>
                </a:lnTo>
                <a:close/>
              </a:path>
              <a:path fill="darkenLess" w="21600" h="24023">
                <a:moveTo>
                  <a:pt x="5273" y="5196"/>
                </a:moveTo>
                <a:lnTo>
                  <a:pt x="12271" y="5196"/>
                </a:lnTo>
                <a:lnTo>
                  <a:pt x="16327" y="8695"/>
                </a:lnTo>
                <a:lnTo>
                  <a:pt x="16327" y="18826"/>
                </a:lnTo>
                <a:lnTo>
                  <a:pt x="5273" y="18826"/>
                </a:lnTo>
                <a:close/>
              </a:path>
              <a:path fill="darken" w="21600" h="24023">
                <a:moveTo>
                  <a:pt x="12271" y="5196"/>
                </a:moveTo>
                <a:lnTo>
                  <a:pt x="16327" y="8695"/>
                </a:lnTo>
                <a:lnTo>
                  <a:pt x="12271" y="8695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Fiche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os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ie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4"/>
          <p:cNvSpPr/>
          <p:nvPr/>
        </p:nvSpPr>
        <p:spPr>
          <a:xfrm>
            <a:off x="2771640" y="5661000"/>
            <a:ext cx="289080" cy="14436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5">
            <a:hlinkClick r:id="" action="ppaction://hlinkshowjump?jump=previousslide"/>
          </p:cNvPr>
          <p:cNvSpPr/>
          <p:nvPr/>
        </p:nvSpPr>
        <p:spPr>
          <a:xfrm>
            <a:off x="1258920" y="6308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6"/>
          <p:cNvSpPr/>
          <p:nvPr/>
        </p:nvSpPr>
        <p:spPr>
          <a:xfrm>
            <a:off x="1476360" y="6237360"/>
            <a:ext cx="187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Retour « principe de création 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7">
            <a:hlinkClick r:id="" action="ppaction://hlinkshowjump?jump=firstslide"/>
          </p:cNvPr>
          <p:cNvSpPr/>
          <p:nvPr/>
        </p:nvSpPr>
        <p:spPr>
          <a:xfrm>
            <a:off x="324000" y="630864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8"/>
          <p:cNvSpPr/>
          <p:nvPr/>
        </p:nvSpPr>
        <p:spPr>
          <a:xfrm>
            <a:off x="611280" y="6237360"/>
            <a:ext cx="647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Dé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9">
            <a:hlinkClick r:id="" action="ppaction://hlinkshowjump?jump=endshow"/>
          </p:cNvPr>
          <p:cNvSpPr/>
          <p:nvPr/>
        </p:nvSpPr>
        <p:spPr>
          <a:xfrm>
            <a:off x="3348000" y="6237360"/>
            <a:ext cx="2232000" cy="360360"/>
          </a:xfrm>
          <a:custGeom>
            <a:avLst/>
            <a:gdLst>
              <a:gd name="textAreaLeft" fmla="*/ 23040 w 2232000"/>
              <a:gd name="textAreaRight" fmla="*/ 2208960 w 22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33674" h="21600">
                <a:moveTo>
                  <a:pt x="0" y="0"/>
                </a:moveTo>
                <a:lnTo>
                  <a:pt x="133674" y="0"/>
                </a:lnTo>
                <a:lnTo>
                  <a:pt x="133674" y="21600"/>
                </a:lnTo>
                <a:lnTo>
                  <a:pt x="0" y="21600"/>
                </a:lnTo>
                <a:close/>
              </a:path>
              <a:path fill="lightenLess" w="133674" h="21600">
                <a:moveTo>
                  <a:pt x="0" y="0"/>
                </a:moveTo>
                <a:lnTo>
                  <a:pt x="133674" y="0"/>
                </a:lnTo>
                <a:lnTo>
                  <a:pt x="132274" y="1400"/>
                </a:lnTo>
                <a:lnTo>
                  <a:pt x="1400" y="1400"/>
                </a:lnTo>
                <a:close/>
              </a:path>
              <a:path fill="darken" w="133674" h="21600">
                <a:moveTo>
                  <a:pt x="133674" y="0"/>
                </a:moveTo>
                <a:lnTo>
                  <a:pt x="133674" y="21600"/>
                </a:lnTo>
                <a:lnTo>
                  <a:pt x="132274" y="20200"/>
                </a:lnTo>
                <a:lnTo>
                  <a:pt x="132274" y="1400"/>
                </a:lnTo>
                <a:close/>
              </a:path>
              <a:path fill="darkenLess" w="133674" h="21600">
                <a:moveTo>
                  <a:pt x="1336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274" y="20200"/>
                </a:lnTo>
                <a:close/>
              </a:path>
              <a:path fill="lighten" w="1336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Retour  sur l’entretien professi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0"/>
          <p:cNvSpPr/>
          <p:nvPr/>
        </p:nvSpPr>
        <p:spPr>
          <a:xfrm>
            <a:off x="179280" y="692280"/>
            <a:ext cx="439272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Remplissez chaque case de la manière indiquée en bleu sur le modèle ci-cont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Voici quelques éléments pour vous aider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Les missions</a:t>
            </a: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 expriment la raison d’être du poste.      (pourquoi ce poste existe-t-il 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Les activités</a:t>
            </a: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 décrivent ce qui doit être fa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(que fait-on dans ce poste ?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Vous pouvez regrouper les activités par doma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Les tâches</a:t>
            </a: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 sont des précisions sur les activi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Les compétences</a:t>
            </a: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 : pour vous aider à la définition des compétences cliquez ci-dess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Pour vous aider encore plus dans la réalisation d’une fiche de poste, nous vous proposons de vous inspirer de l’exemple d’une fiche de poste d’un com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>
            <a:off x="755640" y="4869000"/>
            <a:ext cx="3313080" cy="287280"/>
          </a:xfrm>
          <a:custGeom>
            <a:avLst/>
            <a:gdLst>
              <a:gd name="textAreaLeft" fmla="*/ 18360 w 3313080"/>
              <a:gd name="textAreaRight" fmla="*/ 3294720 w 331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8819" h="21600">
                <a:moveTo>
                  <a:pt x="0" y="0"/>
                </a:moveTo>
                <a:lnTo>
                  <a:pt x="248819" y="0"/>
                </a:lnTo>
                <a:lnTo>
                  <a:pt x="248819" y="21600"/>
                </a:lnTo>
                <a:lnTo>
                  <a:pt x="0" y="21600"/>
                </a:lnTo>
                <a:close/>
              </a:path>
              <a:path fill="lightenLess" w="248819" h="21600">
                <a:moveTo>
                  <a:pt x="0" y="0"/>
                </a:moveTo>
                <a:lnTo>
                  <a:pt x="248819" y="0"/>
                </a:lnTo>
                <a:lnTo>
                  <a:pt x="247419" y="1400"/>
                </a:lnTo>
                <a:lnTo>
                  <a:pt x="1400" y="1400"/>
                </a:lnTo>
                <a:close/>
              </a:path>
              <a:path fill="darken" w="248819" h="21600">
                <a:moveTo>
                  <a:pt x="248819" y="0"/>
                </a:moveTo>
                <a:lnTo>
                  <a:pt x="248819" y="21600"/>
                </a:lnTo>
                <a:lnTo>
                  <a:pt x="247419" y="20200"/>
                </a:lnTo>
                <a:lnTo>
                  <a:pt x="247419" y="1400"/>
                </a:lnTo>
                <a:close/>
              </a:path>
              <a:path fill="darkenLess" w="248819" h="21600">
                <a:moveTo>
                  <a:pt x="24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19" y="20200"/>
                </a:lnTo>
                <a:close/>
              </a:path>
              <a:path fill="lighten" w="24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Exemple de fiche de poste d’un commercial : cliquer 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2"/>
          <p:cNvSpPr/>
          <p:nvPr/>
        </p:nvSpPr>
        <p:spPr>
          <a:xfrm>
            <a:off x="4572000" y="3862800"/>
            <a:ext cx="4106880" cy="1753560"/>
          </a:xfrm>
          <a:prstGeom prst="wedgeRoundRectCallout">
            <a:avLst>
              <a:gd name="adj1" fmla="val -73805"/>
              <a:gd name="adj2" fmla="val 51189"/>
              <a:gd name="adj3" fmla="val 16667"/>
            </a:avLst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333399"/>
                </a:solidFill>
                <a:latin typeface="Arial"/>
              </a:rPr>
              <a:t>Vous allez ouvrir un document Word modifiable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Souhaitez vous </a:t>
            </a:r>
            <a:r>
              <a:rPr b="0" lang="fr-FR" sz="800" spc="-1" strike="noStrike">
                <a:solidFill>
                  <a:srgbClr val="333399"/>
                </a:solidFill>
                <a:latin typeface="Arial"/>
              </a:rPr>
              <a:t>(cliquer sur votre choix)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fr-FR" sz="1400" spc="-1" strike="noStrike">
                <a:solidFill>
                  <a:srgbClr val="333399"/>
                </a:solidFill>
                <a:latin typeface="Wingdings"/>
                <a:ea typeface="Wingdings"/>
              </a:rPr>
              <a:t>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333399"/>
                </a:solidFill>
                <a:latin typeface="Arial"/>
              </a:rPr>
              <a:t>Ouvrir le document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fr-FR" sz="1400" spc="-1" strike="noStrike">
                <a:solidFill>
                  <a:srgbClr val="333399"/>
                </a:solidFill>
                <a:latin typeface="Wingdings"/>
                <a:ea typeface="Wingdings"/>
              </a:rPr>
              <a:t>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Consulter la procédure d’utilisation des documents Wo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fr-FR" sz="9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fr-FR" sz="1400" spc="-1" strike="noStrike">
                <a:solidFill>
                  <a:srgbClr val="333399"/>
                </a:solidFill>
                <a:latin typeface="Wingdings"/>
                <a:ea typeface="Wingdings"/>
              </a:rPr>
              <a:t></a:t>
            </a:r>
            <a:r>
              <a:rPr b="1" lang="fr-FR" sz="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Continuer à consulter le gui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3"/>
          <p:cNvSpPr/>
          <p:nvPr/>
        </p:nvSpPr>
        <p:spPr>
          <a:xfrm>
            <a:off x="755640" y="3716280"/>
            <a:ext cx="3313080" cy="287280"/>
          </a:xfrm>
          <a:custGeom>
            <a:avLst/>
            <a:gdLst>
              <a:gd name="textAreaLeft" fmla="*/ 18360 w 3313080"/>
              <a:gd name="textAreaRight" fmla="*/ 3294720 w 331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8819" h="21600">
                <a:moveTo>
                  <a:pt x="0" y="0"/>
                </a:moveTo>
                <a:lnTo>
                  <a:pt x="248819" y="0"/>
                </a:lnTo>
                <a:lnTo>
                  <a:pt x="248819" y="21600"/>
                </a:lnTo>
                <a:lnTo>
                  <a:pt x="0" y="21600"/>
                </a:lnTo>
                <a:close/>
              </a:path>
              <a:path fill="lightenLess" w="248819" h="21600">
                <a:moveTo>
                  <a:pt x="0" y="0"/>
                </a:moveTo>
                <a:lnTo>
                  <a:pt x="248819" y="0"/>
                </a:lnTo>
                <a:lnTo>
                  <a:pt x="247419" y="1400"/>
                </a:lnTo>
                <a:lnTo>
                  <a:pt x="1400" y="1400"/>
                </a:lnTo>
                <a:close/>
              </a:path>
              <a:path fill="darken" w="248819" h="21600">
                <a:moveTo>
                  <a:pt x="248819" y="0"/>
                </a:moveTo>
                <a:lnTo>
                  <a:pt x="248819" y="21600"/>
                </a:lnTo>
                <a:lnTo>
                  <a:pt x="247419" y="20200"/>
                </a:lnTo>
                <a:lnTo>
                  <a:pt x="247419" y="1400"/>
                </a:lnTo>
                <a:close/>
              </a:path>
              <a:path fill="darkenLess" w="248819" h="21600">
                <a:moveTo>
                  <a:pt x="24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19" y="20200"/>
                </a:lnTo>
                <a:close/>
              </a:path>
              <a:path fill="lighten" w="24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Aide à la définition des compétences : cliquer 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4"/>
          <p:cNvSpPr/>
          <p:nvPr/>
        </p:nvSpPr>
        <p:spPr>
          <a:xfrm>
            <a:off x="768240" y="2611440"/>
            <a:ext cx="3313080" cy="287280"/>
          </a:xfrm>
          <a:custGeom>
            <a:avLst/>
            <a:gdLst>
              <a:gd name="textAreaLeft" fmla="*/ 18360 w 3313080"/>
              <a:gd name="textAreaRight" fmla="*/ 3294720 w 331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8819" h="21600">
                <a:moveTo>
                  <a:pt x="0" y="0"/>
                </a:moveTo>
                <a:lnTo>
                  <a:pt x="248819" y="0"/>
                </a:lnTo>
                <a:lnTo>
                  <a:pt x="248819" y="21600"/>
                </a:lnTo>
                <a:lnTo>
                  <a:pt x="0" y="21600"/>
                </a:lnTo>
                <a:close/>
              </a:path>
              <a:path fill="lightenLess" w="248819" h="21600">
                <a:moveTo>
                  <a:pt x="0" y="0"/>
                </a:moveTo>
                <a:lnTo>
                  <a:pt x="248819" y="0"/>
                </a:lnTo>
                <a:lnTo>
                  <a:pt x="247419" y="1400"/>
                </a:lnTo>
                <a:lnTo>
                  <a:pt x="1400" y="1400"/>
                </a:lnTo>
                <a:close/>
              </a:path>
              <a:path fill="darken" w="248819" h="21600">
                <a:moveTo>
                  <a:pt x="248819" y="0"/>
                </a:moveTo>
                <a:lnTo>
                  <a:pt x="248819" y="21600"/>
                </a:lnTo>
                <a:lnTo>
                  <a:pt x="247419" y="20200"/>
                </a:lnTo>
                <a:lnTo>
                  <a:pt x="247419" y="1400"/>
                </a:lnTo>
                <a:close/>
              </a:path>
              <a:path fill="darkenLess" w="248819" h="21600">
                <a:moveTo>
                  <a:pt x="24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19" y="20200"/>
                </a:lnTo>
                <a:close/>
              </a:path>
              <a:path fill="lighten" w="24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Exemple de domaines d’activité : cliquer 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5"/>
          <p:cNvSpPr/>
          <p:nvPr/>
        </p:nvSpPr>
        <p:spPr>
          <a:xfrm>
            <a:off x="7956720" y="6237360"/>
            <a:ext cx="93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Retour dé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6">
            <a:hlinkClick r:id="" action="ppaction://hlinkshowjump?jump=nextslide"/>
          </p:cNvPr>
          <p:cNvSpPr/>
          <p:nvPr/>
        </p:nvSpPr>
        <p:spPr>
          <a:xfrm flipH="1">
            <a:off x="7812000" y="6308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6:11:02Z</dcterms:created>
  <dc:creator/>
  <dc:description/>
  <dc:language>en-US</dc:language>
  <cp:lastModifiedBy>revellat</cp:lastModifiedBy>
  <dcterms:modified xsi:type="dcterms:W3CDTF">2010-12-05T16:04:47Z</dcterms:modified>
  <cp:revision>49</cp:revision>
  <dc:subject/>
  <dc:title>Diapositive 1</dc:title>
</cp:coreProperties>
</file>