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FEAB-4522-4897-8DA2-C117FDC5F2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308F-7D50-4869-B999-632A16C6BC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C0C-474A-4439-AC1B-49AFC86A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A4E-48AB-4267-98BB-0280156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2FD-B515-4991-8B17-4732B82E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C8D-1993-4144-BC27-EC564729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533-DAC0-445B-9131-B8FF4C4A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06C-4ACD-4365-A092-5B931B34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1DF-857F-4A88-9BC9-ED78C71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EDD-063F-4A57-8737-201AC6AF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A67-7F2C-4B5D-B72A-EAFDC8CF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BCF-3ABE-4D80-B2B8-8ACAB35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78D-3694-43E8-8DDB-E5A33AB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DE9-8419-49B9-9B98-85EBEC5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215A-A68F-495D-879E-AB2CB0A62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340000" y="260280"/>
            <a:ext cx="44640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ire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" action="ppaction://hlinkshowjump?jump=endshow"/>
          </p:cNvPr>
          <p:cNvSpPr/>
          <p:nvPr/>
        </p:nvSpPr>
        <p:spPr>
          <a:xfrm>
            <a:off x="3208320" y="6275520"/>
            <a:ext cx="2305080" cy="287280"/>
          </a:xfrm>
          <a:custGeom>
            <a:avLst/>
            <a:gdLst>
              <a:gd name="textAreaLeft" fmla="*/ 18360 w 2305080"/>
              <a:gd name="textAreaRight" fmla="*/ 2286720 w 23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173124" h="21600">
                <a:moveTo>
                  <a:pt x="0" y="0"/>
                </a:moveTo>
                <a:lnTo>
                  <a:pt x="173124" y="0"/>
                </a:lnTo>
                <a:lnTo>
                  <a:pt x="173124" y="21600"/>
                </a:lnTo>
                <a:lnTo>
                  <a:pt x="0" y="21600"/>
                </a:lnTo>
                <a:close/>
              </a:path>
              <a:path fill="lightenLess" w="173124" h="21600">
                <a:moveTo>
                  <a:pt x="0" y="0"/>
                </a:moveTo>
                <a:lnTo>
                  <a:pt x="173124" y="0"/>
                </a:lnTo>
                <a:lnTo>
                  <a:pt x="171724" y="1400"/>
                </a:lnTo>
                <a:lnTo>
                  <a:pt x="1400" y="1400"/>
                </a:lnTo>
                <a:close/>
              </a:path>
              <a:path fill="darken" w="173124" h="21600">
                <a:moveTo>
                  <a:pt x="173124" y="0"/>
                </a:moveTo>
                <a:lnTo>
                  <a:pt x="173124" y="21600"/>
                </a:lnTo>
                <a:lnTo>
                  <a:pt x="171724" y="20200"/>
                </a:lnTo>
                <a:lnTo>
                  <a:pt x="171724" y="1400"/>
                </a:lnTo>
                <a:close/>
              </a:path>
              <a:path fill="darkenLess" w="173124" h="21600">
                <a:moveTo>
                  <a:pt x="173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724" y="20200"/>
                </a:lnTo>
                <a:close/>
              </a:path>
              <a:path fill="lighten" w="173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our au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651640" y="6165720"/>
            <a:ext cx="194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79280" y="6165720"/>
            <a:ext cx="878544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79280" y="18900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de de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84360" y="782640"/>
            <a:ext cx="78483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NI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Accord National Interprofessionnel signé par les partenaire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I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Loi du 04/05/2004, loi du 24/11/2009, elles reprennent en grandes parties les ANI sauf quelques dispositions notamment elles ne reprennent pas l’entretien professionnel dans sa global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ORD DE BRANCH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Accord d’organisations syndicales d’un secteur professi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LIGIBILITE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Aptitude à être élu (critères d’accès : âge, ancienneté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PCA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Organisme collecteur de la branche métier (Organisme Paritaire Collecteur Agré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ONGECIF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rganisme interprofessionnel de financement pour le CIF et autres dispositifs de formation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IF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Congé Individuel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F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Droit Individuel à la formation  (à l’initiative du salari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trat de professionnalisation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contrat d’insertion en alter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ériode de professionnalisation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ériode à définir permettant l’acquisition d’une qualification ou d’une certification professionnelle (accès à un public prior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ilan de compétences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alyse des compétences professionnelles et personnelles, des aptitudes pour définir un projet professionnel. Ce bilan est réalisé par un organisme habil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E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Validation des acquis de l’expé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lan de formation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ions d’adaptation au poste de travail, de maintien dans l’emploi, ou développement des compétences. Ce plan de formation est élaboré et suivi par la personne en charge de la 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ocation formation 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omme versée durant les heures de formation hors temps de trav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ilan d’étape professionnel 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Rencontre professionnelle entre le salarié et l’employeur, à l’initiative du salarié, permettant de définir des objectifs de 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11:02Z</dcterms:created>
  <dc:creator/>
  <dc:description/>
  <dc:language>en-US</dc:language>
  <cp:lastModifiedBy>revellat</cp:lastModifiedBy>
  <dcterms:modified xsi:type="dcterms:W3CDTF">2010-12-05T16:05:56Z</dcterms:modified>
  <cp:revision>17</cp:revision>
  <dc:subject/>
  <dc:title>Diapositive 1</dc:title>
</cp:coreProperties>
</file>