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4.png" ContentType="image/png"/>
  <Override PartName="/ppt/media/image2.jpeg" ContentType="image/jpeg"/>
  <Override PartName="/ppt/media/image3.png" ContentType="image/png"/>
  <Override PartName="/ppt/media/image5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C4B6-B2BA-4CEA-9CF3-2E944E683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680" y="4047840"/>
            <a:ext cx="77724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013E-788F-418C-99B6-0198156A0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4047840"/>
            <a:ext cx="37926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49360" y="4047840"/>
            <a:ext cx="37926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799C-7E66-4934-BB05-751B31424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250236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4680" y="1676160"/>
            <a:ext cx="250236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2320" y="1676160"/>
            <a:ext cx="250236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680" y="4047840"/>
            <a:ext cx="250236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4680" y="4047840"/>
            <a:ext cx="250236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2320" y="4047840"/>
            <a:ext cx="250236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5B41-D628-4237-A9E9-46FA4CA2F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F156D-FBC3-4DB8-8D03-CB7B980F3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AB10F-09B7-4B05-B7C5-B3589E17B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0EFC7-3927-4900-B7D9-355D4EFF5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4D5B3-FE87-4F03-B5E7-A70841145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E086E-B08F-40DD-9158-7981CF8FB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38F12-0F3F-4A31-9770-9BAA05CD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66680" y="4047840"/>
            <a:ext cx="37926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F60BE-C677-4669-965F-6DC4CF0C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7C08-55EB-4D99-A764-3B78BBD3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49360" y="4047840"/>
            <a:ext cx="37926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DA63E-0B04-492F-8FEC-02B588D5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66680" y="4047840"/>
            <a:ext cx="77724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CEAF7-6FDF-445D-82AE-7644E033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66680" y="4047840"/>
            <a:ext cx="77724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5C2C1-8FC3-4D9D-8DD9-CA1551A6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047840"/>
            <a:ext cx="37926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49360" y="4047840"/>
            <a:ext cx="37926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7BDDD-666A-488D-8BD9-57E0E30E3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250236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4680" y="1676160"/>
            <a:ext cx="250236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22320" y="1676160"/>
            <a:ext cx="250236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66680" y="4047840"/>
            <a:ext cx="250236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4680" y="4047840"/>
            <a:ext cx="250236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22320" y="4047840"/>
            <a:ext cx="250236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B4703-0CD0-4283-B77F-A13D0D156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23E5-E735-4C64-93FA-3E07C04EC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2093-DB52-46F6-B371-BD593DD8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A2BD-D7B8-4660-B44F-08A02A93C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289E-2F89-4A16-9888-32275831F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680" y="4047840"/>
            <a:ext cx="37926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E125-3DA5-42D4-A0BA-17C2FB69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49360" y="4047840"/>
            <a:ext cx="37926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2890-09A4-41F5-88E3-0D730F65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4047840"/>
            <a:ext cx="77724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1E2D-48C9-47A0-9075-868EC7E8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e8c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9e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2DDF-2AC7-4E8B-A150-5BB5079A5E55}" type="datetime">
              <a:rPr b="0" lang="fr-FR" sz="1400" spc="-1" strike="noStrike">
                <a:solidFill>
                  <a:srgbClr val="009e8c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9000" y="641340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009e8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&lt;footer&gt;</a:t>
            </a: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www.khepri.biz   Le Changement harmon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9e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E491-97D0-4935-BB05-2CC0E1794493}" type="slidenum">
              <a:rPr b="0" lang="fr-FR" sz="2400" spc="-1" strike="noStrike">
                <a:solidFill>
                  <a:srgbClr val="009e8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081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081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  <a:p>
            <a:pPr lvl="2" marL="1370160" indent="-22860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081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  <a:p>
            <a:pPr lvl="3" marL="1712880" indent="-228600">
              <a:spcBef>
                <a:spcPts val="799"/>
              </a:spcBef>
              <a:buClr>
                <a:srgbClr val="1f408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081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081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081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081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e8c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1066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9e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9D5CB-4750-4361-B030-BE2D276BE68C}" type="datetime">
              <a:rPr b="0" lang="fr-FR" sz="1400" spc="-1" strike="noStrike">
                <a:solidFill>
                  <a:srgbClr val="009e8c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429000" y="640080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009e8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&lt;footer&gt;</a:t>
            </a: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www.khepri.biz  Le Changement harmon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8229600" y="64008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9e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7064-34CC-4BA0-A930-F6B976A03835}" type="slidenum">
              <a:rPr b="0" lang="fr-FR" sz="2400" spc="-1" strike="noStrike">
                <a:solidFill>
                  <a:srgbClr val="009e8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081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081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081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1f4081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081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081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081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081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9e8c"/>
                </a:solidFill>
                <a:latin typeface="Arial"/>
              </a:rPr>
              <a:t>SOCIÉTÉ KHEPRI</a:t>
            </a:r>
            <a:r>
              <a:rPr b="1" lang="fr-FR" sz="4000" spc="-1" strike="noStrike" baseline="30000">
                <a:solidFill>
                  <a:srgbClr val="009e8c"/>
                </a:solidFill>
                <a:latin typeface="Times New Roman"/>
              </a:rPr>
              <a:t>®</a:t>
            </a:r>
            <a:endParaRPr b="0" lang="en-US" sz="40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600200" y="23623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f4081"/>
                </a:solidFill>
                <a:latin typeface="Arial"/>
              </a:rPr>
              <a:t>Le Changement Harmonique</a:t>
            </a:r>
            <a:r>
              <a:rPr b="1" lang="fr-FR" sz="3200" spc="-1" strike="noStrike" baseline="30000">
                <a:solidFill>
                  <a:srgbClr val="1f4081"/>
                </a:solidFill>
                <a:latin typeface="Times New Roman"/>
              </a:rPr>
              <a:t>®</a:t>
            </a: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3657600"/>
            <a:ext cx="7543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e8c"/>
                </a:solidFill>
                <a:latin typeface="Arial"/>
              </a:rPr>
              <a:t>Diagnostic et solutions en Relations Humaine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9e8c"/>
                </a:solidFill>
                <a:latin typeface="Arial"/>
              </a:rPr>
              <a:t>Société spécialisée en accompagnement du changement des individus et des équipes dans une démarche systémiqu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7A70E-DF83-4C9F-94DF-0D9EC44A204B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612138D-4539-4B14-8761-1201F365F4E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Domaines d’interventions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5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-4251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Cohésion d’équipe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Performance personnelle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Conduite du changement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Communication dans l’entreprise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Organisation et système de management</a:t>
            </a:r>
            <a:br>
              <a:rPr sz="2400"/>
            </a:b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de la qualité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Nouvelle orientation stratégique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Coaching de dirigeant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Accompagnement de projet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Accompagnement de force de vente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Mise en œuvre plan de formation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Gestion prévisionnelle des emplois et des compétences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397D-60E2-48DF-A539-33B307D7C72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57E1E7-D631-4B1A-97F7-FDC1E0B8201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9e8c"/>
                </a:solidFill>
                <a:latin typeface="Arial"/>
              </a:rPr>
              <a:t>Processus de transformation et d’évolution pour créer de la valeur, anticiper les changements et y faire face sur le plan économique et social</a:t>
            </a:r>
            <a:endParaRPr b="0" lang="en-US" sz="18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057400" y="4111560"/>
            <a:ext cx="5638680" cy="257400"/>
          </a:xfrm>
          <a:prstGeom prst="rightArrow">
            <a:avLst>
              <a:gd name="adj1" fmla="val 44167"/>
              <a:gd name="adj2" fmla="val 351008"/>
            </a:avLst>
          </a:prstGeom>
          <a:solidFill>
            <a:srgbClr val="fac164"/>
          </a:solidFill>
          <a:ln w="9360">
            <a:solidFill>
              <a:srgbClr val="fac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057400" y="3863880"/>
            <a:ext cx="5562720" cy="276480"/>
          </a:xfrm>
          <a:prstGeom prst="rightArrow">
            <a:avLst>
              <a:gd name="adj1" fmla="val 32648"/>
              <a:gd name="adj2" fmla="val 305150"/>
            </a:avLst>
          </a:prstGeom>
          <a:solidFill>
            <a:srgbClr val="009e8c"/>
          </a:solidFill>
          <a:ln w="9360">
            <a:solidFill>
              <a:srgbClr val="009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1080" y="1930320"/>
            <a:ext cx="1600200" cy="1905120"/>
          </a:xfrm>
          <a:prstGeom prst="ellipse">
            <a:avLst/>
          </a:prstGeom>
          <a:solidFill>
            <a:srgbClr val="d0fcd4"/>
          </a:solidFill>
          <a:ln w="9360">
            <a:solidFill>
              <a:srgbClr val="009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e8c"/>
                </a:solidFill>
                <a:latin typeface="Arial"/>
              </a:rPr>
              <a:t>Parcours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28800" y="4673520"/>
            <a:ext cx="1447920" cy="1767240"/>
          </a:xfrm>
          <a:prstGeom prst="rect">
            <a:avLst/>
          </a:prstGeom>
          <a:solidFill>
            <a:srgbClr val="d0fcd4"/>
          </a:solidFill>
          <a:ln w="9360">
            <a:solidFill>
              <a:srgbClr val="009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9e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 </a:t>
            </a:r>
            <a:r>
              <a:rPr b="1" lang="fr-FR" sz="1200" spc="-1" strike="noStrike">
                <a:solidFill>
                  <a:srgbClr val="009e8c"/>
                </a:solidFill>
                <a:latin typeface="Arial"/>
              </a:rPr>
              <a:t>Impact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9e8c"/>
                </a:solidFill>
                <a:latin typeface="Arial"/>
              </a:rPr>
              <a:t>immédiat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9e8c"/>
                </a:solidFill>
                <a:latin typeface="Arial"/>
              </a:rPr>
              <a:t>émergence de la vision et des valeurs avec effets moyen et long terme sur la cultur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9e8c"/>
                </a:solidFill>
                <a:latin typeface="Arial"/>
              </a:rPr>
              <a:t>d’entrepris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00400" y="4676760"/>
            <a:ext cx="1523880" cy="1585800"/>
          </a:xfrm>
          <a:prstGeom prst="rect">
            <a:avLst/>
          </a:prstGeom>
          <a:solidFill>
            <a:srgbClr val="fbffa8"/>
          </a:solidFill>
          <a:ln w="9360">
            <a:solidFill>
              <a:srgbClr val="009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9e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Retour sur investissement de la formation par l’intégration grâce aux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télé-formations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4673520"/>
            <a:ext cx="1523880" cy="1159560"/>
          </a:xfrm>
          <a:prstGeom prst="rect">
            <a:avLst/>
          </a:prstGeom>
          <a:solidFill>
            <a:srgbClr val="d3d6f9"/>
          </a:solidFill>
          <a:ln w="9360">
            <a:solidFill>
              <a:srgbClr val="009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9e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Pérennité, viabilité et flexibilité face aux changements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5880" y="4673520"/>
            <a:ext cx="1600200" cy="1585800"/>
          </a:xfrm>
          <a:prstGeom prst="rect">
            <a:avLst/>
          </a:prstGeom>
          <a:solidFill>
            <a:srgbClr val="b4f2f4"/>
          </a:solidFill>
          <a:ln w="9360">
            <a:solidFill>
              <a:srgbClr val="009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9e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Amélioration continue des processus et valorisation des compétences individuelles et collectives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76720" y="1930320"/>
            <a:ext cx="1600200" cy="1905120"/>
          </a:xfrm>
          <a:prstGeom prst="ellipse">
            <a:avLst/>
          </a:prstGeom>
          <a:solidFill>
            <a:srgbClr val="fbffa8"/>
          </a:solidFill>
          <a:ln w="9360">
            <a:solidFill>
              <a:srgbClr val="009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e8c"/>
                </a:solidFill>
                <a:latin typeface="Arial"/>
              </a:rPr>
              <a:t>Manager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e8c"/>
                </a:solidFill>
                <a:latin typeface="Arial"/>
              </a:rPr>
              <a:t>Plus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48320" y="1930320"/>
            <a:ext cx="1600200" cy="1905120"/>
          </a:xfrm>
          <a:prstGeom prst="ellipse">
            <a:avLst/>
          </a:prstGeom>
          <a:solidFill>
            <a:srgbClr val="d3d6f9"/>
          </a:solidFill>
          <a:ln w="9360">
            <a:solidFill>
              <a:srgbClr val="009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e8c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e8c"/>
                </a:solidFill>
                <a:latin typeface="Arial"/>
              </a:rPr>
              <a:t>en mode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e8c"/>
                </a:solidFill>
                <a:latin typeface="Arial"/>
              </a:rPr>
              <a:t>projet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19920" y="1930320"/>
            <a:ext cx="1600200" cy="1905120"/>
          </a:xfrm>
          <a:prstGeom prst="ellipse">
            <a:avLst/>
          </a:prstGeom>
          <a:solidFill>
            <a:srgbClr val="b4f2f4"/>
          </a:solidFill>
          <a:ln w="9360">
            <a:solidFill>
              <a:srgbClr val="009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e8c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e8c"/>
                </a:solidFill>
                <a:latin typeface="Arial"/>
              </a:rPr>
              <a:t>par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e8c"/>
                </a:solidFill>
                <a:latin typeface="Arial"/>
              </a:rPr>
              <a:t>la qualité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2006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Résultats internes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2120" y="391176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e8c"/>
                </a:solidFill>
                <a:latin typeface="Arial"/>
              </a:rPr>
              <a:t>SALARIES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772400" y="391176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e8c"/>
                </a:solidFill>
                <a:latin typeface="Arial"/>
              </a:rPr>
              <a:t>CLIENTS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772400" y="2724120"/>
            <a:ext cx="1219320" cy="778680"/>
          </a:xfrm>
          <a:prstGeom prst="rect">
            <a:avLst/>
          </a:prstGeom>
          <a:solidFill>
            <a:srgbClr val="fac1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9e8c"/>
                </a:solidFill>
                <a:latin typeface="Arial"/>
              </a:rPr>
              <a:t>Croissance de l’entreprise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2727360"/>
            <a:ext cx="1218960" cy="778680"/>
          </a:xfrm>
          <a:prstGeom prst="rect">
            <a:avLst/>
          </a:prstGeom>
          <a:solidFill>
            <a:srgbClr val="009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fbffa8"/>
                </a:solidFill>
                <a:latin typeface="Arial"/>
              </a:rPr>
              <a:t>Implication des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fbffa8"/>
                </a:solidFill>
                <a:latin typeface="Arial"/>
              </a:rPr>
              <a:t>équipes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4292640"/>
            <a:ext cx="160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Reconnaissance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Motivation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Intelligence collective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43800" y="4292640"/>
            <a:ext cx="16002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Satisfaction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Fidélisation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Image sur le marché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914400"/>
            <a:ext cx="1447920" cy="946440"/>
          </a:xfrm>
          <a:prstGeom prst="rect">
            <a:avLst/>
          </a:prstGeom>
          <a:solidFill>
            <a:srgbClr val="f3d7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Champs d’intervention techniques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de Khépri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438280" y="501480"/>
            <a:ext cx="6324840" cy="21654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705720" y="2209680"/>
            <a:ext cx="152280" cy="152640"/>
          </a:xfrm>
          <a:prstGeom prst="smileyFace">
            <a:avLst>
              <a:gd name="adj" fmla="val 9282"/>
            </a:avLst>
          </a:prstGeom>
          <a:solidFill>
            <a:srgbClr val="ffea18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38480" y="2286000"/>
            <a:ext cx="152640" cy="152280"/>
          </a:xfrm>
          <a:prstGeom prst="smileyFace">
            <a:avLst>
              <a:gd name="adj" fmla="val 9282"/>
            </a:avLst>
          </a:prstGeom>
          <a:solidFill>
            <a:srgbClr val="ffea18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10080" y="2209680"/>
            <a:ext cx="152640" cy="152640"/>
          </a:xfrm>
          <a:prstGeom prst="smileyFace">
            <a:avLst>
              <a:gd name="adj" fmla="val 9282"/>
            </a:avLst>
          </a:prstGeom>
          <a:solidFill>
            <a:srgbClr val="ffea18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38280" y="1905120"/>
            <a:ext cx="152640" cy="152280"/>
          </a:xfrm>
          <a:prstGeom prst="smileyFace">
            <a:avLst>
              <a:gd name="adj" fmla="val 9282"/>
            </a:avLst>
          </a:prstGeom>
          <a:solidFill>
            <a:srgbClr val="ffea18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52480" y="914400"/>
            <a:ext cx="1600200" cy="946440"/>
          </a:xfrm>
          <a:prstGeom prst="rect">
            <a:avLst/>
          </a:prstGeom>
          <a:solidFill>
            <a:srgbClr val="d0fcd4"/>
          </a:solidFill>
          <a:ln w="9360">
            <a:solidFill>
              <a:srgbClr val="009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Cohésion d’équipes et communication interne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52680" y="914400"/>
            <a:ext cx="1447920" cy="946440"/>
          </a:xfrm>
          <a:prstGeom prst="rect">
            <a:avLst/>
          </a:prstGeom>
          <a:solidFill>
            <a:srgbClr val="fbffa8"/>
          </a:solidFill>
          <a:ln w="9360">
            <a:solidFill>
              <a:srgbClr val="009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Formation et maintient des valeurs de l’entreprise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914400"/>
            <a:ext cx="1447920" cy="946440"/>
          </a:xfrm>
          <a:prstGeom prst="rect">
            <a:avLst/>
          </a:prstGeom>
          <a:solidFill>
            <a:srgbClr val="d3d6f9"/>
          </a:solidFill>
          <a:ln w="9360">
            <a:solidFill>
              <a:srgbClr val="009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Démarrage, poursuite et aboutissement d’un proj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248520" y="914400"/>
            <a:ext cx="1447560" cy="946440"/>
          </a:xfrm>
          <a:prstGeom prst="rect">
            <a:avLst/>
          </a:prstGeom>
          <a:solidFill>
            <a:srgbClr val="b4f2f4"/>
          </a:solidFill>
          <a:ln w="9360">
            <a:solidFill>
              <a:srgbClr val="009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La performance face à la concurrence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077320" y="129528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ed836e"/>
                </a:solidFill>
                <a:latin typeface="Arial"/>
              </a:rPr>
              <a:t>Valeur ajoutée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772400" y="198108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Résultats externes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5715000"/>
            <a:ext cx="1447920" cy="733320"/>
          </a:xfrm>
          <a:prstGeom prst="rect">
            <a:avLst/>
          </a:prstGeom>
          <a:solidFill>
            <a:srgbClr val="fac164"/>
          </a:solidFill>
          <a:ln w="9360">
            <a:solidFill>
              <a:srgbClr val="009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Avantages pour nos clients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F7102-221D-44C4-B257-F0576DD3A27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9B13A11-64E5-4D6D-B51E-B01447F774D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Nos produits phares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3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f4081"/>
                </a:solidFill>
                <a:latin typeface="Arial"/>
              </a:rPr>
              <a:t>Manager Plus </a:t>
            </a:r>
            <a:r>
              <a:rPr b="1" lang="fr-FR" sz="1200" spc="-1" strike="noStrike">
                <a:solidFill>
                  <a:srgbClr val="1f4081"/>
                </a:solidFill>
                <a:latin typeface="Arial"/>
              </a:rPr>
              <a:t>TM</a:t>
            </a:r>
            <a:endParaRPr b="0" lang="en-US" sz="12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f4081"/>
                </a:solidFill>
                <a:latin typeface="Arial"/>
              </a:rPr>
              <a:t>Parcours </a:t>
            </a:r>
            <a:r>
              <a:rPr b="1" lang="fr-FR" sz="1200" spc="-1" strike="noStrike">
                <a:solidFill>
                  <a:srgbClr val="1f4081"/>
                </a:solidFill>
                <a:latin typeface="Arial"/>
              </a:rPr>
              <a:t>TM</a:t>
            </a:r>
            <a:endParaRPr b="0" lang="en-US" sz="12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f4081"/>
                </a:solidFill>
                <a:latin typeface="Arial"/>
              </a:rPr>
              <a:t>Management des équipes en mode</a:t>
            </a: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f4081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1f4081"/>
                </a:solidFill>
                <a:latin typeface="Arial"/>
              </a:rPr>
              <a:t>projet</a:t>
            </a: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f4081"/>
                </a:solidFill>
                <a:latin typeface="Arial"/>
              </a:rPr>
              <a:t>Management par la qualité</a:t>
            </a: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BE9B-7806-401C-BCE7-8D8E452C45E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C63771-6BCC-410C-9A1E-5FB4B3315E5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e8c"/>
                </a:solidFill>
                <a:latin typeface="Arial"/>
              </a:rPr>
              <a:t>“</a:t>
            </a:r>
            <a:r>
              <a:rPr b="1" lang="fr-FR" sz="3200" spc="-1" strike="noStrike">
                <a:solidFill>
                  <a:srgbClr val="009e8c"/>
                </a:solidFill>
                <a:latin typeface="Arial"/>
              </a:rPr>
              <a:t>Manager Plus”</a:t>
            </a:r>
            <a:r>
              <a:rPr b="1" lang="fr-FR" sz="3600" spc="-1" strike="noStrike" baseline="30000">
                <a:solidFill>
                  <a:srgbClr val="009e8c"/>
                </a:solidFill>
                <a:latin typeface="Arial"/>
              </a:rPr>
              <a:t>®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680" y="1479600"/>
            <a:ext cx="7772400" cy="45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f4081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1f4081"/>
                </a:solidFill>
                <a:latin typeface="Arial"/>
              </a:rPr>
              <a:t>Un perfectionnement au management avec l’appui de méthodes de coaching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e8c"/>
                </a:solidFill>
                <a:latin typeface="Arial"/>
              </a:rPr>
              <a:t>Cible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Un programme de formation pour responsables encadrants, managers, directeurs de réseaux, dirigeants souhaitant :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Trouver leur style de leadership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Intégrer des outils et un questionnement utilisés par des coachs professionnel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Inspirer l’auto-motivation de leurs collaborateur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Renforcer l’organisation en valorisant la performance de chacun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Transformer le capital social en avantage concurrentiel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894E-D5CA-48E5-9535-E8E9D0E9F56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F70E72-1410-4DFF-BAA5-8A12092783A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“</a:t>
            </a: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Manager Plus”</a:t>
            </a:r>
            <a:r>
              <a:rPr b="1" lang="fr-FR" sz="3600" spc="-1" strike="noStrike" baseline="30000">
                <a:solidFill>
                  <a:srgbClr val="009e8c"/>
                </a:solidFill>
                <a:latin typeface="Arial"/>
              </a:rPr>
              <a:t>®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9e8c"/>
                </a:solidFill>
                <a:latin typeface="Arial"/>
              </a:rPr>
              <a:t>Objectifs de la formation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16640" indent="-45072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6 mois d’accompagnement personnalisé pour :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56120" indent="-22608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Augmenter la crédibilité des hiérarchiques et pérenniser leur dynamique managériale,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56120" indent="-22608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Affirmer leur leadership en développant les synergies et la cohésion de leur équipe,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56120" indent="-22608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Motiver leurs collaborateurs autour de projets concrets ambitieux et réalistes,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56120" indent="-22608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Élever les performances de leur équipe en suscitant plaisir à travailler et désir de réussir, 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56120" indent="-22608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Prévenir et résoudre durablement les conflits,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56120" indent="-22608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Maîtriser les techniques de pilotage afin d’optimiser l’efficacité et la fiabilité individuelle et collective, 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56120" indent="-22608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Renforcer confiance, estime et affirmation de soi.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361B-2F57-4ADB-B2B4-931BF0E1190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22F2E9-9BB9-4078-ACA5-A7A8F1B283A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“</a:t>
            </a: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Manager Plus”</a:t>
            </a:r>
            <a:r>
              <a:rPr b="1" lang="fr-FR" sz="3600" spc="-1" strike="noStrike" baseline="30000">
                <a:solidFill>
                  <a:srgbClr val="009e8c"/>
                </a:solidFill>
                <a:latin typeface="Arial"/>
              </a:rPr>
              <a:t>®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9e8c"/>
                </a:solidFill>
                <a:latin typeface="Arial"/>
              </a:rPr>
              <a:t>Valeur ajoutée pour l’entreprise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Assurer la rentabilité de vos investissements en formation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Plus de productivité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Baisse du turn over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Augmentation du CA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9e8c"/>
                </a:solidFill>
                <a:latin typeface="Arial"/>
              </a:rPr>
              <a:t>Les sociétés qui ont déjà fait confiance à ce programme de formation :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Groupe CIC, Banques populaires, Crédit Mutuel, Groupe Mulliez, la Mondiale, France 5, GDF, DHL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C80F-ACE0-4247-80C3-55B806B35AE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BE6BDB-F497-42F7-895E-344913B6CDB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“</a:t>
            </a: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Manager Plus”</a:t>
            </a:r>
            <a:r>
              <a:rPr b="1" lang="fr-FR" sz="3600" spc="-1" strike="noStrike" baseline="30000">
                <a:solidFill>
                  <a:srgbClr val="009e8c"/>
                </a:solidFill>
                <a:latin typeface="Arial"/>
              </a:rPr>
              <a:t>®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9e8c"/>
                </a:solidFill>
                <a:latin typeface="Arial"/>
              </a:rPr>
              <a:t>Organisation de la formation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06200" indent="-44604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f4081"/>
                </a:solidFill>
                <a:latin typeface="Arial"/>
              </a:rPr>
              <a:t>Programme de formation d’une durée de 6 mois comprenant :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0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2" marL="1342440" indent="-22392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3 séminaires résidentiels de 3 jour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42440" indent="-22392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8 séances de téléformation entre chaque séminaire, d’une heure par semaine 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42440" indent="-22392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8 séances, d’1 heure de supervision par quinzaine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42440" indent="-22392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24 séances de coaching assurées par les masters du réseau (optionnelles)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42440" indent="-22392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Taille des groupes : de 15 à 40 personnes, et ateliers expérentiels en petites équipe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0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0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C454-3909-4519-9221-F71BF2751ED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514A6D-B8D2-4912-8E36-5F790F8ADDF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“</a:t>
            </a: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Manager Plus”</a:t>
            </a:r>
            <a:r>
              <a:rPr b="1" lang="fr-FR" sz="3600" spc="-1" strike="noStrike" baseline="30000">
                <a:solidFill>
                  <a:srgbClr val="009e8c"/>
                </a:solidFill>
                <a:latin typeface="Arial"/>
              </a:rPr>
              <a:t>®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9e8c"/>
                </a:solidFill>
                <a:latin typeface="Arial"/>
              </a:rPr>
              <a:t>Stratégie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9e8c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009e8c"/>
                </a:solidFill>
                <a:latin typeface="Arial"/>
              </a:rPr>
              <a:t>“</a:t>
            </a:r>
            <a:r>
              <a:rPr b="1" lang="fr-FR" sz="2800" spc="-1" strike="noStrike">
                <a:solidFill>
                  <a:srgbClr val="009e8c"/>
                </a:solidFill>
                <a:latin typeface="Arial"/>
              </a:rPr>
              <a:t>Concept intégration” :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9e8c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009e8c"/>
                </a:solidFill>
                <a:latin typeface="Arial"/>
              </a:rPr>
              <a:t>Pas de formation sans téléformation !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f4081"/>
                </a:solidFill>
                <a:latin typeface="Arial"/>
              </a:rPr>
              <a:t>Formation en salle</a:t>
            </a: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 (résidentiel)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2" marL="1370160" indent="-228600">
              <a:lnSpc>
                <a:spcPct val="10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Alternance d’apports théoriques, de démonstrations et d’exercices pratiques sous forme d’ateliers favorisant l’intégration par l’action, chaque atelier faisant l’objet de supervision et de débriefing.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f4081"/>
                </a:solidFill>
                <a:latin typeface="Arial"/>
              </a:rPr>
              <a:t>Téléformation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2" marL="1370160" indent="-228600">
              <a:lnSpc>
                <a:spcPct val="10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La téléformation complète l’apport théorique pour intégrer tous les aspects du métier de manager.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5D25-DD11-4D81-BFF0-5CD7318A3C7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55D1C4-97C4-4091-A3D4-F26A3A1CEBE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“</a:t>
            </a: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Manager Plus”</a:t>
            </a:r>
            <a:r>
              <a:rPr b="1" lang="fr-FR" sz="3600" spc="-1" strike="noStrike" baseline="30000">
                <a:solidFill>
                  <a:srgbClr val="009e8c"/>
                </a:solidFill>
                <a:latin typeface="Arial"/>
              </a:rPr>
              <a:t>®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9e8c"/>
                </a:solidFill>
                <a:latin typeface="Arial"/>
              </a:rPr>
              <a:t>Supervision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2" marL="1370160" indent="-22860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Focalisation sur la mise en application sur le terrain du contenu de la formation. Mise en commun d’expériences, partage et recadrage.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9e8c"/>
                </a:solidFill>
                <a:latin typeface="Arial"/>
              </a:rPr>
              <a:t>Coaching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2" marL="1370160" indent="-22860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Permet de travailler sur son évolution personnelle : sa qualité relationnelle, son style de leadership, ses responsabilités, la cohérence de ses actions et prises de décisions, son efficacité, sa disponibilité.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06FA-9957-4D28-AEB9-BE6B2057FDD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1A1DA7-82EA-4A53-A1E6-2E9A462A901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Parcours</a:t>
            </a:r>
            <a:r>
              <a:rPr b="1" lang="fr-FR" sz="3600" spc="-1" strike="noStrike" baseline="30000">
                <a:solidFill>
                  <a:srgbClr val="009e8c"/>
                </a:solidFill>
                <a:latin typeface="Arial"/>
              </a:rPr>
              <a:t>®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-434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1f4081"/>
                </a:solidFill>
                <a:latin typeface="Arial"/>
              </a:rPr>
              <a:t>Un regard nouveau</a:t>
            </a:r>
            <a:r>
              <a:rPr b="0" lang="fr-FR" sz="2800" spc="-1" strike="noStrike">
                <a:solidFill>
                  <a:srgbClr val="1f4081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1f4081"/>
                </a:solidFill>
                <a:latin typeface="Arial"/>
              </a:rPr>
              <a:t>sur l’ingénierie</a:t>
            </a:r>
            <a:br>
              <a:rPr sz="2800"/>
            </a:br>
            <a:r>
              <a:rPr b="1" lang="fr-FR" sz="2800" spc="-1" strike="noStrike">
                <a:solidFill>
                  <a:srgbClr val="1f4081"/>
                </a:solidFill>
                <a:latin typeface="Arial"/>
              </a:rPr>
              <a:t>d’évènements pédagogiques pour accompagner le changement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9e8c"/>
                </a:solidFill>
                <a:latin typeface="Arial"/>
              </a:rPr>
              <a:t>“</a:t>
            </a:r>
            <a:r>
              <a:rPr b="1" i="1" lang="fr-FR" sz="2800" spc="-1" strike="noStrike">
                <a:solidFill>
                  <a:srgbClr val="009e8c"/>
                </a:solidFill>
                <a:latin typeface="Arial"/>
              </a:rPr>
              <a:t>On me dit, j’oublie. </a:t>
            </a:r>
            <a:br>
              <a:rPr sz="2800"/>
            </a:br>
            <a:r>
              <a:rPr b="1" i="1" lang="fr-FR" sz="2800" spc="-1" strike="noStrike">
                <a:solidFill>
                  <a:srgbClr val="009e8c"/>
                </a:solidFill>
                <a:latin typeface="Arial"/>
              </a:rPr>
              <a:t>	</a:t>
            </a:r>
            <a:r>
              <a:rPr b="1" i="1" lang="fr-FR" sz="2800" spc="-1" strike="noStrike">
                <a:solidFill>
                  <a:srgbClr val="009e8c"/>
                </a:solidFill>
                <a:latin typeface="Arial"/>
              </a:rPr>
              <a:t>On me montre, je me souviens. </a:t>
            </a:r>
            <a:br>
              <a:rPr sz="2800"/>
            </a:br>
            <a:r>
              <a:rPr b="1" i="1" lang="fr-FR" sz="2800" spc="-1" strike="noStrike">
                <a:solidFill>
                  <a:srgbClr val="009e8c"/>
                </a:solidFill>
                <a:latin typeface="Arial"/>
              </a:rPr>
              <a:t>	</a:t>
            </a:r>
            <a:r>
              <a:rPr b="1" i="1" lang="fr-FR" sz="2800" spc="-1" strike="noStrike">
                <a:solidFill>
                  <a:srgbClr val="009e8c"/>
                </a:solidFill>
                <a:latin typeface="Arial"/>
              </a:rPr>
              <a:t>On m’implique, j’apprends…”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1f4081"/>
                </a:solidFill>
                <a:latin typeface="Arial"/>
              </a:rPr>
              <a:t>Une</a:t>
            </a:r>
            <a:r>
              <a:rPr b="1" i="1" lang="fr-FR" sz="2800" spc="-1" strike="noStrike">
                <a:solidFill>
                  <a:srgbClr val="1f4081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1f4081"/>
                </a:solidFill>
                <a:latin typeface="Arial"/>
              </a:rPr>
              <a:t>démarche systémique au cœur de l’entreprise en prise directe avec ses réalités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9347-6BD0-4543-8C01-31CE7980036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50B363-FF2C-4980-B457-2F5DB54403E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Le Changement Harmonique</a:t>
            </a:r>
            <a:r>
              <a:rPr b="1" lang="fr-FR" sz="3600" spc="-1" strike="noStrike" baseline="30000">
                <a:solidFill>
                  <a:srgbClr val="009e8c"/>
                </a:solidFill>
                <a:latin typeface="Times New Roman"/>
              </a:rPr>
              <a:t>®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120" y="2590920"/>
            <a:ext cx="80773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f4081"/>
                </a:solidFill>
                <a:latin typeface="Arial"/>
              </a:rPr>
              <a:t>Surfer sur la vague du changement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f4081"/>
                </a:solidFill>
                <a:latin typeface="Arial"/>
              </a:rPr>
              <a:t>Le changement comme vecteur de performance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f4081"/>
                </a:solidFill>
                <a:latin typeface="Arial"/>
              </a:rPr>
              <a:t>Vous avez la partition, nous vous aidons à la mettre en musique et à trouver les instruments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f4081"/>
                </a:solidFill>
                <a:latin typeface="Arial"/>
              </a:rPr>
              <a:t>de votre performance</a:t>
            </a:r>
            <a:r>
              <a:rPr b="0" lang="fr-FR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101D7-8F0A-4FD0-83C2-7C508B84E35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76F8230-3907-4EEF-B47D-6225CA199BF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Parcours, pour quelles raisons ?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e8c"/>
                </a:solidFill>
                <a:latin typeface="Arial"/>
              </a:rPr>
              <a:t>Champs d’application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Conventions, forums, séminaires, kick-off,</a:t>
            </a:r>
            <a:br>
              <a:rPr sz="2000"/>
            </a:b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lancement de projets stratégiques…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e8c"/>
                </a:solidFill>
                <a:latin typeface="Arial"/>
              </a:rPr>
              <a:t>Objectif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Faire gagner du temps, de l’énergie et du mieux-être à l’entreprise dans les périodes charnières :</a:t>
            </a:r>
            <a:br>
              <a:rPr sz="2000"/>
            </a:b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Parcours est un accélérateur de changement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e8c"/>
                </a:solidFill>
                <a:latin typeface="Arial"/>
              </a:rPr>
              <a:t>Stratégie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Tous les collaborateurs sont acteurs et mobilisé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Communication interactive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Mise en scène de façon attrayante et concrète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0CC0-328B-4A34-8161-41D2164A97A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1AA373-020E-4D3C-A25B-0B30CFEAEC6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Parcours, pour quelles raisons ?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9e8c"/>
                </a:solidFill>
                <a:latin typeface="Arial"/>
              </a:rPr>
              <a:t>Valeur ajoutée pour l’entreprise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Avoir un impact durable et immédiat sous 48 H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Etre en phase avec les préoccupations</a:t>
            </a:r>
            <a:r>
              <a:rPr b="1" lang="fr-FR" sz="2400" spc="-1" strike="noStrike">
                <a:solidFill>
                  <a:srgbClr val="1f4081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actuelles :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70160" indent="-228600">
              <a:lnSpc>
                <a:spcPct val="10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Rapidité - mobilité - changement 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70160" indent="-228600">
              <a:lnSpc>
                <a:spcPct val="10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Montée en puissance des individu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9e8c"/>
                </a:solidFill>
                <a:latin typeface="Arial"/>
              </a:rPr>
              <a:t>Les sociétés qui ont déjà fait confiance à ce programme de formation :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Aventis, Schneider…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DBD9-E770-4435-908B-A2FFAAC750B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5B00D2-F8D6-4C33-9977-AA6A3C469E7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Caractéristiques de Parcours</a:t>
            </a:r>
            <a:r>
              <a:rPr b="1" lang="fr-FR" sz="3600" spc="-1" strike="noStrike" baseline="30000">
                <a:solidFill>
                  <a:srgbClr val="009e8c"/>
                </a:solidFill>
                <a:latin typeface="Arial"/>
              </a:rPr>
              <a:t>®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e8c"/>
                </a:solidFill>
                <a:latin typeface="Arial"/>
              </a:rPr>
              <a:t>Organisation</a:t>
            </a: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f4081"/>
                </a:solidFill>
                <a:latin typeface="Arial"/>
              </a:rPr>
              <a:t>Durée : 1 à 2 jours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f4081"/>
                </a:solidFill>
                <a:latin typeface="Arial"/>
              </a:rPr>
              <a:t>Lieu : Différents sites thématiques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f4081"/>
                </a:solidFill>
                <a:latin typeface="Arial"/>
              </a:rPr>
              <a:t>Nombre de personnes : 50 à 250 personnes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f4081"/>
                </a:solidFill>
                <a:latin typeface="Arial"/>
              </a:rPr>
              <a:t>Circulation : “nomadisme organisé”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f4081"/>
                </a:solidFill>
                <a:latin typeface="Arial"/>
              </a:rPr>
              <a:t>Scénographie attrayante et créative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f4081"/>
                </a:solidFill>
                <a:latin typeface="Arial"/>
              </a:rPr>
              <a:t>Animation : consultant “chef d’orchestre” et équipe d’animation interne de préférence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4FEB-1D8E-4506-A291-20CC5585D6C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300D11-9351-4BBB-9855-F2ED459A96C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Ses caractéristiques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f4081"/>
                </a:solidFill>
                <a:latin typeface="Arial"/>
              </a:rPr>
              <a:t>Approche basée sur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Organisation apprenante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Intelligence collective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Quotient émotionnel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Approche participative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Intranet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Logiciels sur mesure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Séquences enregistrées de vidéo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BDD8-B059-4DDD-B36D-6B5CE8EB68E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D0DFE5-C12F-4388-B333-323F6B16CCD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Mise-en-œuvre en co-production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Fort investissement en amont par la constitution</a:t>
            </a:r>
            <a:br>
              <a:rPr sz="2000"/>
            </a:b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d’un groupe de travail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f4081"/>
                </a:solidFill>
                <a:latin typeface="Arial"/>
              </a:rPr>
              <a:t>Direction générale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f4081"/>
                </a:solidFill>
                <a:latin typeface="Arial"/>
              </a:rPr>
              <a:t>Direction de la communication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f4081"/>
                </a:solidFill>
                <a:latin typeface="Arial"/>
              </a:rPr>
              <a:t>Direction des Ressources Humaines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f4081"/>
                </a:solidFill>
                <a:latin typeface="Arial"/>
              </a:rPr>
              <a:t>Direction de la formation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f4081"/>
                </a:solidFill>
                <a:latin typeface="Arial"/>
              </a:rPr>
              <a:t>Chefs de projets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Définition des thèmes clé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Elaboration et validation des contenu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Validation des modalités d’animation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Tests, groupe miroir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4784-0637-431C-A44D-C73176BD47D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F746A4-D3FE-4851-A07D-39F6451A602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Les facteurs clés de réussite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Créer un partenariat étroit avec la Direction de l’Entreprise pour préparer l’évènement.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Assurer une cohérence entre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La production de l’événement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La culture de l’entreprise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La progression pédagogique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Les moyens technologique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Marquer les esprits par une réalisation innovante et ambitieuse.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Maîtriser les temps et les espace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Associer Parcours et sa dimension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“</a:t>
            </a: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direct-live” à la communication globale.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92B2-4174-4620-8979-4C9EF4B577A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542D22-9055-41AA-94A2-BCB2EBA59C4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Management en mode projet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e8c"/>
                </a:solidFill>
                <a:latin typeface="Arial"/>
              </a:rPr>
              <a:t>Champs d’application</a:t>
            </a: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84b81"/>
                </a:solidFill>
                <a:latin typeface="Arial"/>
              </a:rPr>
              <a:t>L’accompagnement du changement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84b81"/>
                </a:solidFill>
                <a:latin typeface="Arial"/>
              </a:rPr>
              <a:t>L’assurance qualité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84b81"/>
                </a:solidFill>
                <a:latin typeface="Arial"/>
              </a:rPr>
              <a:t>Le marketing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84b81"/>
                </a:solidFill>
                <a:latin typeface="Arial"/>
              </a:rPr>
              <a:t>La vente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84b81"/>
                </a:solidFill>
                <a:latin typeface="Arial"/>
              </a:rPr>
              <a:t>L’organisation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84b81"/>
                </a:solidFill>
                <a:latin typeface="Arial"/>
              </a:rPr>
              <a:t>Le management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BA58-AB2F-439C-B2A7-12292ED3C928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CBB24A-6B1F-4266-BB8A-DC8DD28283A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Management en mode projet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9e8c"/>
                </a:solidFill>
                <a:latin typeface="Arial"/>
              </a:rPr>
              <a:t>Objectif </a:t>
            </a:r>
            <a:r>
              <a:rPr b="0" lang="fr-FR" sz="2800" spc="-1" strike="noStrike">
                <a:solidFill>
                  <a:srgbClr val="009e8c"/>
                </a:solidFill>
                <a:latin typeface="Arial"/>
              </a:rPr>
              <a:t>(au niveau individuel ou d’une équipe)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16640" indent="-45072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e8c"/>
                </a:solidFill>
                <a:latin typeface="Arial"/>
              </a:rPr>
              <a:t>Découvrir deux modes d’apprentissage, que sont la modélisation et la métaphore symbolique pour :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2" marL="1356120" indent="-22608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84b81"/>
                </a:solidFill>
                <a:latin typeface="Arial"/>
              </a:rPr>
              <a:t>Mettre en œuvre des stratégies de changement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56120" indent="-22608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84b81"/>
                </a:solidFill>
                <a:latin typeface="Arial"/>
              </a:rPr>
              <a:t>Savoir identifier ses ressources internes à soi-même permettant l’atteinte de ses objectifs 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56120" indent="-22608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Se donner des critères de réussite et les hiérarchiser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56120" indent="-22608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Prendre facilement des décision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56120" indent="-22608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Se donner les moyens de ses enjeux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56120" indent="-22608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Se mettre en action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56120" indent="-22608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Corriger le tir en avançant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B993-8A2C-440E-901E-365CE1BF1F2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7B4DF8-E147-472F-94DA-0A043965ACD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Management en mode projet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e8c"/>
                </a:solidFill>
                <a:latin typeface="Arial"/>
              </a:rPr>
              <a:t>Organisation</a:t>
            </a:r>
            <a:r>
              <a:rPr b="1" lang="fr-FR" sz="2800" spc="-1" strike="noStrike">
                <a:solidFill>
                  <a:srgbClr val="1f4081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9e8c"/>
                </a:solidFill>
                <a:latin typeface="Arial"/>
              </a:rPr>
              <a:t>de la formation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f4081"/>
                </a:solidFill>
                <a:latin typeface="Arial"/>
              </a:rPr>
              <a:t>Durée du stage : 2 jours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f4081"/>
                </a:solidFill>
                <a:latin typeface="Arial"/>
              </a:rPr>
              <a:t>Lieu : en résidentiel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f4081"/>
                </a:solidFill>
                <a:latin typeface="Arial"/>
              </a:rPr>
              <a:t>Nombre de personnes : 10 à 12 personnes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89E3-4E34-4855-BCF5-C2EAACAE66E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FB3CA1-34C8-43F5-B72B-B4B5255103F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Management en mode projet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9e8c"/>
                </a:solidFill>
                <a:latin typeface="Arial"/>
              </a:rPr>
              <a:t>Valeur ajoutée pour les individus et l’entreprise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84b81"/>
                </a:solidFill>
                <a:latin typeface="Arial"/>
              </a:rPr>
              <a:t>Vous aider à développer une vision commune dans vos équipes et atteindre une meilleure cohérence dans l’action.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84b81"/>
                </a:solidFill>
                <a:latin typeface="Arial"/>
              </a:rPr>
              <a:t>Obtenir des résultats concrets pour 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2" marL="137016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84b81"/>
                </a:solidFill>
                <a:latin typeface="Arial"/>
              </a:rPr>
              <a:t>Développer son activité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7016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84b81"/>
                </a:solidFill>
                <a:latin typeface="Arial"/>
              </a:rPr>
              <a:t>Améliorer sa façon de communiquer avec ses collaborateur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7016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84b81"/>
                </a:solidFill>
                <a:latin typeface="Arial"/>
              </a:rPr>
              <a:t>Résoudre des problème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7016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84b81"/>
                </a:solidFill>
                <a:latin typeface="Arial"/>
              </a:rPr>
              <a:t>Préparer des réunions importante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7016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84b81"/>
                </a:solidFill>
                <a:latin typeface="Arial"/>
              </a:rPr>
              <a:t>Conduire efficacement un projet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7118-03BC-488C-8844-B02D503354E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E1DA6C-E645-417F-9BF9-F48CE17D747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Style d’entreprise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72400" cy="36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e8c"/>
                </a:solidFill>
                <a:latin typeface="Arial"/>
              </a:rPr>
              <a:t>Une société du 21ème siècle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Apprenante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Organisée en réseau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Engagée auprès de ses clients (cf. charte déontologique p.40)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Qui allie éthique, intégrité, passion, exigence, humanisme et performance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081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1f4081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A48C-3576-4D45-AD53-DE0FB0A9FFE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EB7E6E-32A7-46A4-AD21-CF8C7D6466E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e8c"/>
                </a:solidFill>
                <a:latin typeface="Arial"/>
              </a:rPr>
              <a:t>Management par la qualité</a:t>
            </a:r>
            <a:br>
              <a:rPr sz="3200"/>
            </a:br>
            <a:endParaRPr b="0" lang="en-US" sz="32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3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9e8c"/>
                </a:solidFill>
                <a:latin typeface="Arial"/>
              </a:rPr>
              <a:t>Objectif</a:t>
            </a:r>
            <a:r>
              <a:rPr b="1" lang="fr-FR" sz="1200" spc="-1" strike="noStrike">
                <a:solidFill>
                  <a:srgbClr val="009e8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Développer la performance de l'entreprise et la conduire sur un mode d'amélioration continue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Accompagnement de l'entreprise jusqu'au niveau de la Certification ISO 9001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9e8c"/>
                </a:solidFill>
                <a:latin typeface="Arial"/>
              </a:rPr>
              <a:t>Stratégie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Planification, Analyse stratégique et Systémique, Mission et Vision (BSC) aide à l'identification et gestion des processus (cartographie, interface et interaction), paramétrage, Assistance et Accompagnement et mise en place des tableaux de bord et plans d'action pour l'amélioration continue de l'Organisme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9e8c"/>
                </a:solidFill>
                <a:latin typeface="Arial"/>
              </a:rPr>
              <a:t>Système d'information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Spécifications fonctionnelles, Opérationnelles, Normatives références AFNOR</a:t>
            </a:r>
            <a:endParaRPr b="0" lang="en-US" sz="16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609D-DE54-42C0-B38E-A3E5E1A40510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16EE8B-EDB9-4ACF-9724-6C6C97893AF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3124080" y="1371600"/>
            <a:ext cx="2895840" cy="1143000"/>
            <a:chOff x="3124080" y="1371600"/>
            <a:chExt cx="2895840" cy="1143000"/>
          </a:xfrm>
        </p:grpSpPr>
        <p:sp>
          <p:nvSpPr>
            <p:cNvPr id="198" name=""/>
            <p:cNvSpPr/>
            <p:nvPr/>
          </p:nvSpPr>
          <p:spPr>
            <a:xfrm>
              <a:off x="3124080" y="1371600"/>
              <a:ext cx="2895840" cy="1143000"/>
            </a:xfrm>
            <a:prstGeom prst="rect">
              <a:avLst/>
            </a:prstGeom>
            <a:solidFill>
              <a:srgbClr val="3366ff"/>
            </a:solidFill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466080" y="1563840"/>
              <a:ext cx="2190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2a3d7a"/>
                  </a:solidFill>
                  <a:latin typeface="Arial"/>
                </a:rPr>
                <a:t>Entreprise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457200" y="3276720"/>
            <a:ext cx="990720" cy="685800"/>
          </a:xfrm>
          <a:prstGeom prst="rightArrow">
            <a:avLst>
              <a:gd name="adj1" fmla="val 50000"/>
              <a:gd name="adj2" fmla="val 36115"/>
            </a:avLst>
          </a:prstGeom>
          <a:solidFill>
            <a:srgbClr val="009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96080" y="3352680"/>
            <a:ext cx="990720" cy="685800"/>
          </a:xfrm>
          <a:prstGeom prst="rightArrow">
            <a:avLst>
              <a:gd name="adj1" fmla="val 50000"/>
              <a:gd name="adj2" fmla="val 36115"/>
            </a:avLst>
          </a:prstGeom>
          <a:solidFill>
            <a:srgbClr val="009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87080" y="3022560"/>
            <a:ext cx="6366600" cy="3506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a3d7a"/>
                </a:solidFill>
                <a:latin typeface="Arial"/>
              </a:rPr>
              <a:t>Vis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a3d7a"/>
                </a:solidFill>
                <a:latin typeface="Arial"/>
              </a:rPr>
              <a:t>Objectifs court, moyen, long ter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a3d7a"/>
                </a:solidFill>
                <a:latin typeface="Arial"/>
              </a:rPr>
              <a:t>Stratégi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a3d7a"/>
                </a:solidFill>
                <a:latin typeface="Arial"/>
              </a:rPr>
              <a:t>Organisation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a3d7a"/>
                </a:solidFill>
                <a:latin typeface="Arial"/>
              </a:rPr>
              <a:t>Proces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a3d7a"/>
                </a:solidFill>
                <a:latin typeface="Arial"/>
              </a:rPr>
              <a:t>Ressources intern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a3d7a"/>
                </a:solidFill>
                <a:latin typeface="Arial"/>
              </a:rPr>
              <a:t>Ressources extern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e8c"/>
                </a:solidFill>
                <a:latin typeface="Arial"/>
              </a:rPr>
              <a:t>Management par la qualité</a:t>
            </a:r>
            <a:br>
              <a:rPr sz="3200"/>
            </a:br>
            <a:endParaRPr b="0" lang="en-US" sz="3200" spc="-1" strike="noStrike">
              <a:solidFill>
                <a:srgbClr val="009e8c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76320" y="1371600"/>
            <a:ext cx="2895480" cy="1143000"/>
            <a:chOff x="76320" y="1371600"/>
            <a:chExt cx="2895480" cy="1143000"/>
          </a:xfrm>
        </p:grpSpPr>
        <p:sp>
          <p:nvSpPr>
            <p:cNvPr id="205" name=""/>
            <p:cNvSpPr/>
            <p:nvPr/>
          </p:nvSpPr>
          <p:spPr>
            <a:xfrm>
              <a:off x="76320" y="1371600"/>
              <a:ext cx="2895480" cy="114300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52280" y="1563840"/>
              <a:ext cx="2754720" cy="5814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2a3d7a"/>
                  </a:solidFill>
                  <a:latin typeface="Arial"/>
                </a:rPr>
                <a:t>Fournisseurs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6172200" y="1371600"/>
            <a:ext cx="2895480" cy="1143000"/>
            <a:chOff x="6172200" y="1371600"/>
            <a:chExt cx="2895480" cy="1143000"/>
          </a:xfrm>
        </p:grpSpPr>
        <p:sp>
          <p:nvSpPr>
            <p:cNvPr id="208" name=""/>
            <p:cNvSpPr/>
            <p:nvPr/>
          </p:nvSpPr>
          <p:spPr>
            <a:xfrm>
              <a:off x="6172200" y="1371600"/>
              <a:ext cx="2895480" cy="114300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36400" y="1616040"/>
              <a:ext cx="1535400" cy="581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2a3d7a"/>
                  </a:solidFill>
                  <a:latin typeface="Arial"/>
                </a:rPr>
                <a:t>Clients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 flipH="1">
            <a:off x="1523880" y="2514600"/>
            <a:ext cx="1524240" cy="457200"/>
          </a:xfrm>
          <a:prstGeom prst="line">
            <a:avLst/>
          </a:prstGeom>
          <a:ln w="255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95880" y="2514600"/>
            <a:ext cx="1524240" cy="457200"/>
          </a:xfrm>
          <a:prstGeom prst="line">
            <a:avLst/>
          </a:prstGeom>
          <a:ln w="255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038480" y="2590920"/>
            <a:ext cx="99072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9FD3-97FD-41F1-B8BB-8A24CCFC1604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A0F4FC-D6E9-4A99-A1DA-3B52889EFA4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066680" y="14475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e8c"/>
                </a:solidFill>
                <a:latin typeface="Arial"/>
              </a:rPr>
              <a:t>Revue et optimisation des paramètres d’organisation au niveau individuel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06200" indent="-446040">
              <a:lnSpc>
                <a:spcPct val="8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Mission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06200" indent="-446040">
              <a:lnSpc>
                <a:spcPct val="8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Description de poste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06200" indent="-446040">
              <a:lnSpc>
                <a:spcPct val="8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Objectifs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06200" indent="-446040">
              <a:lnSpc>
                <a:spcPct val="8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Indicateurs de suivi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06200" indent="-446040">
              <a:lnSpc>
                <a:spcPct val="8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Axes d’amélioration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0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e8c"/>
                </a:solidFill>
                <a:latin typeface="Arial"/>
              </a:rPr>
              <a:t>Revue et optimisation des paramètres d’organisation globale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06200" indent="-446040">
              <a:lnSpc>
                <a:spcPct val="8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Zones de recouvrement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06200" indent="-446040">
              <a:lnSpc>
                <a:spcPct val="8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Zones non-couvertes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06200" indent="-446040">
              <a:lnSpc>
                <a:spcPct val="8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Développement de process de backup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06200" indent="-446040">
              <a:lnSpc>
                <a:spcPct val="8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Process d’escalade et gestion des non-conformités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06200" indent="-446040">
              <a:lnSpc>
                <a:spcPct val="8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Suivi des indicateurs, tableaux de bord et plans d’action en cas de non-atteinte de l’objectif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0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9144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e8c"/>
                </a:solidFill>
                <a:latin typeface="Arial"/>
              </a:rPr>
              <a:t>Management par la qualité</a:t>
            </a:r>
            <a:br>
              <a:rPr sz="3200"/>
            </a:br>
            <a:r>
              <a:rPr b="1" lang="fr-FR" sz="3200" spc="-1" strike="noStrike">
                <a:solidFill>
                  <a:srgbClr val="009e8c"/>
                </a:solidFill>
                <a:latin typeface="Arial"/>
              </a:rPr>
              <a:t>ou la performance humaine</a:t>
            </a:r>
            <a:endParaRPr b="0" lang="en-US" sz="32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DCDE-1905-4916-BD9B-C50ED0C34202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D6761F-9F85-4A3C-AA5D-D7B318C77A6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5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e8c"/>
                </a:solidFill>
                <a:latin typeface="Arial"/>
              </a:rPr>
              <a:t>Valeur ajoutée pour l'entreprise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934560" indent="-414360">
              <a:lnSpc>
                <a:spcPct val="8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a3d7a"/>
                </a:solidFill>
                <a:latin typeface="Arial"/>
              </a:rPr>
              <a:t>Amélioration continue de la performance, développement et amélioration de la compétence, maîtrise, conformité et niveau de certification du Système de Management de l'Entreprise, accès à de nouveaux marchés, développement du chiffre d’affaire, développement du profit opérationnel.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934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15800" indent="-4158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e8c"/>
                </a:solidFill>
                <a:latin typeface="Arial"/>
              </a:rPr>
              <a:t>Les sociétés qui ont déjà fait confiance à cette démarche :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934560" indent="-414360">
              <a:lnSpc>
                <a:spcPct val="8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a3d7a"/>
                </a:solidFill>
                <a:latin typeface="Arial"/>
              </a:rPr>
              <a:t>Logistique : VPC Bruneau, Raja - Sté de Génie Génétique Genodyssée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934560" indent="-414360">
              <a:lnSpc>
                <a:spcPct val="8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a3d7a"/>
                </a:solidFill>
                <a:latin typeface="Arial"/>
              </a:rPr>
              <a:t>Publicité et Mktg Direct : Infoflash - Mécanique Générale: Acmel, Sorel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934560" indent="-414360">
              <a:lnSpc>
                <a:spcPct val="8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a3d7a"/>
                </a:solidFill>
                <a:latin typeface="Arial"/>
              </a:rPr>
              <a:t>Aménagement d'Entreprise: Mécanobloc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934560" indent="-414360">
              <a:lnSpc>
                <a:spcPct val="8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a3d7a"/>
                </a:solidFill>
                <a:latin typeface="Arial"/>
              </a:rPr>
              <a:t>Stés de Négoce : Ellexcience, Géca technique, SM Galtié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934560" indent="-414360">
              <a:lnSpc>
                <a:spcPct val="8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a3d7a"/>
                </a:solidFill>
                <a:latin typeface="Arial"/>
              </a:rPr>
              <a:t>Collecte 1% patronal: Solendi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934560" indent="-414360">
              <a:lnSpc>
                <a:spcPct val="8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a3d7a"/>
                </a:solidFill>
                <a:latin typeface="Arial"/>
              </a:rPr>
              <a:t>Bâtimen : Franco-Suisse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934560" indent="-414360">
              <a:lnSpc>
                <a:spcPct val="8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a3d7a"/>
                </a:solidFill>
                <a:latin typeface="Arial"/>
              </a:rPr>
              <a:t>Intérim : VédiorBis, Expectra France 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934560" indent="-414360">
              <a:lnSpc>
                <a:spcPct val="8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a3d7a"/>
                </a:solidFill>
                <a:latin typeface="Arial"/>
              </a:rPr>
              <a:t>Imprimerie: Seic…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e8c"/>
                </a:solidFill>
                <a:latin typeface="Arial"/>
              </a:rPr>
              <a:t>Management par la qualité</a:t>
            </a:r>
            <a:br>
              <a:rPr sz="3200"/>
            </a:br>
            <a:endParaRPr b="0" lang="en-US" sz="32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BC5F-FD5E-4C89-95DC-92A58C7C8623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05FF8E-210B-443D-8A00-9D7C202544F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Formations thématiques - </a:t>
            </a:r>
            <a:r>
              <a:rPr b="1" lang="fr-FR" sz="3200" spc="-1" strike="noStrike">
                <a:solidFill>
                  <a:srgbClr val="009e8c"/>
                </a:solidFill>
                <a:latin typeface="Arial"/>
              </a:rPr>
              <a:t>PME-PMI</a:t>
            </a:r>
            <a:endParaRPr b="0" lang="en-US" sz="32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3810240" cy="45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-42516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Management du changement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Développer ses capacités managériale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Induire le changement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Générer du temp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Organiser une réunion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Parler en public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Savoir communiquer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Gérer les conflit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Bien se connaître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Transmission des compétence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Management Force de Vente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76920" y="1828800"/>
            <a:ext cx="3962160" cy="45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Diriger une équipe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Savoir déléguer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Savoir motiver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Savoir négocier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Prendre facilement des décision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Le stress positif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Conduire un projet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Management &amp; NTIC (ou management à distantce)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Plus de leadership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Les entretiens professionnels du Manager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90720" y="1295280"/>
            <a:ext cx="784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081"/>
                </a:solidFill>
                <a:latin typeface="Arial"/>
              </a:rPr>
              <a:t>Toutes ces formations commencent par un module : Bien se connaîtr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CEA7-51E1-4EFE-9124-EAE70A2BDFB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7F094D-AAC8-4D2D-9EA6-4939EA9163A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Formations thématiques - </a:t>
            </a:r>
            <a:r>
              <a:rPr b="1" lang="fr-FR" sz="3200" spc="-1" strike="noStrike">
                <a:solidFill>
                  <a:srgbClr val="009e8c"/>
                </a:solidFill>
                <a:latin typeface="Arial"/>
              </a:rPr>
              <a:t>TPE</a:t>
            </a:r>
            <a:endParaRPr b="0" lang="en-US" sz="32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81024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84b81"/>
                </a:solidFill>
                <a:latin typeface="Arial"/>
              </a:rPr>
              <a:t>Le type de mon entreprise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84b81"/>
                </a:solidFill>
                <a:latin typeface="Arial"/>
              </a:rPr>
              <a:t>Créer les conditions de l'auto-motivation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84b81"/>
                </a:solidFill>
                <a:latin typeface="Arial"/>
              </a:rPr>
              <a:t>Valoriser son intuition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84b81"/>
                </a:solidFill>
                <a:latin typeface="Arial"/>
              </a:rPr>
              <a:t>Savoir s’entourer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84b81"/>
                </a:solidFill>
                <a:latin typeface="Arial"/>
              </a:rPr>
              <a:t>Prendre facilement des décision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84b81"/>
                </a:solidFill>
                <a:latin typeface="Arial"/>
              </a:rPr>
              <a:t>Faire émerger ses capacités commerciale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28840" y="1676160"/>
            <a:ext cx="380988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84b81"/>
                </a:solidFill>
                <a:latin typeface="Arial"/>
              </a:rPr>
              <a:t>Une image pour mon projet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Conduire un projet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84b81"/>
                </a:solidFill>
                <a:latin typeface="Arial"/>
              </a:rPr>
              <a:t>Générer du temp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84b81"/>
                </a:solidFill>
                <a:latin typeface="Arial"/>
              </a:rPr>
              <a:t>Le stress positif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84b81"/>
                </a:solidFill>
                <a:latin typeface="Arial"/>
              </a:rPr>
              <a:t>Gérer les conflit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84b81"/>
                </a:solidFill>
                <a:latin typeface="Arial"/>
              </a:rPr>
              <a:t>Parler en public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1F0C-403E-415A-8535-7DC6F110B35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AFD116-14C4-4F9C-B159-DAD8D2DCE34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Organisation de travail Khépri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f4081"/>
                </a:solidFill>
                <a:latin typeface="Arial"/>
              </a:rPr>
              <a:t>Cellules de travail internes</a:t>
            </a: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1f4081"/>
                </a:solidFill>
                <a:latin typeface="Arial"/>
              </a:rPr>
              <a:t>Management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1f4081"/>
                </a:solidFill>
                <a:latin typeface="Arial"/>
              </a:rPr>
              <a:t>Recherche et développement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f4081"/>
                </a:solidFill>
                <a:latin typeface="Arial"/>
              </a:rPr>
              <a:t>Pour toujours plus de créativité et d’adaptation pour nos clients</a:t>
            </a: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A33F-352C-441E-B14D-CD580A217FB2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68E06C-63B7-44FE-A0E5-5B0226BB351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Management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f4081"/>
                </a:solidFill>
                <a:latin typeface="Arial"/>
              </a:rPr>
              <a:t>Ingénierie de formation</a:t>
            </a: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081"/>
                </a:solidFill>
                <a:latin typeface="Arial"/>
              </a:rPr>
              <a:t>Mise en place de sessions de formation 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081"/>
                </a:solidFill>
                <a:latin typeface="Arial"/>
              </a:rPr>
              <a:t>Adaptation de contenus pédagogiques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081"/>
                </a:solidFill>
                <a:latin typeface="Arial"/>
              </a:rPr>
              <a:t>Animation des formations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081"/>
                </a:solidFill>
                <a:latin typeface="Arial"/>
              </a:rPr>
              <a:t>Constitution de ressources techniques et humaines sur nos produits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081"/>
                </a:solidFill>
                <a:latin typeface="Arial"/>
              </a:rPr>
              <a:t>Téléformation, supervision, coaching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9902-6E5A-4BB4-B3B8-318F0273C74C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EF47D6-E63B-44D1-9901-C6C59402F18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Recherche et développement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f4081"/>
                </a:solidFill>
                <a:latin typeface="Arial"/>
              </a:rPr>
              <a:t>Créativité et innovation</a:t>
            </a: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081"/>
                </a:solidFill>
                <a:latin typeface="Arial"/>
              </a:rPr>
              <a:t>Accroître notre capacité d’auto-formation en tant qu’entreprise apprenante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081"/>
                </a:solidFill>
                <a:latin typeface="Arial"/>
              </a:rPr>
              <a:t>Atelier de recherche sur des compétences croisées 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081"/>
                </a:solidFill>
                <a:latin typeface="Arial"/>
              </a:rPr>
              <a:t>Atelier d’improvisation théâtrale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081"/>
                </a:solidFill>
                <a:latin typeface="Arial"/>
              </a:rPr>
              <a:t>Techniques d’intervention ludiques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799E-D391-4592-BED2-9ABD3703203C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81841C-36A4-4404-B373-030C428EBE9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Charte qualité rigoureuse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1f4081"/>
                </a:solidFill>
                <a:latin typeface="Arial"/>
              </a:rPr>
              <a:t>Coaching City </a:t>
            </a: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(réseau actifs de coachs)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Un cadre de référence de notre profession par lequel nous nous engageaons à respecter les règles déontologiques établies par notre réseau :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70160" indent="-22860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Formation constante, supervision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2" marL="1370160" indent="-22860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Engagement pénal à ne pas adhérer à un mouvement sectaire (MIVILUDES)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2" marL="1370160" indent="-22860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Assurance professionnelle spécifique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2" marL="1370160" indent="-22860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Parfaite et totale confidentialité 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6FE9-7516-4457-9AEF-242414C163A6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021D7B-BFB4-430D-B710-D2F9DFA3A5C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Vocation de Khépri</a:t>
            </a:r>
            <a:r>
              <a:rPr b="1" lang="fr-FR" sz="3600" spc="-1" strike="noStrike">
                <a:solidFill>
                  <a:srgbClr val="009e8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e8c"/>
                </a:solidFill>
                <a:latin typeface="Arial"/>
              </a:rPr>
              <a:t>Créer de la valeur ajoutée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e8c"/>
                </a:solidFill>
                <a:latin typeface="Arial"/>
              </a:rPr>
              <a:t>Faciliter les mutations technologiques, organisationnelles et culturelles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e8c"/>
                </a:solidFill>
                <a:latin typeface="Arial"/>
              </a:rPr>
              <a:t>sécuriser les étapes d'évolution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e8c"/>
                </a:solidFill>
                <a:latin typeface="Arial"/>
              </a:rPr>
              <a:t>Utiliser l’instabilité économique comme catalyseur de motivation dans l’entreprise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Accepter la nouveauté en développant la créativité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Responsabiliser les équipes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Pratiquer une communication ouverte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Renforcer le leadership de chacun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1AC1-1D5C-43E1-937D-F2761C02ED9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5D3C75-F90F-4522-9760-B71FA82AB9D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e8c"/>
                </a:solidFill>
                <a:latin typeface="Arial"/>
              </a:rPr>
              <a:t>Organisation de la société</a:t>
            </a:r>
            <a:endParaRPr b="0" lang="en-US" sz="32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3581280"/>
            <a:ext cx="1905120" cy="1905120"/>
          </a:xfrm>
          <a:prstGeom prst="triangle">
            <a:avLst>
              <a:gd name="adj" fmla="val 50000"/>
            </a:avLst>
          </a:prstGeom>
          <a:solidFill>
            <a:srgbClr val="fce8c3"/>
          </a:solidFill>
          <a:ln w="9360">
            <a:solidFill>
              <a:srgbClr val="009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2209680"/>
            <a:ext cx="1600200" cy="1067040"/>
          </a:xfrm>
          <a:prstGeom prst="rect">
            <a:avLst/>
          </a:prstGeom>
          <a:solidFill>
            <a:srgbClr val="fce7c3"/>
          </a:solidFill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081"/>
                </a:solidFill>
                <a:latin typeface="Arial"/>
              </a:rPr>
              <a:t>Forc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081"/>
                </a:solidFill>
                <a:latin typeface="Arial"/>
              </a:rPr>
              <a:t>de vent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1676520"/>
            <a:ext cx="2286000" cy="1295280"/>
          </a:xfrm>
          <a:prstGeom prst="rect">
            <a:avLst/>
          </a:prstGeom>
          <a:solidFill>
            <a:srgbClr val="fce8c3"/>
          </a:solidFill>
          <a:ln w="9360">
            <a:solidFill>
              <a:srgbClr val="009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086600" y="2362320"/>
            <a:ext cx="1600200" cy="1066680"/>
          </a:xfrm>
          <a:prstGeom prst="rect">
            <a:avLst/>
          </a:prstGeom>
          <a:solidFill>
            <a:srgbClr val="fdecc9"/>
          </a:solidFill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d7a"/>
                </a:solidFill>
                <a:latin typeface="Arial"/>
              </a:rPr>
              <a:t>Management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d7a"/>
                </a:solidFill>
                <a:latin typeface="Arial"/>
              </a:rPr>
              <a:t>&amp; Formatio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62520" y="1828800"/>
            <a:ext cx="19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081"/>
                </a:solidFill>
                <a:latin typeface="Arial"/>
              </a:rPr>
              <a:t>Recherch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081"/>
                </a:solidFill>
                <a:latin typeface="Arial"/>
              </a:rPr>
              <a:t>&amp; Développement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4755800">
            <a:off x="5421960" y="295956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9e8c"/>
          </a:solidFill>
          <a:ln w="9360">
            <a:solidFill>
              <a:srgbClr val="009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7604400">
            <a:off x="3287880" y="295956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9e8c"/>
          </a:solidFill>
          <a:ln w="9360">
            <a:solidFill>
              <a:srgbClr val="009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1523880"/>
            <a:ext cx="1214640" cy="73368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9e8c"/>
          </a:solidFill>
          <a:ln w="9360">
            <a:solidFill>
              <a:srgbClr val="009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0737600">
            <a:off x="2361600" y="1447200"/>
            <a:ext cx="1214280" cy="7333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9e8c"/>
          </a:solidFill>
          <a:ln w="9360">
            <a:solidFill>
              <a:srgbClr val="009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76560" y="4767120"/>
            <a:ext cx="157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081"/>
                </a:solidFill>
                <a:latin typeface="Arial"/>
              </a:rPr>
              <a:t>Co-équipier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081"/>
                </a:solidFill>
                <a:latin typeface="Arial"/>
              </a:rPr>
              <a:t>Khépri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589400">
            <a:off x="6095880" y="5486040"/>
            <a:ext cx="1214640" cy="485640"/>
          </a:xfrm>
          <a:prstGeom prst="leftRightArrow">
            <a:avLst>
              <a:gd name="adj1" fmla="val 50000"/>
              <a:gd name="adj2" fmla="val 49790"/>
            </a:avLst>
          </a:prstGeom>
          <a:solidFill>
            <a:srgbClr val="fac16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a3d7a"/>
                </a:solidFill>
                <a:latin typeface="Arial"/>
              </a:rPr>
              <a:t>Réseau professionn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50840" y="3317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3760" y="3274920"/>
            <a:ext cx="2533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081"/>
                </a:solidFill>
                <a:latin typeface="Arial"/>
              </a:rPr>
              <a:t>Accompagnement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081"/>
                </a:solidFill>
                <a:latin typeface="Arial"/>
              </a:rPr>
              <a:t>d’équipes commerciales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081"/>
                </a:solidFill>
                <a:latin typeface="Arial"/>
              </a:rPr>
              <a:t>sur le terrain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72200" y="3505320"/>
            <a:ext cx="297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1f4081"/>
                </a:solidFill>
                <a:latin typeface="Arial"/>
              </a:rPr>
              <a:t>Manager Coach Training </a:t>
            </a:r>
            <a:r>
              <a:rPr b="1" lang="fr-FR" sz="500" spc="-1" strike="noStrike">
                <a:solidFill>
                  <a:srgbClr val="1f4081"/>
                </a:solidFill>
                <a:latin typeface="Arial"/>
              </a:rPr>
              <a:t>TM</a:t>
            </a:r>
            <a:endParaRPr b="0" lang="en-US" sz="5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1f4081"/>
                </a:solidFill>
                <a:latin typeface="Arial"/>
              </a:rPr>
              <a:t>Modélisation et Apprentissage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387680" y="5791320"/>
            <a:ext cx="717840" cy="7174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838080" y="4495680"/>
            <a:ext cx="1600200" cy="1067040"/>
          </a:xfrm>
          <a:prstGeom prst="rect">
            <a:avLst/>
          </a:prstGeom>
          <a:solidFill>
            <a:srgbClr val="c2d4ec"/>
          </a:solidFill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d7a"/>
                </a:solidFill>
                <a:latin typeface="Arial"/>
              </a:rPr>
              <a:t>Intervention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d7a"/>
                </a:solidFill>
                <a:latin typeface="Arial"/>
              </a:rPr>
              <a:t>en entreprise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05680" y="1293840"/>
            <a:ext cx="293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081"/>
                </a:solidFill>
                <a:latin typeface="Arial"/>
              </a:rPr>
              <a:t>Formations et intégratio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90920" y="5029200"/>
            <a:ext cx="1218960" cy="485640"/>
          </a:xfrm>
          <a:prstGeom prst="leftArrow">
            <a:avLst>
              <a:gd name="adj1" fmla="val 50000"/>
              <a:gd name="adj2" fmla="val 62750"/>
            </a:avLst>
          </a:prstGeom>
          <a:solidFill>
            <a:srgbClr val="009e8c"/>
          </a:solidFill>
          <a:ln w="9360">
            <a:solidFill>
              <a:srgbClr val="009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7" idx="2"/>
          </p:cNvCxnSpPr>
          <p:nvPr/>
        </p:nvCxnSpPr>
        <p:spPr>
          <a:xfrm rot="5400000">
            <a:off x="6433560" y="4255920"/>
            <a:ext cx="1458000" cy="991440"/>
          </a:xfrm>
          <a:prstGeom prst="bentConnector3">
            <a:avLst>
              <a:gd name="adj1" fmla="val 49987"/>
            </a:avLst>
          </a:prstGeom>
          <a:ln w="38160">
            <a:solidFill>
              <a:srgbClr val="009e8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3" name=""/>
          <p:cNvCxnSpPr/>
          <p:nvPr/>
        </p:nvCxnSpPr>
        <p:spPr>
          <a:xfrm rot="5400000">
            <a:off x="2628000" y="3314520"/>
            <a:ext cx="2210400" cy="1524600"/>
          </a:xfrm>
          <a:prstGeom prst="bentConnector3">
            <a:avLst>
              <a:gd name="adj1" fmla="val 49991"/>
            </a:avLst>
          </a:prstGeom>
          <a:ln w="38160">
            <a:solidFill>
              <a:srgbClr val="009e8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4" name=""/>
          <p:cNvCxnSpPr/>
          <p:nvPr/>
        </p:nvCxnSpPr>
        <p:spPr>
          <a:xfrm>
            <a:off x="2590920" y="2970360"/>
            <a:ext cx="4420080" cy="2160"/>
          </a:xfrm>
          <a:prstGeom prst="straightConnector1">
            <a:avLst/>
          </a:prstGeom>
          <a:ln w="38160">
            <a:solidFill>
              <a:srgbClr val="009e8c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609480" y="563868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081"/>
                </a:solidFill>
                <a:latin typeface="Arial"/>
              </a:rPr>
              <a:t>Parcours </a:t>
            </a:r>
            <a:r>
              <a:rPr b="1" lang="fr-FR" sz="600" spc="-1" strike="noStrike">
                <a:solidFill>
                  <a:srgbClr val="1f4081"/>
                </a:solidFill>
                <a:latin typeface="Arial"/>
              </a:rPr>
              <a:t>TM</a:t>
            </a:r>
            <a:endParaRPr b="0" lang="en-US" sz="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081"/>
                </a:solidFill>
                <a:latin typeface="Arial"/>
              </a:rPr>
              <a:t>Process management de la qualité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34320" y="4343400"/>
            <a:ext cx="2057400" cy="1066680"/>
          </a:xfrm>
          <a:prstGeom prst="rect">
            <a:avLst/>
          </a:prstGeom>
          <a:solidFill>
            <a:srgbClr val="c2d4ec"/>
          </a:solidFill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2a3d7a"/>
                </a:solidFill>
                <a:latin typeface="Arial"/>
              </a:rPr>
              <a:t>Coach Up Institut,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2a3d7a"/>
                </a:solidFill>
                <a:latin typeface="Arial"/>
              </a:rPr>
              <a:t>1er institut européen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2a3d7a"/>
                </a:solidFill>
                <a:latin typeface="Arial"/>
              </a:rPr>
              <a:t>de formation de coachs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2a3d7a"/>
                </a:solidFill>
                <a:latin typeface="Arial"/>
              </a:rPr>
              <a:t>professionnels</a:t>
            </a:r>
            <a:r>
              <a:rPr b="1" lang="fr-FR" sz="1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924680" y="5867280"/>
            <a:ext cx="1067040" cy="60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3036-1EE6-4462-852E-7BD29A18B32B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BDC639-DEF4-4CA7-8D5A-ADF1431FBE7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2a3d7a"/>
                </a:solidFill>
                <a:latin typeface="Arial"/>
              </a:rPr>
              <a:t>KHEPRI</a:t>
            </a:r>
            <a:br>
              <a:rPr sz="4000"/>
            </a:br>
            <a:r>
              <a:rPr b="1" lang="fr-FR" sz="4000" spc="-1" strike="noStrike">
                <a:solidFill>
                  <a:srgbClr val="2a3d7a"/>
                </a:solidFill>
                <a:latin typeface="Arial"/>
              </a:rPr>
              <a:t>&amp;</a:t>
            </a:r>
            <a:br>
              <a:rPr sz="4000"/>
            </a:br>
            <a:r>
              <a:rPr b="1" lang="fr-FR" sz="4000" spc="-1" strike="noStrike">
                <a:solidFill>
                  <a:srgbClr val="2a3d7a"/>
                </a:solidFill>
                <a:latin typeface="Arial"/>
              </a:rPr>
              <a:t>ses co-équipiers</a:t>
            </a:r>
            <a:endParaRPr b="0" lang="en-US" sz="40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990360" y="2438280"/>
            <a:ext cx="7543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Luc Epaulard, Evelyne Revellat,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Philippe Lemaire, Béatrice Quasnik, Roger Vidal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Béatrice Cuvellier, Sylvie Dubuc, Agnès Mensot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Laurent Dubois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Représentent par leur expertise des domaines d’intervention</a:t>
            </a:r>
            <a:br>
              <a:rPr sz="2000"/>
            </a:b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   différents qui sont en synergie au sein de Khépri : 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457200" indent="114480">
              <a:lnSpc>
                <a:spcPct val="10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f4081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1f4081"/>
                </a:solidFill>
                <a:latin typeface="Arial"/>
              </a:rPr>
              <a:t>Ingénieurs, spécialistes marketing ou Ressources Humaines,</a:t>
            </a:r>
            <a:br>
              <a:rPr sz="1800"/>
            </a:br>
            <a:r>
              <a:rPr b="0" lang="fr-FR" sz="1800" spc="-1" strike="noStrike">
                <a:solidFill>
                  <a:srgbClr val="1f4081"/>
                </a:solidFill>
                <a:latin typeface="Arial"/>
              </a:rPr>
              <a:t>   Spécialistes des systèmes d’informations, de la qualité, du</a:t>
            </a:r>
            <a:br>
              <a:rPr sz="1800"/>
            </a:br>
            <a:r>
              <a:rPr b="0" lang="fr-FR" sz="1800" spc="-1" strike="noStrike">
                <a:solidFill>
                  <a:srgbClr val="1f4081"/>
                </a:solidFill>
                <a:latin typeface="Arial"/>
              </a:rPr>
              <a:t>   management, de la pédagogie, de la communication relationnelle,</a:t>
            </a:r>
            <a:br>
              <a:rPr sz="1800"/>
            </a:br>
            <a:r>
              <a:rPr b="0" lang="fr-FR" sz="1800" spc="-1" strike="noStrike">
                <a:solidFill>
                  <a:srgbClr val="1f4081"/>
                </a:solidFill>
                <a:latin typeface="Arial"/>
              </a:rPr>
              <a:t>   chefs d’entreprise.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6B9C24F-523E-417E-BAAD-A0A99233485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Notre réseau, son fonctionnement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1f4081"/>
                </a:solidFill>
                <a:latin typeface="Arial"/>
              </a:rPr>
              <a:t>Fonctionnement du réseau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996120" indent="-44172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f4081"/>
                </a:solidFill>
                <a:latin typeface="Arial"/>
              </a:rPr>
              <a:t>Ce que nous proposons :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2" marL="1328760" indent="-2214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Un réseau structuré de co-équipiers formant une entité solide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28760" indent="-2214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Une vision commune de l’entreprise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28760" indent="-2214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Partager un challenge, des ambitions et de nouvelles expérience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28760" indent="-2214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Se réaliser en tant qu’indépendant en ayant un sentiment d’appartenance à une enseigne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28760" indent="-2214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Avoir une autonomie de fonctionnement en renforçant la synergie du groupe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28760" indent="-2214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Prendre des initiatives personnelle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28760" indent="-2214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Développer son propre busines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28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Dans le respect de l’éthique commerciale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FC4A-E4FE-4F8F-810E-0451521C626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33EDCC-1FD2-43D1-A6B4-D908AE3A93E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Interventions de Khépri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f4081"/>
                </a:solidFill>
                <a:latin typeface="Arial"/>
              </a:rPr>
              <a:t>Interventions en binôme</a:t>
            </a: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081"/>
                </a:solidFill>
                <a:latin typeface="Arial"/>
              </a:rPr>
              <a:t>Nous partons de la réalité de votre entreprise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081"/>
                </a:solidFill>
                <a:latin typeface="Arial"/>
              </a:rPr>
              <a:t>Nos intervenants, experts dans leur domaine, analysent les besoins de votre organisation et de vos collaborateurs.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081"/>
                </a:solidFill>
                <a:latin typeface="Arial"/>
              </a:rPr>
              <a:t>L’accompagnement des équipes s’inscrit dans le projet de votre entreprise en cherchant des résultats concrets.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37A2-11DE-4734-8CF8-512526E034F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EB8C35-21B1-42A5-BD9A-B4362E77071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Un écrin de compétences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081"/>
                </a:solidFill>
                <a:latin typeface="Arial"/>
              </a:rPr>
              <a:t>Analyse transactionnelle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081"/>
                </a:solidFill>
                <a:latin typeface="Arial"/>
              </a:rPr>
              <a:t>Animation Jeu du TAO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081"/>
                </a:solidFill>
                <a:latin typeface="Arial"/>
              </a:rPr>
              <a:t>PCM </a:t>
            </a: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(Typologie comportementale de Ned Herrmann)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081"/>
                </a:solidFill>
                <a:latin typeface="Arial"/>
              </a:rPr>
              <a:t>MBTI </a:t>
            </a: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(Théorie des types psychologiques de Jung)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081"/>
                </a:solidFill>
                <a:latin typeface="Arial"/>
              </a:rPr>
              <a:t>PNL </a:t>
            </a: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(Programmation Neuro-linguistique)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081"/>
                </a:solidFill>
                <a:latin typeface="Arial"/>
              </a:rPr>
              <a:t>Ennéagramme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081"/>
                </a:solidFill>
                <a:latin typeface="Arial"/>
              </a:rPr>
              <a:t>Coaching vocal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081"/>
                </a:solidFill>
                <a:latin typeface="Arial"/>
              </a:rPr>
              <a:t>Conseil en image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081"/>
                </a:solidFill>
                <a:latin typeface="Arial"/>
              </a:rPr>
              <a:t>Improvisation théâtrale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E322-D0D5-42EA-B634-7AE09CBD3B7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E21058-8DA9-4647-B6C6-8264A1026A8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3T00:38:52Z</dcterms:created>
  <dc:creator>GS</dc:creator>
  <dc:description/>
  <dc:language>en-US</dc:language>
  <cp:lastModifiedBy>GS</cp:lastModifiedBy>
  <cp:lastPrinted>2005-03-16T08:17:59Z</cp:lastPrinted>
  <dcterms:modified xsi:type="dcterms:W3CDTF">2005-04-04T21:14:02Z</dcterms:modified>
  <cp:revision>8</cp:revision>
  <dc:subject/>
  <dc:title>SOCIÉTÉ KHEPRI®</dc:title>
</cp:coreProperties>
</file>