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7923213" cy="11055350"/>
  <p:notesSz cx="10594975" cy="7462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212E0-6EA6-41D9-814C-1C5D8C9D38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96720" y="442800"/>
            <a:ext cx="7129440" cy="184176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ctr">
            <a:noAutofit/>
          </a:bodyPr>
          <a:p>
            <a:pPr indent="0" algn="ctr">
              <a:buNone/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96720" y="2579760"/>
            <a:ext cx="7129440" cy="347904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96720" y="6389640"/>
            <a:ext cx="7129440" cy="347904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F007-36D2-4E19-B2D7-40A17C4CE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96720" y="442800"/>
            <a:ext cx="7129440" cy="184176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ctr">
            <a:noAutofit/>
          </a:bodyPr>
          <a:p>
            <a:pPr indent="0" algn="ctr">
              <a:buNone/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96720" y="2579760"/>
            <a:ext cx="3479040" cy="347904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050000" y="2579760"/>
            <a:ext cx="3479040" cy="347904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96720" y="6389640"/>
            <a:ext cx="3479040" cy="347904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050000" y="6389640"/>
            <a:ext cx="3479040" cy="347904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4CE2-8630-467D-AF9D-2B50A9F56E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96720" y="442800"/>
            <a:ext cx="7129440" cy="184176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ctr">
            <a:noAutofit/>
          </a:bodyPr>
          <a:p>
            <a:pPr indent="0" algn="ctr">
              <a:buNone/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96720" y="2579760"/>
            <a:ext cx="2295360" cy="347904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807280" y="2579760"/>
            <a:ext cx="2295360" cy="347904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217840" y="2579760"/>
            <a:ext cx="2295360" cy="347904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96720" y="6389640"/>
            <a:ext cx="2295360" cy="347904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807280" y="6389640"/>
            <a:ext cx="2295360" cy="347904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217840" y="6389640"/>
            <a:ext cx="2295360" cy="347904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9C89-1D5E-48A0-9140-6D4DD95081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96720" y="442800"/>
            <a:ext cx="7129440" cy="184176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ctr">
            <a:noAutofit/>
          </a:bodyPr>
          <a:p>
            <a:pPr indent="0" algn="ctr">
              <a:buNone/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96720" y="2579760"/>
            <a:ext cx="7129440" cy="729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ED00-87AA-4B9F-A172-3CDE33AFA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96720" y="442800"/>
            <a:ext cx="7129440" cy="184176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ctr">
            <a:noAutofit/>
          </a:bodyPr>
          <a:p>
            <a:pPr indent="0" algn="ctr">
              <a:buNone/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96720" y="2579760"/>
            <a:ext cx="7129440" cy="729432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19C1-24D7-4265-A96A-DE78424394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96720" y="442800"/>
            <a:ext cx="7129440" cy="184176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ctr">
            <a:noAutofit/>
          </a:bodyPr>
          <a:p>
            <a:pPr indent="0" algn="ctr">
              <a:buNone/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96720" y="2579760"/>
            <a:ext cx="3479040" cy="729432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050000" y="2579760"/>
            <a:ext cx="3479040" cy="729432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D2D9D-71C1-4987-9419-970007E77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96720" y="442800"/>
            <a:ext cx="7129440" cy="184176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ctr">
            <a:noAutofit/>
          </a:bodyPr>
          <a:p>
            <a:pPr indent="0" algn="ctr">
              <a:buNone/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9046-57CB-4B3A-AF89-F30D64B03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96720" y="442800"/>
            <a:ext cx="7129440" cy="85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6B43D-A390-4074-8C04-09F0A2F52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96720" y="442800"/>
            <a:ext cx="7129440" cy="184176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ctr">
            <a:noAutofit/>
          </a:bodyPr>
          <a:p>
            <a:pPr indent="0" algn="ctr">
              <a:buNone/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96720" y="2579760"/>
            <a:ext cx="3479040" cy="347904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050000" y="2579760"/>
            <a:ext cx="3479040" cy="729432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96720" y="6389640"/>
            <a:ext cx="3479040" cy="347904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16751-15D7-4AC4-AB53-A91F36F85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96720" y="442800"/>
            <a:ext cx="7129440" cy="184176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ctr">
            <a:noAutofit/>
          </a:bodyPr>
          <a:p>
            <a:pPr indent="0" algn="ctr">
              <a:buNone/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96720" y="2579760"/>
            <a:ext cx="3479040" cy="729432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050000" y="2579760"/>
            <a:ext cx="3479040" cy="347904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050000" y="6389640"/>
            <a:ext cx="3479040" cy="347904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375BF-65FE-4EEA-AC14-E472ECE893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96720" y="442800"/>
            <a:ext cx="7129440" cy="184176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ctr">
            <a:noAutofit/>
          </a:bodyPr>
          <a:p>
            <a:pPr indent="0" algn="ctr">
              <a:buNone/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96720" y="2579760"/>
            <a:ext cx="3479040" cy="347904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050000" y="2579760"/>
            <a:ext cx="3479040" cy="347904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96720" y="6389640"/>
            <a:ext cx="7129440" cy="347904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91D2B-EC67-4DBD-A4B7-6FD23A827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96720" y="442800"/>
            <a:ext cx="7129440" cy="184176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ctr">
            <a:noAutofit/>
          </a:bodyPr>
          <a:p>
            <a:pPr indent="0" algn="ctr">
              <a:buNone/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96720" y="2579760"/>
            <a:ext cx="7129440" cy="729432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t">
            <a:normAutofit/>
          </a:bodyPr>
          <a:p>
            <a:pPr marL="217440" indent="-2174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471600" indent="-1810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723960" indent="-14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014480" indent="-1443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305000" indent="-144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305000" indent="-144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305000" indent="-14436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96360" y="10245600"/>
            <a:ext cx="1847880" cy="58752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  <a:defRPr b="0" lang="fr-FR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fr-FR" sz="7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706480" y="10245600"/>
            <a:ext cx="2508120" cy="58752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ctr">
            <a:noAutofit/>
          </a:bodyPr>
          <a:p>
            <a:pPr indent="0">
              <a:buNone/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676480" y="10245600"/>
            <a:ext cx="1849320" cy="587520"/>
          </a:xfrm>
          <a:prstGeom prst="rect">
            <a:avLst/>
          </a:prstGeom>
          <a:noFill/>
          <a:ln w="0">
            <a:noFill/>
          </a:ln>
        </p:spPr>
        <p:txBody>
          <a:bodyPr lIns="57960" rIns="57960" tIns="29160" bIns="2916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  <a:defRPr b="0" lang="fr-FR" sz="7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fld id="{392A879D-1972-4EA8-9998-5B542984719B}" type="slidenum">
              <a:rPr b="0" lang="fr-FR" sz="7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jpe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itre 1"/>
          <p:cNvSpPr/>
          <p:nvPr/>
        </p:nvSpPr>
        <p:spPr>
          <a:xfrm>
            <a:off x="0" y="1181160"/>
            <a:ext cx="792180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14560"/>
                <a:tab algn="l" pos="2228760"/>
                <a:tab algn="l" pos="3343320"/>
                <a:tab algn="l" pos="4457880"/>
                <a:tab algn="l" pos="5572080"/>
                <a:tab algn="l" pos="6686640"/>
                <a:tab algn="l" pos="7800840"/>
                <a:tab algn="l" pos="8915400"/>
                <a:tab algn="l" pos="10029960"/>
              </a:tabLst>
            </a:pPr>
            <a:r>
              <a:rPr b="1" lang="fr-FR" sz="1400" spc="-1" strike="noStrike">
                <a:solidFill>
                  <a:srgbClr val="0085b0"/>
                </a:solidFill>
                <a:latin typeface="Calibri"/>
              </a:rPr>
              <a:t>Vie professionnelle  - Vie privée :  Familles -  Couples  - Enfa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32"/>
          <p:cNvSpPr/>
          <p:nvPr/>
        </p:nvSpPr>
        <p:spPr>
          <a:xfrm>
            <a:off x="0" y="0"/>
            <a:ext cx="7921800" cy="1157400"/>
          </a:xfrm>
          <a:prstGeom prst="rect">
            <a:avLst/>
          </a:prstGeom>
          <a:solidFill>
            <a:srgbClr val="008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Espace réservé du contenu 2"/>
          <p:cNvSpPr/>
          <p:nvPr/>
        </p:nvSpPr>
        <p:spPr>
          <a:xfrm>
            <a:off x="185760" y="9651960"/>
            <a:ext cx="757404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noAutofit/>
          </a:bodyPr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r>
              <a:rPr b="1" lang="fr-FR" sz="1200" spc="-1" strike="noStrike">
                <a:solidFill>
                  <a:srgbClr val="0085b0"/>
                </a:solidFill>
                <a:latin typeface="Calibri"/>
              </a:rPr>
              <a:t>En un seul lieu, un ensemble de pratiques complémentaires efficaces pour vous aid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636480"/>
                <a:tab algn="l" pos="1273320"/>
                <a:tab algn="l" pos="1909800"/>
                <a:tab algn="l" pos="2546280"/>
                <a:tab algn="l" pos="3182760"/>
                <a:tab algn="l" pos="3819600"/>
                <a:tab algn="l" pos="4456080"/>
                <a:tab algn="l" pos="5092560"/>
                <a:tab algn="l" pos="5729400"/>
                <a:tab algn="l" pos="6365880"/>
                <a:tab algn="l" pos="7002360"/>
                <a:tab algn="l" pos="7639200"/>
                <a:tab algn="l" pos="8275680"/>
                <a:tab algn="l" pos="8912160"/>
                <a:tab algn="l" pos="9548640"/>
                <a:tab algn="l" pos="10185480"/>
                <a:tab algn="l" pos="10821960"/>
              </a:tabLst>
            </a:pPr>
            <a:r>
              <a:rPr b="1" lang="fr-FR" sz="1200" spc="-1" strike="noStrike">
                <a:solidFill>
                  <a:srgbClr val="0085b0"/>
                </a:solidFill>
                <a:latin typeface="Calibri"/>
              </a:rPr>
              <a:t>à gagner en autonomie dans la gestion de votre santé et de votre qualité de 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itre 1"/>
          <p:cNvSpPr/>
          <p:nvPr/>
        </p:nvSpPr>
        <p:spPr>
          <a:xfrm>
            <a:off x="3209760" y="304920"/>
            <a:ext cx="3494160" cy="73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45720" rIns="45720" tIns="23040" bIns="2304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114560"/>
                <a:tab algn="l" pos="2228760"/>
                <a:tab algn="l" pos="3343320"/>
                <a:tab algn="l" pos="4457880"/>
                <a:tab algn="l" pos="5572080"/>
                <a:tab algn="l" pos="6686640"/>
                <a:tab algn="l" pos="7800840"/>
                <a:tab algn="l" pos="8915400"/>
                <a:tab algn="l" pos="10029960"/>
              </a:tabLst>
            </a:pPr>
            <a:r>
              <a:rPr b="1" lang="fr-FR" sz="2000" spc="-1" strike="noStrike">
                <a:solidFill>
                  <a:srgbClr val="ffffff"/>
                </a:solidFill>
                <a:latin typeface="Calibri"/>
              </a:rPr>
              <a:t>Centre Santé Paramédic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14560"/>
                <a:tab algn="l" pos="2228760"/>
                <a:tab algn="l" pos="3343320"/>
                <a:tab algn="l" pos="4457880"/>
                <a:tab algn="l" pos="5572080"/>
                <a:tab algn="l" pos="6686640"/>
                <a:tab algn="l" pos="7800840"/>
                <a:tab algn="l" pos="8915400"/>
                <a:tab algn="l" pos="100299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Thérapies complémentair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14560"/>
                <a:tab algn="l" pos="2228760"/>
                <a:tab algn="l" pos="3343320"/>
                <a:tab algn="l" pos="4457880"/>
                <a:tab algn="l" pos="5572080"/>
                <a:tab algn="l" pos="6686640"/>
                <a:tab algn="l" pos="7800840"/>
                <a:tab algn="l" pos="8915400"/>
                <a:tab algn="l" pos="1002996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outien psychologiq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114560"/>
                <a:tab algn="l" pos="2228760"/>
                <a:tab algn="l" pos="3343320"/>
                <a:tab algn="l" pos="4457880"/>
                <a:tab algn="l" pos="5572080"/>
                <a:tab algn="l" pos="6686640"/>
                <a:tab algn="l" pos="7800840"/>
                <a:tab algn="l" pos="8915400"/>
                <a:tab algn="l" pos="100299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ZoneTexte 44"/>
          <p:cNvSpPr/>
          <p:nvPr/>
        </p:nvSpPr>
        <p:spPr>
          <a:xfrm>
            <a:off x="1940040" y="6792840"/>
            <a:ext cx="564660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1" lang="fr-FR" sz="1200" spc="-1" strike="noStrike">
                <a:solidFill>
                  <a:srgbClr val="0085b0"/>
                </a:solidFill>
                <a:latin typeface="Calibri"/>
              </a:rPr>
              <a:t>Dans le cadre de la Santé et la Qualité de Vie au Travail (SQVT) vous propose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85b0"/>
              </a:buClr>
              <a:buFont typeface="Calibri"/>
              <a:buChar char="-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1" lang="fr-FR" sz="1200" spc="-1" strike="noStrike">
                <a:solidFill>
                  <a:srgbClr val="0085b0"/>
                </a:solidFill>
                <a:latin typeface="Calibri"/>
              </a:rPr>
              <a:t>ECOUTE :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avec accompagnement global et ciblé en toute confidentialité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85b0"/>
              </a:buClr>
              <a:buFont typeface="Calibri"/>
              <a:buChar char="-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1" lang="fr-FR" sz="1200" spc="-1" strike="noStrike">
                <a:solidFill>
                  <a:srgbClr val="0085b0"/>
                </a:solidFill>
                <a:latin typeface="Calibri"/>
              </a:rPr>
              <a:t>PEDAGOGIE :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Apprendre des moyens simples pour travailler mieux en prenant soin de soi avec des experts en QVT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85b0"/>
              </a:buClr>
              <a:buFont typeface="Calibri"/>
              <a:buChar char="-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1" lang="fr-FR" sz="1200" spc="-1" strike="noStrike">
                <a:solidFill>
                  <a:srgbClr val="0085b0"/>
                </a:solidFill>
                <a:latin typeface="Calibri"/>
              </a:rPr>
              <a:t>PREVENTION :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Prévenir les effets du stress en trouvant les clefs d'un bon équilibre travail-santé-vie personnelle, vivre pleinement et sereinement votre vie professionnelle grâce à des pratiques thérapeutiques pluridisciplinaires ayant fait la preuve de leur efficacité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buClr>
                <a:srgbClr val="0085b0"/>
              </a:buClr>
              <a:buFont typeface="Calibri"/>
              <a:buChar char="-"/>
              <a:tabLst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1" lang="fr-FR" sz="1200" spc="-1" strike="noStrike">
                <a:solidFill>
                  <a:srgbClr val="0085b0"/>
                </a:solidFill>
                <a:latin typeface="Calibri"/>
              </a:rPr>
              <a:t>REBONDIR :</a:t>
            </a: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 Après un évènement marquant (soins psycho-sociaux d’urgenc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ZoneTexte 45"/>
          <p:cNvSpPr/>
          <p:nvPr/>
        </p:nvSpPr>
        <p:spPr>
          <a:xfrm>
            <a:off x="3174840" y="8764560"/>
            <a:ext cx="4746960" cy="763560"/>
          </a:xfrm>
          <a:prstGeom prst="rect">
            <a:avLst/>
          </a:prstGeom>
          <a:solidFill>
            <a:srgbClr val="ddd9c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ZoneTexte 46"/>
          <p:cNvSpPr/>
          <p:nvPr/>
        </p:nvSpPr>
        <p:spPr>
          <a:xfrm>
            <a:off x="185760" y="10193400"/>
            <a:ext cx="754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1" i="1" lang="fr-FR" sz="800" spc="-1" strike="noStrike">
                <a:solidFill>
                  <a:srgbClr val="000000"/>
                </a:solidFill>
                <a:latin typeface="Calibri"/>
              </a:rPr>
              <a:t>Les accompagnements que nous proposons ne peuvent en aucun cas se substituer à une prise en charge médicale. Aucun professionnel du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1" i="1" lang="fr-FR" sz="800" spc="-1" strike="noStrike">
                <a:solidFill>
                  <a:srgbClr val="000000"/>
                </a:solidFill>
                <a:latin typeface="Calibri"/>
              </a:rPr>
              <a:t>centre ne vous encouragera à abandonner un traitement en cours. En cas d’hésitation, n’hésitez pas à en parler à votre médecin traitant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" descr="C:\Users\Dell\Dropbox\Sophrokhépri\PHOTOS du Centre\Photo B-Design\Biotiful Design--18.jpg"/>
          <p:cNvPicPr/>
          <p:nvPr/>
        </p:nvPicPr>
        <p:blipFill>
          <a:blip r:embed="rId1"/>
          <a:stretch/>
        </p:blipFill>
        <p:spPr>
          <a:xfrm>
            <a:off x="2736720" y="1471680"/>
            <a:ext cx="3438720" cy="503856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C:\Users\Dell\Dropbox\Sophrokhépri\PHOTOS du Centre\Photo B-Design\Biotiful Design--6.jpg"/>
          <p:cNvPicPr/>
          <p:nvPr/>
        </p:nvPicPr>
        <p:blipFill>
          <a:blip r:embed="rId2"/>
          <a:stretch/>
        </p:blipFill>
        <p:spPr>
          <a:xfrm>
            <a:off x="0" y="3727440"/>
            <a:ext cx="4052880" cy="2784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C:\Users\Dell\Dropbox\Sophrokhépri\PHOTOS du Centre\Photo B-Design\Biotiful Design--2.jpg"/>
          <p:cNvPicPr/>
          <p:nvPr/>
        </p:nvPicPr>
        <p:blipFill>
          <a:blip r:embed="rId3"/>
          <a:stretch/>
        </p:blipFill>
        <p:spPr>
          <a:xfrm>
            <a:off x="0" y="1471680"/>
            <a:ext cx="4041720" cy="260496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50"/>
          <p:cNvSpPr/>
          <p:nvPr/>
        </p:nvSpPr>
        <p:spPr>
          <a:xfrm>
            <a:off x="4051440" y="5797440"/>
            <a:ext cx="2070000" cy="711360"/>
          </a:xfrm>
          <a:prstGeom prst="rect">
            <a:avLst/>
          </a:prstGeom>
          <a:solidFill>
            <a:srgbClr val="eeece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ZoneTexte 51"/>
          <p:cNvSpPr/>
          <p:nvPr/>
        </p:nvSpPr>
        <p:spPr>
          <a:xfrm>
            <a:off x="4056120" y="5792760"/>
            <a:ext cx="206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Edition </a:t>
            </a:r>
            <a:r>
              <a:rPr b="1" lang="fr-FR" sz="1400" spc="-1" strike="noStrike">
                <a:solidFill>
                  <a:srgbClr val="000000"/>
                </a:solidFill>
                <a:latin typeface="Calibri"/>
              </a:rPr>
              <a:t>2016/201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ru au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uide des hôpitaux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57"/>
          <p:cNvSpPr/>
          <p:nvPr/>
        </p:nvSpPr>
        <p:spPr>
          <a:xfrm>
            <a:off x="0" y="10539360"/>
            <a:ext cx="7921800" cy="491760"/>
          </a:xfrm>
          <a:prstGeom prst="rect">
            <a:avLst/>
          </a:prstGeom>
          <a:solidFill>
            <a:srgbClr val="008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9920" rIns="79920" tIns="39960" bIns="3996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1" lang="fr-FR" sz="900" spc="-1" strike="noStrike">
                <a:solidFill>
                  <a:srgbClr val="ffffff"/>
                </a:solidFill>
                <a:latin typeface="Calibri"/>
              </a:rPr>
              <a:t>SophroKhepri - 188 Grande Rue Charles de Gaulle -  94130 Nogent-sur-Marne (face Gare RER E Nogent le Perreux) - contact@sophrokhepri.f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1" lang="fr-FR" sz="900" spc="-1" strike="noStrike" u="sng">
                <a:solidFill>
                  <a:srgbClr val="ffffff"/>
                </a:solidFill>
                <a:uFillTx/>
                <a:latin typeface="Calibri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3" descr="C:\Users\Dell\Dropbox\stagiaires\ANNONCE Septembre2016\logo cheque sante.png"/>
          <p:cNvPicPr/>
          <p:nvPr/>
        </p:nvPicPr>
        <p:blipFill>
          <a:blip r:embed="rId4"/>
          <a:srcRect l="2645" t="0" r="3374" b="1634"/>
          <a:stretch/>
        </p:blipFill>
        <p:spPr>
          <a:xfrm>
            <a:off x="6727680" y="436680"/>
            <a:ext cx="744840" cy="500040"/>
          </a:xfrm>
          <a:prstGeom prst="rect">
            <a:avLst/>
          </a:prstGeom>
          <a:ln w="0">
            <a:noFill/>
          </a:ln>
        </p:spPr>
      </p:pic>
      <p:pic>
        <p:nvPicPr>
          <p:cNvPr id="55" name="Image 73" descr="logoSophroKhepriV5Hde-calquesfdbleu.png"/>
          <p:cNvPicPr/>
          <p:nvPr/>
        </p:nvPicPr>
        <p:blipFill>
          <a:blip r:embed="rId5"/>
          <a:stretch/>
        </p:blipFill>
        <p:spPr>
          <a:xfrm>
            <a:off x="235080" y="198360"/>
            <a:ext cx="2570040" cy="925560"/>
          </a:xfrm>
          <a:prstGeom prst="rect">
            <a:avLst/>
          </a:prstGeom>
          <a:ln w="0">
            <a:noFill/>
          </a:ln>
        </p:spPr>
      </p:pic>
      <p:grpSp>
        <p:nvGrpSpPr>
          <p:cNvPr id="56" name="Groupe 104"/>
          <p:cNvGrpSpPr/>
          <p:nvPr/>
        </p:nvGrpSpPr>
        <p:grpSpPr>
          <a:xfrm>
            <a:off x="0" y="1467000"/>
            <a:ext cx="7935840" cy="5059080"/>
            <a:chOff x="0" y="1467000"/>
            <a:chExt cx="7935840" cy="5059080"/>
          </a:xfrm>
        </p:grpSpPr>
        <p:pic>
          <p:nvPicPr>
            <p:cNvPr id="57" name="Picture 3" descr="C:\Users\Dell\Dropbox\stagiaires\ANNONCE Septembre2016\Fond d'ecran.JPG"/>
            <p:cNvPicPr/>
            <p:nvPr/>
          </p:nvPicPr>
          <p:blipFill>
            <a:blip r:embed="rId6"/>
            <a:srcRect l="0" t="0" r="0" b="665"/>
            <a:stretch/>
          </p:blipFill>
          <p:spPr>
            <a:xfrm>
              <a:off x="6127920" y="1467000"/>
              <a:ext cx="1799640" cy="504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Rectangle 60"/>
            <p:cNvSpPr/>
            <p:nvPr/>
          </p:nvSpPr>
          <p:spPr>
            <a:xfrm>
              <a:off x="6135840" y="1467000"/>
              <a:ext cx="1800000" cy="5040360"/>
            </a:xfrm>
            <a:prstGeom prst="rect">
              <a:avLst/>
            </a:prstGeom>
            <a:solidFill>
              <a:srgbClr val="eeece1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9600"/>
                  <a:tab algn="l" pos="1158840"/>
                  <a:tab algn="l" pos="1738440"/>
                  <a:tab algn="l" pos="2317680"/>
                  <a:tab algn="l" pos="2897280"/>
                  <a:tab algn="l" pos="3476520"/>
                  <a:tab algn="l" pos="4056120"/>
                  <a:tab algn="l" pos="4635360"/>
                  <a:tab algn="l" pos="5214960"/>
                  <a:tab algn="l" pos="5794200"/>
                  <a:tab algn="l" pos="6373800"/>
                  <a:tab algn="l" pos="6953400"/>
                  <a:tab algn="l" pos="7532640"/>
                  <a:tab algn="l" pos="8112240"/>
                  <a:tab algn="l" pos="8691480"/>
                  <a:tab algn="l" pos="9271080"/>
                  <a:tab algn="l" pos="9850320"/>
                  <a:tab algn="l" pos="1042992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ZoneTexte 61"/>
            <p:cNvSpPr/>
            <p:nvPr/>
          </p:nvSpPr>
          <p:spPr>
            <a:xfrm>
              <a:off x="6127920" y="4475160"/>
              <a:ext cx="16556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9600"/>
                  <a:tab algn="l" pos="1158840"/>
                  <a:tab algn="l" pos="1738440"/>
                  <a:tab algn="l" pos="2317680"/>
                  <a:tab algn="l" pos="2897280"/>
                  <a:tab algn="l" pos="3476520"/>
                  <a:tab algn="l" pos="4056120"/>
                  <a:tab algn="l" pos="4635360"/>
                  <a:tab algn="l" pos="5214960"/>
                  <a:tab algn="l" pos="5794200"/>
                  <a:tab algn="l" pos="6373800"/>
                  <a:tab algn="l" pos="6953400"/>
                  <a:tab algn="l" pos="7532640"/>
                  <a:tab algn="l" pos="8112240"/>
                  <a:tab algn="l" pos="8691480"/>
                  <a:tab algn="l" pos="9271080"/>
                  <a:tab algn="l" pos="9850320"/>
                  <a:tab algn="l" pos="10429920"/>
                </a:tabLst>
              </a:pPr>
              <a:r>
                <a:rPr b="0" lang="fr-FR" sz="1100" spc="-1" strike="noStrike">
                  <a:solidFill>
                    <a:srgbClr val="1e1c11"/>
                  </a:solidFill>
                  <a:latin typeface="Calibri"/>
                </a:rPr>
                <a:t>Sommei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79600"/>
                  <a:tab algn="l" pos="1158840"/>
                  <a:tab algn="l" pos="1738440"/>
                  <a:tab algn="l" pos="2317680"/>
                  <a:tab algn="l" pos="2897280"/>
                  <a:tab algn="l" pos="3476520"/>
                  <a:tab algn="l" pos="4056120"/>
                  <a:tab algn="l" pos="4635360"/>
                  <a:tab algn="l" pos="5214960"/>
                  <a:tab algn="l" pos="5794200"/>
                  <a:tab algn="l" pos="6373800"/>
                  <a:tab algn="l" pos="6953400"/>
                  <a:tab algn="l" pos="7532640"/>
                  <a:tab algn="l" pos="8112240"/>
                  <a:tab algn="l" pos="8691480"/>
                  <a:tab algn="l" pos="9271080"/>
                  <a:tab algn="l" pos="9850320"/>
                  <a:tab algn="l" pos="10429920"/>
                </a:tabLst>
              </a:pPr>
              <a:r>
                <a:rPr b="0" lang="fr-FR" sz="1100" spc="-1" strike="noStrike">
                  <a:solidFill>
                    <a:srgbClr val="1e1c11"/>
                  </a:solidFill>
                  <a:latin typeface="Calibri"/>
                </a:rPr>
                <a:t>Mal être au travai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79600"/>
                  <a:tab algn="l" pos="1158840"/>
                  <a:tab algn="l" pos="1738440"/>
                  <a:tab algn="l" pos="2317680"/>
                  <a:tab algn="l" pos="2897280"/>
                  <a:tab algn="l" pos="3476520"/>
                  <a:tab algn="l" pos="4056120"/>
                  <a:tab algn="l" pos="4635360"/>
                  <a:tab algn="l" pos="5214960"/>
                  <a:tab algn="l" pos="5794200"/>
                  <a:tab algn="l" pos="6373800"/>
                  <a:tab algn="l" pos="6953400"/>
                  <a:tab algn="l" pos="7532640"/>
                  <a:tab algn="l" pos="8112240"/>
                  <a:tab algn="l" pos="8691480"/>
                  <a:tab algn="l" pos="9271080"/>
                  <a:tab algn="l" pos="9850320"/>
                  <a:tab algn="l" pos="10429920"/>
                </a:tabLst>
              </a:pPr>
              <a:r>
                <a:rPr b="0" lang="fr-FR" sz="1100" spc="-1" strike="noStrike">
                  <a:solidFill>
                    <a:srgbClr val="1e1c11"/>
                  </a:solidFill>
                  <a:latin typeface="Calibri"/>
                </a:rPr>
                <a:t>Harcèlemen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ZoneTexte 62"/>
            <p:cNvSpPr/>
            <p:nvPr/>
          </p:nvSpPr>
          <p:spPr>
            <a:xfrm>
              <a:off x="6127920" y="3708360"/>
              <a:ext cx="165564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9600"/>
                  <a:tab algn="l" pos="1158840"/>
                  <a:tab algn="l" pos="1738440"/>
                  <a:tab algn="l" pos="2317680"/>
                  <a:tab algn="l" pos="2897280"/>
                  <a:tab algn="l" pos="3476520"/>
                  <a:tab algn="l" pos="4056120"/>
                  <a:tab algn="l" pos="4635360"/>
                  <a:tab algn="l" pos="5214960"/>
                  <a:tab algn="l" pos="5794200"/>
                  <a:tab algn="l" pos="6373800"/>
                  <a:tab algn="l" pos="6953400"/>
                  <a:tab algn="l" pos="7532640"/>
                  <a:tab algn="l" pos="8112240"/>
                  <a:tab algn="l" pos="8691480"/>
                  <a:tab algn="l" pos="9271080"/>
                  <a:tab algn="l" pos="9850320"/>
                  <a:tab algn="l" pos="10429920"/>
                </a:tabLst>
              </a:pPr>
              <a:r>
                <a:rPr b="0" lang="fr-FR" sz="1100" spc="-1" strike="noStrike">
                  <a:solidFill>
                    <a:srgbClr val="1e1c11"/>
                  </a:solidFill>
                  <a:latin typeface="Calibri"/>
                </a:rPr>
                <a:t>Précocité Intellectuell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79600"/>
                  <a:tab algn="l" pos="1158840"/>
                  <a:tab algn="l" pos="1738440"/>
                  <a:tab algn="l" pos="2317680"/>
                  <a:tab algn="l" pos="2897280"/>
                  <a:tab algn="l" pos="3476520"/>
                  <a:tab algn="l" pos="4056120"/>
                  <a:tab algn="l" pos="4635360"/>
                  <a:tab algn="l" pos="5214960"/>
                  <a:tab algn="l" pos="5794200"/>
                  <a:tab algn="l" pos="6373800"/>
                  <a:tab algn="l" pos="6953400"/>
                  <a:tab algn="l" pos="7532640"/>
                  <a:tab algn="l" pos="8112240"/>
                  <a:tab algn="l" pos="8691480"/>
                  <a:tab algn="l" pos="9271080"/>
                  <a:tab algn="l" pos="9850320"/>
                  <a:tab algn="l" pos="10429920"/>
                </a:tabLst>
              </a:pPr>
              <a:r>
                <a:rPr b="0" lang="fr-FR" sz="1100" spc="-1" strike="noStrike">
                  <a:solidFill>
                    <a:srgbClr val="1e1c11"/>
                  </a:solidFill>
                  <a:latin typeface="Calibri"/>
                </a:rPr>
                <a:t>Surdouanc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79600"/>
                  <a:tab algn="l" pos="1158840"/>
                  <a:tab algn="l" pos="1738440"/>
                  <a:tab algn="l" pos="2317680"/>
                  <a:tab algn="l" pos="2897280"/>
                  <a:tab algn="l" pos="3476520"/>
                  <a:tab algn="l" pos="4056120"/>
                  <a:tab algn="l" pos="4635360"/>
                  <a:tab algn="l" pos="5214960"/>
                  <a:tab algn="l" pos="5794200"/>
                  <a:tab algn="l" pos="6373800"/>
                  <a:tab algn="l" pos="6953400"/>
                  <a:tab algn="l" pos="7532640"/>
                  <a:tab algn="l" pos="8112240"/>
                  <a:tab algn="l" pos="8691480"/>
                  <a:tab algn="l" pos="9271080"/>
                  <a:tab algn="l" pos="9850320"/>
                  <a:tab algn="l" pos="10429920"/>
                </a:tabLst>
              </a:pPr>
              <a:r>
                <a:rPr b="0" lang="fr-FR" sz="1100" spc="-1" strike="noStrike">
                  <a:solidFill>
                    <a:srgbClr val="1e1c11"/>
                  </a:solidFill>
                  <a:latin typeface="Calibri"/>
                </a:rPr>
                <a:t>TDA-H 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79600"/>
                  <a:tab algn="l" pos="1158840"/>
                  <a:tab algn="l" pos="1738440"/>
                  <a:tab algn="l" pos="2317680"/>
                  <a:tab algn="l" pos="2897280"/>
                  <a:tab algn="l" pos="3476520"/>
                  <a:tab algn="l" pos="4056120"/>
                  <a:tab algn="l" pos="4635360"/>
                  <a:tab algn="l" pos="5214960"/>
                  <a:tab algn="l" pos="5794200"/>
                  <a:tab algn="l" pos="6373800"/>
                  <a:tab algn="l" pos="6953400"/>
                  <a:tab algn="l" pos="7532640"/>
                  <a:tab algn="l" pos="8112240"/>
                  <a:tab algn="l" pos="8691480"/>
                  <a:tab algn="l" pos="9271080"/>
                  <a:tab algn="l" pos="9850320"/>
                  <a:tab algn="l" pos="10429920"/>
                </a:tabLst>
              </a:pPr>
              <a:r>
                <a:rPr b="0" lang="fr-FR" sz="1100" spc="-1" strike="noStrike">
                  <a:solidFill>
                    <a:srgbClr val="1e1c11"/>
                  </a:solidFill>
                  <a:latin typeface="Calibri"/>
                </a:rPr>
                <a:t>Difficultés scolair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Espace réservé du contenu 2"/>
            <p:cNvSpPr/>
            <p:nvPr/>
          </p:nvSpPr>
          <p:spPr>
            <a:xfrm>
              <a:off x="6127920" y="5075280"/>
              <a:ext cx="1655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no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557280"/>
                  <a:tab algn="l" pos="1114560"/>
                  <a:tab algn="l" pos="1671480"/>
                  <a:tab algn="l" pos="2228760"/>
                  <a:tab algn="l" pos="2786040"/>
                  <a:tab algn="l" pos="3343320"/>
                  <a:tab algn="l" pos="3900600"/>
                  <a:tab algn="l" pos="4457880"/>
                  <a:tab algn="l" pos="5014800"/>
                  <a:tab algn="l" pos="5572080"/>
                  <a:tab algn="l" pos="6129360"/>
                  <a:tab algn="l" pos="6686640"/>
                  <a:tab algn="l" pos="7243920"/>
                  <a:tab algn="l" pos="7800840"/>
                  <a:tab algn="l" pos="8358120"/>
                  <a:tab algn="l" pos="8915400"/>
                  <a:tab algn="l" pos="9472680"/>
                  <a:tab algn="l" pos="10029960"/>
                  <a:tab algn="l" pos="10586880"/>
                </a:tabLst>
              </a:pPr>
              <a:r>
                <a:rPr b="0" lang="fr-FR" sz="1100" spc="-1" strike="noStrike">
                  <a:solidFill>
                    <a:srgbClr val="1e1c11"/>
                  </a:solidFill>
                  <a:latin typeface="Calibri"/>
                </a:rPr>
                <a:t>Surcharge pondérale Troubles alimentair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ZoneTexte 67"/>
            <p:cNvSpPr/>
            <p:nvPr/>
          </p:nvSpPr>
          <p:spPr>
            <a:xfrm>
              <a:off x="6127920" y="1473120"/>
              <a:ext cx="1655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9600"/>
                  <a:tab algn="l" pos="1158840"/>
                  <a:tab algn="l" pos="1738440"/>
                  <a:tab algn="l" pos="2317680"/>
                  <a:tab algn="l" pos="2897280"/>
                  <a:tab algn="l" pos="3476520"/>
                  <a:tab algn="l" pos="4056120"/>
                  <a:tab algn="l" pos="4635360"/>
                  <a:tab algn="l" pos="5214960"/>
                  <a:tab algn="l" pos="5794200"/>
                  <a:tab algn="l" pos="6373800"/>
                  <a:tab algn="l" pos="6953400"/>
                  <a:tab algn="l" pos="7532640"/>
                  <a:tab algn="l" pos="8112240"/>
                  <a:tab algn="l" pos="8691480"/>
                  <a:tab algn="l" pos="9271080"/>
                  <a:tab algn="l" pos="9850320"/>
                  <a:tab algn="l" pos="10429920"/>
                </a:tabLst>
              </a:pPr>
              <a:r>
                <a:rPr b="0" lang="fr-FR" sz="1100" spc="-1" strike="noStrike">
                  <a:solidFill>
                    <a:srgbClr val="1e1c11"/>
                  </a:solidFill>
                  <a:latin typeface="Calibri"/>
                </a:rPr>
                <a:t>Addiction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79600"/>
                  <a:tab algn="l" pos="1158840"/>
                  <a:tab algn="l" pos="1738440"/>
                  <a:tab algn="l" pos="2317680"/>
                  <a:tab algn="l" pos="2897280"/>
                  <a:tab algn="l" pos="3476520"/>
                  <a:tab algn="l" pos="4056120"/>
                  <a:tab algn="l" pos="4635360"/>
                  <a:tab algn="l" pos="5214960"/>
                  <a:tab algn="l" pos="5794200"/>
                  <a:tab algn="l" pos="6373800"/>
                  <a:tab algn="l" pos="6953400"/>
                  <a:tab algn="l" pos="7532640"/>
                  <a:tab algn="l" pos="8112240"/>
                  <a:tab algn="l" pos="8691480"/>
                  <a:tab algn="l" pos="9271080"/>
                  <a:tab algn="l" pos="9850320"/>
                  <a:tab algn="l" pos="10429920"/>
                </a:tabLst>
              </a:pPr>
              <a:r>
                <a:rPr b="0" lang="fr-FR" sz="1100" spc="-1" strike="noStrike">
                  <a:solidFill>
                    <a:srgbClr val="1e1c11"/>
                  </a:solidFill>
                  <a:latin typeface="Calibri"/>
                </a:rPr>
                <a:t>Phobi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ZoneTexte 68"/>
            <p:cNvSpPr/>
            <p:nvPr/>
          </p:nvSpPr>
          <p:spPr>
            <a:xfrm>
              <a:off x="6127920" y="1903320"/>
              <a:ext cx="16556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9600"/>
                  <a:tab algn="l" pos="1158840"/>
                  <a:tab algn="l" pos="1738440"/>
                  <a:tab algn="l" pos="2317680"/>
                  <a:tab algn="l" pos="2897280"/>
                  <a:tab algn="l" pos="3476520"/>
                  <a:tab algn="l" pos="4056120"/>
                  <a:tab algn="l" pos="4635360"/>
                  <a:tab algn="l" pos="5214960"/>
                  <a:tab algn="l" pos="5794200"/>
                  <a:tab algn="l" pos="6373800"/>
                  <a:tab algn="l" pos="6953400"/>
                  <a:tab algn="l" pos="7532640"/>
                  <a:tab algn="l" pos="8112240"/>
                  <a:tab algn="l" pos="8691480"/>
                  <a:tab algn="l" pos="9271080"/>
                  <a:tab algn="l" pos="9850320"/>
                  <a:tab algn="l" pos="10429920"/>
                </a:tabLst>
              </a:pPr>
              <a:r>
                <a:rPr b="0" lang="fr-FR" sz="1100" spc="-1" strike="noStrike">
                  <a:solidFill>
                    <a:srgbClr val="1e1c11"/>
                  </a:solidFill>
                  <a:latin typeface="Calibri"/>
                </a:rPr>
                <a:t>Dépress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79600"/>
                  <a:tab algn="l" pos="1158840"/>
                  <a:tab algn="l" pos="1738440"/>
                  <a:tab algn="l" pos="2317680"/>
                  <a:tab algn="l" pos="2897280"/>
                  <a:tab algn="l" pos="3476520"/>
                  <a:tab algn="l" pos="4056120"/>
                  <a:tab algn="l" pos="4635360"/>
                  <a:tab algn="l" pos="5214960"/>
                  <a:tab algn="l" pos="5794200"/>
                  <a:tab algn="l" pos="6373800"/>
                  <a:tab algn="l" pos="6953400"/>
                  <a:tab algn="l" pos="7532640"/>
                  <a:tab algn="l" pos="8112240"/>
                  <a:tab algn="l" pos="8691480"/>
                  <a:tab algn="l" pos="9271080"/>
                  <a:tab algn="l" pos="9850320"/>
                  <a:tab algn="l" pos="10429920"/>
                </a:tabLst>
              </a:pPr>
              <a:r>
                <a:rPr b="0" lang="fr-FR" sz="1100" spc="-1" strike="noStrike">
                  <a:solidFill>
                    <a:srgbClr val="1e1c11"/>
                  </a:solidFill>
                  <a:latin typeface="Calibri"/>
                </a:rPr>
                <a:t>Burn out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79600"/>
                  <a:tab algn="l" pos="1158840"/>
                  <a:tab algn="l" pos="1738440"/>
                  <a:tab algn="l" pos="2317680"/>
                  <a:tab algn="l" pos="2897280"/>
                  <a:tab algn="l" pos="3476520"/>
                  <a:tab algn="l" pos="4056120"/>
                  <a:tab algn="l" pos="4635360"/>
                  <a:tab algn="l" pos="5214960"/>
                  <a:tab algn="l" pos="5794200"/>
                  <a:tab algn="l" pos="6373800"/>
                  <a:tab algn="l" pos="6953400"/>
                  <a:tab algn="l" pos="7532640"/>
                  <a:tab algn="l" pos="8112240"/>
                  <a:tab algn="l" pos="8691480"/>
                  <a:tab algn="l" pos="9271080"/>
                  <a:tab algn="l" pos="9850320"/>
                  <a:tab algn="l" pos="10429920"/>
                </a:tabLst>
              </a:pPr>
              <a:r>
                <a:rPr b="0" lang="fr-FR" sz="1100" spc="-1" strike="noStrike">
                  <a:solidFill>
                    <a:srgbClr val="1e1c11"/>
                  </a:solidFill>
                  <a:latin typeface="Calibri"/>
                </a:rPr>
                <a:t>Stress post-traumatiqu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ZoneTexte 69"/>
            <p:cNvSpPr/>
            <p:nvPr/>
          </p:nvSpPr>
          <p:spPr>
            <a:xfrm>
              <a:off x="6127920" y="2505240"/>
              <a:ext cx="165564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9600"/>
                  <a:tab algn="l" pos="1158840"/>
                  <a:tab algn="l" pos="1738440"/>
                  <a:tab algn="l" pos="2317680"/>
                  <a:tab algn="l" pos="2897280"/>
                  <a:tab algn="l" pos="3476520"/>
                  <a:tab algn="l" pos="4056120"/>
                  <a:tab algn="l" pos="4635360"/>
                  <a:tab algn="l" pos="5214960"/>
                  <a:tab algn="l" pos="5794200"/>
                  <a:tab algn="l" pos="6373800"/>
                  <a:tab algn="l" pos="6953400"/>
                  <a:tab algn="l" pos="7532640"/>
                  <a:tab algn="l" pos="8112240"/>
                  <a:tab algn="l" pos="8691480"/>
                  <a:tab algn="l" pos="9271080"/>
                  <a:tab algn="l" pos="9850320"/>
                  <a:tab algn="l" pos="10429920"/>
                </a:tabLst>
              </a:pPr>
              <a:r>
                <a:rPr b="0" lang="fr-FR" sz="1100" spc="-1" strike="noStrike">
                  <a:solidFill>
                    <a:srgbClr val="1e1c11"/>
                  </a:solidFill>
                  <a:latin typeface="Calibri"/>
                </a:rPr>
                <a:t>Douleurs chroniqu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79600"/>
                  <a:tab algn="l" pos="1158840"/>
                  <a:tab algn="l" pos="1738440"/>
                  <a:tab algn="l" pos="2317680"/>
                  <a:tab algn="l" pos="2897280"/>
                  <a:tab algn="l" pos="3476520"/>
                  <a:tab algn="l" pos="4056120"/>
                  <a:tab algn="l" pos="4635360"/>
                  <a:tab algn="l" pos="5214960"/>
                  <a:tab algn="l" pos="5794200"/>
                  <a:tab algn="l" pos="6373800"/>
                  <a:tab algn="l" pos="6953400"/>
                  <a:tab algn="l" pos="7532640"/>
                  <a:tab algn="l" pos="8112240"/>
                  <a:tab algn="l" pos="8691480"/>
                  <a:tab algn="l" pos="9271080"/>
                  <a:tab algn="l" pos="9850320"/>
                  <a:tab algn="l" pos="10429920"/>
                </a:tabLst>
              </a:pPr>
              <a:r>
                <a:rPr b="0" lang="fr-FR" sz="1100" spc="-1" strike="noStrike">
                  <a:solidFill>
                    <a:srgbClr val="1e1c11"/>
                  </a:solidFill>
                  <a:latin typeface="Calibri"/>
                </a:rPr>
                <a:t>Pathologies invalidant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79600"/>
                  <a:tab algn="l" pos="1158840"/>
                  <a:tab algn="l" pos="1738440"/>
                  <a:tab algn="l" pos="2317680"/>
                  <a:tab algn="l" pos="2897280"/>
                  <a:tab algn="l" pos="3476520"/>
                  <a:tab algn="l" pos="4056120"/>
                  <a:tab algn="l" pos="4635360"/>
                  <a:tab algn="l" pos="5214960"/>
                  <a:tab algn="l" pos="5794200"/>
                  <a:tab algn="l" pos="6373800"/>
                  <a:tab algn="l" pos="6953400"/>
                  <a:tab algn="l" pos="7532640"/>
                  <a:tab algn="l" pos="8112240"/>
                  <a:tab algn="l" pos="8691480"/>
                  <a:tab algn="l" pos="9271080"/>
                  <a:tab algn="l" pos="9850320"/>
                  <a:tab algn="l" pos="10429920"/>
                </a:tabLst>
              </a:pPr>
              <a:r>
                <a:rPr b="0" lang="fr-FR" sz="1100" spc="-1" strike="noStrike">
                  <a:solidFill>
                    <a:srgbClr val="1e1c11"/>
                  </a:solidFill>
                  <a:latin typeface="Calibri"/>
                </a:rPr>
                <a:t>Oncologi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79600"/>
                  <a:tab algn="l" pos="1158840"/>
                  <a:tab algn="l" pos="1738440"/>
                  <a:tab algn="l" pos="2317680"/>
                  <a:tab algn="l" pos="2897280"/>
                  <a:tab algn="l" pos="3476520"/>
                  <a:tab algn="l" pos="4056120"/>
                  <a:tab algn="l" pos="4635360"/>
                  <a:tab algn="l" pos="5214960"/>
                  <a:tab algn="l" pos="5794200"/>
                  <a:tab algn="l" pos="6373800"/>
                  <a:tab algn="l" pos="6953400"/>
                  <a:tab algn="l" pos="7532640"/>
                  <a:tab algn="l" pos="8112240"/>
                  <a:tab algn="l" pos="8691480"/>
                  <a:tab algn="l" pos="9271080"/>
                  <a:tab algn="l" pos="9850320"/>
                  <a:tab algn="l" pos="10429920"/>
                </a:tabLst>
              </a:pPr>
              <a:r>
                <a:rPr b="0" lang="fr-FR" sz="1100" spc="-1" strike="noStrike">
                  <a:solidFill>
                    <a:srgbClr val="1e1c11"/>
                  </a:solidFill>
                  <a:latin typeface="Calibri"/>
                </a:rPr>
                <a:t>Acouphènes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ZoneTexte 70"/>
            <p:cNvSpPr/>
            <p:nvPr/>
          </p:nvSpPr>
          <p:spPr>
            <a:xfrm>
              <a:off x="6127920" y="3276000"/>
              <a:ext cx="165564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579600"/>
                  <a:tab algn="l" pos="1158840"/>
                  <a:tab algn="l" pos="1738440"/>
                  <a:tab algn="l" pos="2317680"/>
                  <a:tab algn="l" pos="2897280"/>
                  <a:tab algn="l" pos="3476520"/>
                  <a:tab algn="l" pos="4056120"/>
                  <a:tab algn="l" pos="4635360"/>
                  <a:tab algn="l" pos="5214960"/>
                  <a:tab algn="l" pos="5794200"/>
                  <a:tab algn="l" pos="6373800"/>
                  <a:tab algn="l" pos="6953400"/>
                  <a:tab algn="l" pos="7532640"/>
                  <a:tab algn="l" pos="8112240"/>
                  <a:tab algn="l" pos="8691480"/>
                  <a:tab algn="l" pos="9271080"/>
                  <a:tab algn="l" pos="9850320"/>
                  <a:tab algn="l" pos="1042992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Calibri"/>
                </a:rPr>
                <a:t>Maternit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579600"/>
                  <a:tab algn="l" pos="1158840"/>
                  <a:tab algn="l" pos="1738440"/>
                  <a:tab algn="l" pos="2317680"/>
                  <a:tab algn="l" pos="2897280"/>
                  <a:tab algn="l" pos="3476520"/>
                  <a:tab algn="l" pos="4056120"/>
                  <a:tab algn="l" pos="4635360"/>
                  <a:tab algn="l" pos="5214960"/>
                  <a:tab algn="l" pos="5794200"/>
                  <a:tab algn="l" pos="6373800"/>
                  <a:tab algn="l" pos="6953400"/>
                  <a:tab algn="l" pos="7532640"/>
                  <a:tab algn="l" pos="8112240"/>
                  <a:tab algn="l" pos="8691480"/>
                  <a:tab algn="l" pos="9271080"/>
                  <a:tab algn="l" pos="9850320"/>
                  <a:tab algn="l" pos="10429920"/>
                </a:tabLst>
              </a:pPr>
              <a:r>
                <a:rPr b="0" lang="fr-FR" sz="1100" spc="-1" strike="noStrike">
                  <a:solidFill>
                    <a:srgbClr val="000000"/>
                  </a:solidFill>
                  <a:latin typeface="Calibri"/>
                </a:rPr>
                <a:t>Parentalité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Espace réservé du contenu 2"/>
            <p:cNvSpPr/>
            <p:nvPr/>
          </p:nvSpPr>
          <p:spPr>
            <a:xfrm>
              <a:off x="6127920" y="5486400"/>
              <a:ext cx="1655640" cy="10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9920" rIns="79920" tIns="39960" bIns="39960" anchor="t">
              <a:noAutofit/>
            </a:bodyPr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557280"/>
                  <a:tab algn="l" pos="1114560"/>
                  <a:tab algn="l" pos="1671480"/>
                  <a:tab algn="l" pos="2228760"/>
                  <a:tab algn="l" pos="2786040"/>
                  <a:tab algn="l" pos="3343320"/>
                  <a:tab algn="l" pos="3900600"/>
                  <a:tab algn="l" pos="4457880"/>
                  <a:tab algn="l" pos="5014800"/>
                  <a:tab algn="l" pos="5572080"/>
                  <a:tab algn="l" pos="6129360"/>
                  <a:tab algn="l" pos="6686640"/>
                  <a:tab algn="l" pos="7243920"/>
                  <a:tab algn="l" pos="7800840"/>
                  <a:tab algn="l" pos="8358120"/>
                  <a:tab algn="l" pos="8915400"/>
                  <a:tab algn="l" pos="9472680"/>
                  <a:tab algn="l" pos="10029960"/>
                  <a:tab algn="l" pos="10586880"/>
                </a:tabLst>
              </a:pPr>
              <a:r>
                <a:rPr b="0" lang="fr-FR" sz="1100" spc="-1" strike="noStrike">
                  <a:solidFill>
                    <a:srgbClr val="0085b0"/>
                  </a:solidFill>
                  <a:latin typeface="Calibri"/>
                </a:rPr>
                <a:t>Coaching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557280"/>
                  <a:tab algn="l" pos="1114560"/>
                  <a:tab algn="l" pos="1671480"/>
                  <a:tab algn="l" pos="2228760"/>
                  <a:tab algn="l" pos="2786040"/>
                  <a:tab algn="l" pos="3343320"/>
                  <a:tab algn="l" pos="3900600"/>
                  <a:tab algn="l" pos="4457880"/>
                  <a:tab algn="l" pos="5014800"/>
                  <a:tab algn="l" pos="5572080"/>
                  <a:tab algn="l" pos="6129360"/>
                  <a:tab algn="l" pos="6686640"/>
                  <a:tab algn="l" pos="7243920"/>
                  <a:tab algn="l" pos="7800840"/>
                  <a:tab algn="l" pos="8358120"/>
                  <a:tab algn="l" pos="8915400"/>
                  <a:tab algn="l" pos="9472680"/>
                  <a:tab algn="l" pos="10029960"/>
                  <a:tab algn="l" pos="10586880"/>
                </a:tabLst>
              </a:pPr>
              <a:r>
                <a:rPr b="0" lang="fr-FR" sz="1100" spc="-1" strike="noStrike">
                  <a:solidFill>
                    <a:srgbClr val="0085b0"/>
                  </a:solidFill>
                  <a:latin typeface="Calibri"/>
                </a:rPr>
                <a:t>Orientation  scolair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557280"/>
                  <a:tab algn="l" pos="1114560"/>
                  <a:tab algn="l" pos="1671480"/>
                  <a:tab algn="l" pos="2228760"/>
                  <a:tab algn="l" pos="2786040"/>
                  <a:tab algn="l" pos="3343320"/>
                  <a:tab algn="l" pos="3900600"/>
                  <a:tab algn="l" pos="4457880"/>
                  <a:tab algn="l" pos="5014800"/>
                  <a:tab algn="l" pos="5572080"/>
                  <a:tab algn="l" pos="6129360"/>
                  <a:tab algn="l" pos="6686640"/>
                  <a:tab algn="l" pos="7243920"/>
                  <a:tab algn="l" pos="7800840"/>
                  <a:tab algn="l" pos="8358120"/>
                  <a:tab algn="l" pos="8915400"/>
                  <a:tab algn="l" pos="9472680"/>
                  <a:tab algn="l" pos="10029960"/>
                  <a:tab algn="l" pos="10586880"/>
                </a:tabLst>
              </a:pPr>
              <a:r>
                <a:rPr b="0" lang="fr-FR" sz="1100" spc="-1" strike="noStrike">
                  <a:solidFill>
                    <a:srgbClr val="0085b0"/>
                  </a:solidFill>
                  <a:latin typeface="Calibri"/>
                </a:rPr>
                <a:t>Evaluation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spcBef>
                  <a:spcPts val="275"/>
                </a:spcBef>
                <a:tabLst>
                  <a:tab algn="l" pos="0"/>
                  <a:tab algn="l" pos="557280"/>
                  <a:tab algn="l" pos="1114560"/>
                  <a:tab algn="l" pos="1671480"/>
                  <a:tab algn="l" pos="2228760"/>
                  <a:tab algn="l" pos="2786040"/>
                  <a:tab algn="l" pos="3343320"/>
                  <a:tab algn="l" pos="3900600"/>
                  <a:tab algn="l" pos="4457880"/>
                  <a:tab algn="l" pos="5014800"/>
                  <a:tab algn="l" pos="5572080"/>
                  <a:tab algn="l" pos="6129360"/>
                  <a:tab algn="l" pos="6686640"/>
                  <a:tab algn="l" pos="7243920"/>
                  <a:tab algn="l" pos="7800840"/>
                  <a:tab algn="l" pos="8358120"/>
                  <a:tab algn="l" pos="8915400"/>
                  <a:tab algn="l" pos="9472680"/>
                  <a:tab algn="l" pos="10029960"/>
                  <a:tab algn="l" pos="10586880"/>
                </a:tabLst>
              </a:pPr>
              <a:r>
                <a:rPr b="0" lang="fr-FR" sz="1100" spc="-1" strike="noStrike">
                  <a:solidFill>
                    <a:srgbClr val="0085b0"/>
                  </a:solidFill>
                  <a:latin typeface="Calibri"/>
                </a:rPr>
                <a:t>Bilan de compétences professionnel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Connecteur droit 87"/>
            <p:cNvSpPr/>
            <p:nvPr/>
          </p:nvSpPr>
          <p:spPr>
            <a:xfrm>
              <a:off x="6127920" y="5073840"/>
              <a:ext cx="1800000" cy="0"/>
            </a:xfrm>
            <a:prstGeom prst="line">
              <a:avLst/>
            </a:prstGeom>
            <a:ln w="936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Connecteur droit 88"/>
            <p:cNvSpPr/>
            <p:nvPr/>
          </p:nvSpPr>
          <p:spPr>
            <a:xfrm>
              <a:off x="6127920" y="3711600"/>
              <a:ext cx="1800000" cy="0"/>
            </a:xfrm>
            <a:prstGeom prst="line">
              <a:avLst/>
            </a:prstGeom>
            <a:ln w="936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Connecteur droit 89"/>
            <p:cNvSpPr/>
            <p:nvPr/>
          </p:nvSpPr>
          <p:spPr>
            <a:xfrm>
              <a:off x="6127920" y="3273480"/>
              <a:ext cx="1800000" cy="0"/>
            </a:xfrm>
            <a:prstGeom prst="line">
              <a:avLst/>
            </a:prstGeom>
            <a:ln w="936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Connecteur droit 90"/>
            <p:cNvSpPr/>
            <p:nvPr/>
          </p:nvSpPr>
          <p:spPr>
            <a:xfrm>
              <a:off x="6127920" y="1905120"/>
              <a:ext cx="1800000" cy="0"/>
            </a:xfrm>
            <a:prstGeom prst="line">
              <a:avLst/>
            </a:prstGeom>
            <a:ln w="936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Connecteur droit 91"/>
            <p:cNvSpPr/>
            <p:nvPr/>
          </p:nvSpPr>
          <p:spPr>
            <a:xfrm>
              <a:off x="6127920" y="2505240"/>
              <a:ext cx="1800000" cy="0"/>
            </a:xfrm>
            <a:prstGeom prst="line">
              <a:avLst/>
            </a:prstGeom>
            <a:ln w="936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Connecteur droit 92"/>
            <p:cNvSpPr/>
            <p:nvPr/>
          </p:nvSpPr>
          <p:spPr>
            <a:xfrm>
              <a:off x="6127920" y="1473120"/>
              <a:ext cx="1800000" cy="0"/>
            </a:xfrm>
            <a:prstGeom prst="line">
              <a:avLst/>
            </a:prstGeom>
            <a:ln w="936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Connecteur droit 93"/>
            <p:cNvSpPr/>
            <p:nvPr/>
          </p:nvSpPr>
          <p:spPr>
            <a:xfrm>
              <a:off x="6127920" y="4476600"/>
              <a:ext cx="1800000" cy="0"/>
            </a:xfrm>
            <a:prstGeom prst="line">
              <a:avLst/>
            </a:prstGeom>
            <a:ln w="936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Connecteur droit 94"/>
            <p:cNvSpPr/>
            <p:nvPr/>
          </p:nvSpPr>
          <p:spPr>
            <a:xfrm>
              <a:off x="6127920" y="5486400"/>
              <a:ext cx="1800000" cy="0"/>
            </a:xfrm>
            <a:prstGeom prst="line">
              <a:avLst/>
            </a:prstGeom>
            <a:ln w="9360">
              <a:solidFill>
                <a:srgbClr val="0085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Connecteur droit 95"/>
            <p:cNvSpPr/>
            <p:nvPr/>
          </p:nvSpPr>
          <p:spPr>
            <a:xfrm>
              <a:off x="0" y="6513480"/>
              <a:ext cx="7927920" cy="0"/>
            </a:xfrm>
            <a:prstGeom prst="line">
              <a:avLst/>
            </a:prstGeom>
            <a:ln w="9360">
              <a:solidFill>
                <a:srgbClr val="0085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Connecteur droit 97"/>
            <p:cNvSpPr/>
            <p:nvPr/>
          </p:nvSpPr>
          <p:spPr>
            <a:xfrm>
              <a:off x="6127920" y="1473120"/>
              <a:ext cx="0" cy="4032000"/>
            </a:xfrm>
            <a:prstGeom prst="line">
              <a:avLst/>
            </a:prstGeom>
            <a:ln w="9360">
              <a:solidFill>
                <a:srgbClr val="948a5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Connecteur droit 99"/>
            <p:cNvSpPr/>
            <p:nvPr/>
          </p:nvSpPr>
          <p:spPr>
            <a:xfrm>
              <a:off x="6127920" y="5487840"/>
              <a:ext cx="0" cy="1028520"/>
            </a:xfrm>
            <a:prstGeom prst="line">
              <a:avLst/>
            </a:prstGeom>
            <a:ln w="9360">
              <a:solidFill>
                <a:srgbClr val="0085b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ZoneTexte 106"/>
          <p:cNvSpPr/>
          <p:nvPr/>
        </p:nvSpPr>
        <p:spPr>
          <a:xfrm>
            <a:off x="0" y="8764560"/>
            <a:ext cx="3216240" cy="824040"/>
          </a:xfrm>
          <a:prstGeom prst="rect">
            <a:avLst/>
          </a:prstGeom>
          <a:solidFill>
            <a:srgbClr val="008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ZoneTexte 107"/>
          <p:cNvSpPr/>
          <p:nvPr/>
        </p:nvSpPr>
        <p:spPr>
          <a:xfrm>
            <a:off x="-12600" y="7745400"/>
            <a:ext cx="1890720" cy="459000"/>
          </a:xfrm>
          <a:prstGeom prst="rect">
            <a:avLst/>
          </a:prstGeom>
          <a:solidFill>
            <a:srgbClr val="008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ZoneTexte 108"/>
          <p:cNvSpPr/>
          <p:nvPr/>
        </p:nvSpPr>
        <p:spPr>
          <a:xfrm>
            <a:off x="0" y="6867360"/>
            <a:ext cx="1876320" cy="459000"/>
          </a:xfrm>
          <a:prstGeom prst="rect">
            <a:avLst/>
          </a:prstGeom>
          <a:solidFill>
            <a:srgbClr val="008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43"/>
          <p:cNvSpPr/>
          <p:nvPr/>
        </p:nvSpPr>
        <p:spPr>
          <a:xfrm>
            <a:off x="185760" y="8764560"/>
            <a:ext cx="3073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Permanences d’accuei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pour guider vos choix de thérap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09 73 67 35 45 - 06 60 47 71 6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www.sophrokhepri.f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ZoneTexte 53"/>
          <p:cNvSpPr/>
          <p:nvPr/>
        </p:nvSpPr>
        <p:spPr>
          <a:xfrm>
            <a:off x="185760" y="7743960"/>
            <a:ext cx="1733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Discrétion et confidentialité assuré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ZoneTexte 54"/>
          <p:cNvSpPr/>
          <p:nvPr/>
        </p:nvSpPr>
        <p:spPr>
          <a:xfrm>
            <a:off x="198360" y="6865920"/>
            <a:ext cx="1719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Santé et Qualité d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1" lang="fr-FR" sz="1200" spc="-1" strike="noStrike">
                <a:solidFill>
                  <a:srgbClr val="ffffff"/>
                </a:solidFill>
                <a:latin typeface="Calibri"/>
              </a:rPr>
              <a:t>Vie au Travai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109"/>
          <p:cNvSpPr/>
          <p:nvPr/>
        </p:nvSpPr>
        <p:spPr>
          <a:xfrm>
            <a:off x="3327480" y="8764560"/>
            <a:ext cx="447660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9600"/>
                <a:tab algn="l" pos="1158840"/>
                <a:tab algn="l" pos="1738440"/>
                <a:tab algn="l" pos="2317680"/>
                <a:tab algn="l" pos="2897280"/>
                <a:tab algn="l" pos="3476520"/>
                <a:tab algn="l" pos="4056120"/>
                <a:tab algn="l" pos="4635360"/>
                <a:tab algn="l" pos="5214960"/>
                <a:tab algn="l" pos="5794200"/>
                <a:tab algn="l" pos="6373800"/>
                <a:tab algn="l" pos="6953400"/>
                <a:tab algn="l" pos="7532640"/>
                <a:tab algn="l" pos="8112240"/>
                <a:tab algn="l" pos="8691480"/>
                <a:tab algn="l" pos="9271080"/>
                <a:tab algn="l" pos="9850320"/>
                <a:tab algn="l" pos="1042992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Calibri"/>
              </a:rPr>
              <a:t>Aromathérapie, Chiropraxie, EFT, EMDR, Hirudothérapie, Hypnose, Iridologie, Massage bien-être, Méditation, Naturopathie, Ostéopathie, Phytothérapie, Podologie-pédicure, Psychothérapie, Réflexologie plantaire, Remédiation cognitive, Sophrologie, tests d’évaluation psychologiques…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2T10:33:01Z</dcterms:created>
  <dc:creator>Dell</dc:creator>
  <dc:description/>
  <dc:language>en-US</dc:language>
  <cp:lastModifiedBy>DPAdmin</cp:lastModifiedBy>
  <cp:lastPrinted>2016-07-20T06:54:09Z</cp:lastPrinted>
  <dcterms:modified xsi:type="dcterms:W3CDTF">2016-07-26T16:41:21Z</dcterms:modified>
  <cp:revision>222</cp:revision>
  <dc:subject/>
  <dc:title>Présentation PowerPoint</dc:title>
</cp:coreProperties>
</file>